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CC3-188A-4444-BBEB-BC9F9CEF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90D-3CBD-4A4E-8F7D-B3267EF8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E11-BB90-47CD-89B7-55AD8509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537-511F-4558-A9E2-3E77006A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8F7-1EDA-499D-8A72-12ADC55C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F7D-6047-4B5D-874E-D46F131B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61F-E999-4E32-B611-0EC716D3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50B-D776-4F55-9F93-CAF3076D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6D7-717F-4892-BD09-DAF0667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0A5-DE49-43B2-B909-284BDB3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C89-7098-4DAB-8ABA-0EC9EA46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7E5-D075-4A58-8C76-45AE970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048B-435F-431B-A151-0821F5FB8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  ANO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DMINIS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77770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CEPTOS GENERALES  ( Ley 18.0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3333cc"/>
                </a:solidFill>
                <a:uFillTx/>
                <a:latin typeface="Arial"/>
              </a:rPr>
              <a:t>Administrar, “gobernar, ejercer la autoridad o el mando”…. “ordenar, disponer, organizar en especial la hacienda o los bienes” …. “dirigir una institución” (Diccionario R.A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1º.  La SA es una persona jurídica ……………...  administrada por un directorio integrado por miembros esencialmente revoc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31.  La administración de la sociedad anónima la ejerce un directorio elegido por la junta de accioni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49.  Las sociedades anónimas tendrán uno o más gerentes designados por el directorio el que les fijará sus atribuciones y deberes pudiendo sustituirlos a su arbit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rresponde a la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56  Nº3.  La elección o revocación de los miembros titulares y suplentes del directorio de los liquidadores y de los fiscalizadores de la administ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7777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organismos de administración son en orden decreciente de autor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Ge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7777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JUNTAS DE ACCIONI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1. Concepto.  Organo de la administración de la SA formado por la reunión de los accionistas con derecho a voto, debidamente citado, con la asistencia de un quórum legal, instalado en conformidad a la ley y, eventualmente, con asistencia de No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 Clas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a) Junta Ordinaria.  Art. 55 inciso prim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Materias.  Art. 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b)  Junta Extraordinaria.  Art. 55 inciso seg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Materias.  Art. 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3  Convocatoria, citación e instalación. Art. 58 hasta Art. 6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4.  Ejercicio derecho a voto.  Art. 65 y Art. 6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5.   Quórum.  Art. 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6.   Derecho a retiro.  Art. 69 y también Art. 27 Nº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2T13:20:39Z</dcterms:modified>
  <cp:revision>82</cp:revision>
  <dc:subject/>
  <dc:title>Diapositiva 1</dc:title>
</cp:coreProperties>
</file>