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B69-1E8A-4CAB-BAFA-F8402DB5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F89-BB9C-4F58-9AB1-858AB2BB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AB2-4B6C-477A-BD6A-A3D8CBA9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1CE-81C9-4D92-AA26-62EB97B5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CAA-4409-47EB-B04A-2A608935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0F5-75C5-4F4C-8606-268425E9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F02-CECD-45E1-A697-8B520846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4A5-B844-48B2-8FB5-9EA2C4A4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0AB-3EDE-4E58-8889-C89368F9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337-E021-4815-98CD-49994109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8FC-5443-4EEB-8C0F-38EBBBB1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59B-D41A-4C59-AF26-308AA35C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3879-E1D3-461B-BB1D-807D05518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SOCIEDAD  ANO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ADMINIS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81000"/>
            <a:ext cx="77770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CEPTOS GENERALES  ( Ley 18.0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3333cc"/>
                </a:solidFill>
                <a:uFillTx/>
                <a:latin typeface="Arial"/>
              </a:rPr>
              <a:t>Administrar, “gobernar, ejercer la autoridad o el mando”…. “ordenar, disponer, organizar en especial la hacienda o los bienes” …. “dirigir una institución” (Diccionario R.A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1º.  La SA es una persona jurídica ……………...  administrada por un directorio integrado por miembros esencialmente revoc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31.  La administración de la sociedad anónima la ejerce un directorio elegido por la junta de accioni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49.  Las sociedades anónimas tendrán uno o más gerentes designados por el directorio el que les fijará sus atribuciones y deberes pudiendo sustituirlos a su arbit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rresponde a la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56  Nº3.  La elección o revocación de los miembros titulares y suplentes del directorio de los liquidadores y de los fiscalizadores de la administ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81000"/>
            <a:ext cx="7777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organismos de administración son en orden decreciente de autor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Ger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77770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JUNTAS DE ACCIONI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1. Concepto.  Organo de la administración de la SA formado por la reunión de los accionistas con derecho a voto, debidamente citado, con la asistencia de un quórum legal, instalado en conformidad a la ley y, eventualmente, con asistencia de Not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2. Clas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2.a) Junta Ordinaria.  Art. 55 inciso prim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Materias.  Art. 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2.b)  Junta Extraordinaria.  Art. 55 inciso seg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Materias.  Art. 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3  Convocatoria, citación e instalación. Art. 58 hasta Art. 6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4.  Ejercicio derecho a voto.  Art. 65 y Art. 6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5.   Quórum.  Art. 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6.   Derecho a retiro.  Art. 69 y también Art. 27 Nº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4-02T13:20:39Z</dcterms:modified>
  <cp:revision>82</cp:revision>
  <dc:subject/>
  <dc:title>Diapositiva 1</dc:title>
</cp:coreProperties>
</file>