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A5A-140D-42DD-A489-DD7A3206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864-4155-4CCD-9DCA-259A34FF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E58-DAC4-4BD2-90C5-E792FA54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2E6-5E56-43B8-9D9B-ECBBAF4F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EE6-CB6E-42A9-9F17-EE3CE98D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54F-4899-43AB-B9BB-0787AFEE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A02-E4D7-46B6-A9D3-2632A5AA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69F-1D53-4C16-824F-984F8C8C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019-E938-48DA-B2DB-68CAE213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A4A-9C9E-4302-8F34-405A20AD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C21-75FD-4223-BEE3-8C95D72F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BB1-B238-4A26-9060-B6683995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3200-4C29-485A-A4E3-234649F95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SOCIEDAD  ANO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ADMINIS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981000"/>
            <a:ext cx="77770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CEPTOS GENERALES  ( Ley 18.0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3333cc"/>
                </a:solidFill>
                <a:uFillTx/>
                <a:latin typeface="Arial"/>
              </a:rPr>
              <a:t>Administrar, “gobernar, ejercer la autoridad o el mando”…. “ordenar, disponer, organizar en especial la hacienda o los bienes” …. “dirigir una institución” (Diccionario R.A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. 1º.  La SA es una persona jurídica ……………...  administrada por un directorio integrado por miembros esencialmente revoc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. 31.  La administración de la sociedad anónima la ejerce un directorio elegido por la junta de accioni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. 49.  Las sociedades anónimas tendrán uno o más gerentes designados por el directorio el que les fijará sus atribuciones y deberes pudiendo sustituirlos a su arbit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rresponde a la junta 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. 56  Nº3.  La elección o revocación de los miembros titulares y suplentes del directorio de los liquidadores y de los fiscalizadores de la administ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981000"/>
            <a:ext cx="7777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os organismos de administración son en orden decreciente de autorid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Ger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81000"/>
            <a:ext cx="77770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JUNTAS DE ACCIONI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1. Concepto.  Organo de la administración de la SA formado por la reunión de los accionistas con derecho a voto, debidamente citado, con la asistencia de un quórum legal, instalado en conformidad a la ley y, eventualmente, con asistencia de Not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2. Clas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2.a) Junta Ordinaria.  Art. 55 inciso prim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Materias.  Art. 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2.b)  Junta Extraordinaria.  Art. 55 inciso seg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Materias.  Art. 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77770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3  Convocatoria, citación e instalación. Art. 58 hasta Art. 6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4.  Ejercicio derecho a voto.  Art. 65 y Art. 6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5.   Quórum.  Art. 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6.   Derecho a retiro.  Art. 69 y también Art. 27 Nº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4-02T13:20:39Z</dcterms:modified>
  <cp:revision>82</cp:revision>
  <dc:subject/>
  <dc:title>Diapositiva 1</dc:title>
</cp:coreProperties>
</file>