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C04-C314-4740-A2C9-697EBEB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A7A-56D3-414E-BF24-10E6433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CA1-9154-4F8E-B79E-5D6E6880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7E4-25BF-495A-8E72-DB0D6BE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EB2-BB80-4AF3-BFAF-6A669CD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A0D-AF75-48FF-A42E-B8733D1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133-ED91-41AC-9BE8-79B4EFE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6EE-53B7-472A-9FDB-929C6348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589-3E6B-45CC-87B1-49D39BF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53F-972D-41B9-9F6A-B97C888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43E-C2CF-4714-B404-DC5B1B3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C5B-879C-42AD-8E0D-12F396A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E2D-82BF-4983-A87E-8CCA9D2F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APITAL DE 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7777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0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RETIRO.  “Facultad que la ley concede a un accionista, en caso de disentir de acuerdos adoptados en juntas extraordinarias para retirarse de la sociedad por las causales que establece la ley o los estatutos y recibir el pago del valor de sus accio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usales: artículo 69 ley SA Acuerdos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ormación y/o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ajenación del activo y pasivo, o del total de su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reación de preferencias para una serie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umento o reducción de 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neamiento de nulidad por vici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más casos según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 disidente debe expresar su volun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le paga el valor de su acción: abiertas /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rocedimientos y reglamentación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LIDADE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ítul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gistro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erencia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xtravío, hurto o robo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utilización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ADQUISICIÓN DE ACCIONES -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198.- Ley de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enderá que oferta públic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sición de acciones es aquella que se formul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rir acciones de sociedades anónimas que ha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sus acciones o valores convertible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las, que por cualquier medio ofrezcan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s de aquéllas adquirir sus títul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diciones que permitan al oferente alcanzar un c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orcentaje de la sociedad y en un plazo determi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oferente podrá hacer la oferta por acc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ociedades anónimas que hagan oferta pública de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, por valores convertibles en ellas o por amb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todo caso, la oferta por unos no obliga a 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or l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as disposiciones de este Título se aplicarán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 las ofertas que se formulen voluntariamente com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quellas que deban realizarse conforme a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PITAL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ser fijado de manera precis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podrá ser aumentado o disminuido por reforma de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iendo modificado de pleno derecho al aprobarse 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rá dividido en acciones de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 está dividido en distintas series, las acciones de cada s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n tener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quedar totalmente suscrito y pagado en un plazo de tre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ES DE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nominal: el que se indic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suscrito:  uno o varios accionistas suscriben contratos y se comprometen al pago del valor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pagado: el que ha sido primeramente suscrito y luego pagado por los accionistas que lo suscribi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S DE A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dinero: los accionistas pagan en dinero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bienes:  Se puede pagar en bienes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lvo acuerdo unánime de todas las acciones emit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ienes deberán ser estimado por pe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 se requiere además aprobación de la Junta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RACTERÍSTICA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presentan una parte alícuota 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representativo de la calidad de socio y de sus derechos y oblig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USCRIPCION DE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el pacto constitu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oncepto de opción preferente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IFICAC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suscritas y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aportes en dinero y de aportes en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pago y acciones liberada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ordinarias y acciones preferidas y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nominativas y acciones al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capital y acciones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con valor nominal y acciones sin valor no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RSION DE DEBENTURES Y BONOS EN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21 ley 18.045 y artículo 25 ley 18.0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onos y debentures son un medio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n a una forma financiera llamada “cuasi-capi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itular es un acreedor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 una opción que concede la sociedad emisora a los tenedores de bonos para convertir el título e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s acciones pueden ser ordinarias o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nje de bonos en acciones se hará de acuerdo a las condiciones establecidas en el contrato de emisión d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7.a)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MPRA DE ACCIONES DE SU PROPIA EM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acultad limitada a casos especialísimos (art.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jercicio del derecho de retiro de un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usión con otra sociedad que sea accionista de la absor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forma de estatutos de disminución de capital cuando valor de las acciones en el mercado sea inferior a su valor de res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tuación excepcional de sociedades anónimas abiertas y bancos en los términos de los artículos 27 a) hasta 27 b) de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S QUE CONFIEREN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eder librement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form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y votar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ercibir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en repartos por devolució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tirarse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BLIGACIONES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g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la sociedad a demandar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sponsabilidad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hasta el monto del a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No se puede exigir devolución de dividendos per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4:44Z</dcterms:modified>
  <cp:revision>98</cp:revision>
  <dc:subject/>
  <dc:title>Diapositiva 1</dc:title>
</cp:coreProperties>
</file>