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1C7E-B8FB-49D9-88FE-79B73094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902-F3CA-4AC3-A31F-50B007D3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52F-209C-49C0-B401-34BA022F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22E-A689-4073-B914-5DE7D46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482-9579-496A-AADA-B21C67B9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8C2-0640-43B8-A458-5A2B6E9D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183-03C2-4B51-A868-EE37542D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ADE-85A2-4781-B243-67968594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C4E-0858-4DF5-804A-8E9F510E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43A-2363-415C-A88D-85C820F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330-91C6-4AE6-8F19-20E3ACC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003-1F8B-4062-8802-83958C8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F7FA-3BD0-478C-A0ED-93DE3B484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SOCIEDAD ANÓ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CAPITAL DE 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81000"/>
            <a:ext cx="77770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0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RETIRO.  “Facultad que la ley concede a un accionista, en caso de disentir de acuerdos adoptados en juntas extraordinarias para retirarse de la sociedad por las causales que establece la ley o los estatutos y recibir el pago del valor de sus accion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usales: artículo 69 ley SA Acuerdos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ormación y/o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ajenación del activo y pasivo, o del total de su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reación de preferencias para una serie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umento o reducción de 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neamiento de nulidad por vici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más casos según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 disidente debe expresar su volun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le paga el valor de su acción: abiertas /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rocedimientos y reglamentación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981000"/>
            <a:ext cx="7777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1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LIDADE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ítul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gistro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erencia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xtravío, hurto o robo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utilización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81000"/>
            <a:ext cx="777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ADQUISICIÓN DE ACCIONES -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198.- Ley de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enderá que oferta públic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sición de acciones es aquella que se formul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rir acciones de sociedades anónimas que ha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sus acciones o valores convertible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las, que por cualquier medio ofrezcan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s de aquéllas adquirir sus título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diciones que permitan al oferente alcanzar un ci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orcentaje de la sociedad y en un plazo determi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oferente podrá hacer la oferta por acc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ociedades anónimas que hagan oferta pública de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, por valores convertibles en ellas o por amb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todo caso, la oferta por unos no obliga a for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or l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as disposiciones de este Título se aplicarán t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 las ofertas que se formulen voluntariamente com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quellas que deban realizarse conforme a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7777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.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PITAL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ser fijado de manera precis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podrá ser aumentado o disminuido por reforma de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iendo modificado de pleno derecho al aprobarse 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rá dividido en acciones de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 está dividido en distintas series, las acciones de cada se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n tener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quedar totalmente suscrito y pagado en un plazo de tres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777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ES DE CA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nominal: el que se indic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suscrito:  uno o varios accionistas suscriben contratos y se comprometen al pago del valor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pagado: el que ha sido primeramente suscrito y luego pagado por los accionistas que lo suscribie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7777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S DE A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dinero: los accionistas pagan en dinero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bienes:  Se puede pagar en bienes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lvo acuerdo unánime de todas las acciones emit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ienes deberán ser estimado por per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 se requiere además aprobación de la Junta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RACTERÍSTICA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presentan una parte alícuota del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representativo de la calidad de socio y de sus derechos y oblig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USCRIPCION DE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el pacto constitut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oncepto de opción preferente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IFICAC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suscritas y pag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aportes en dinero y de aportes en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pago y acciones liberada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ordinarias y acciones preferidas y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nominativas y acciones al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capital y acciones de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con valor nominal y acciones sin valor no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VERSION DE DEBENTURES Y BONOS EN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21 ley 18.045 y artículo 25 ley 18.04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onos y debentures son un medio de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rresponden a una forma financiera llamada “cuasi-capit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itular es un acreedor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 una opción que concede la sociedad emisora a los tenedores de bonos para convertir el título e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s acciones pueden ser ordinarias o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nje de bonos en acciones se hará de acuerdo a las condiciones establecidas en el contrato de emisión de bo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7.a)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MPRA DE ACCIONES DE SU PROPIA EM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acultad limitada a casos especialísimos (art. 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jercicio del derecho de retiro de un accion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usión con otra sociedad que sea accionista de la absor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forma de estatutos de disminución de capital cuando valor de las acciones en el mercado sea inferior a su valor de res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tuación excepcional de sociedades anónimas abiertas y bancos en los términos de los artículos 27 a) hasta 27 b) de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S QUE CONFIEREN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eder librement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form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y votar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ercibir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en repartos por devolució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tirarse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BLIGACIONES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g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la sociedad a demandar el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sponsabilidad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hasta el monto del a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No se puede exigir devolución de dividendos percib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2T13:24:44Z</dcterms:modified>
  <cp:revision>98</cp:revision>
  <dc:subject/>
  <dc:title>Diapositiva 1</dc:title>
</cp:coreProperties>
</file>