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AA16-F2B5-48C1-8927-DE5A1F93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3F9-851D-4E42-B0EB-3A70B774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98A-6584-469D-B315-CF1C626A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7262-7C26-4702-94D5-E57B051A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359F-5482-4A70-8B5C-F1A61671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89DA-48C5-4623-BEB6-DD861889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4EC-3B2C-4E7B-8C5A-40E70BE6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7C9-B6A1-4BD2-B948-069CA928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62AE-6A45-42B7-B15B-0ADCBB8F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C5E8-2D17-47BE-BC00-A5767F3D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B91C-26A4-4494-89F0-8E1BD0D2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10F-CFAD-4C66-80D5-3553803B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5210-DFDB-4F40-A96E-5F7E61F8B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ederecho.cl/images/images_estat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crituradesociedades.cl/fotos/escritura_inicio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 ANO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25360"/>
            <a:ext cx="777744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¿Qué ocurre en caso que la sociedad anónima no conste de escritura públic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sanción es la NULIDAD DE PLE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Y NO PODRÁ SER SANE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3894480" y="3745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25360"/>
            <a:ext cx="777744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VICIOS QUE NO REQUIEREN SANE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ortográficos o gramaticales o resumen de palab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cometidos en la individualización de los socios (salvo que generen dudas respecto a su identida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numéricos y de cifras que manifiestamente no sean de carácter susta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476280"/>
            <a:ext cx="777744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en datos o características de los aportes, siempre que no se generen dudas en su determin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 general cualquier disconformidad no esencial que existan entre las escrituras, inscripciones y las public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STOS VICIOS PUEDEN SANEARSE EN CUALQUIER 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821400" y="4466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304920"/>
            <a:ext cx="73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557360"/>
            <a:ext cx="849780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NULIDAD ABSOLUTA SAN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OPORTUNIDAD PARA EFECTUAR EL SANE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saneamiento del vicio de nulidad producirá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Verdana"/>
              </a:rPr>
              <a:t>efecto retroactivo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y estos efectos dependerán del tipo de vicio de que se tr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4941720"/>
            <a:ext cx="1944720" cy="1292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ROCED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6200" y="1557360"/>
            <a:ext cx="8497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rocedimiento y requisitos para efectuar el sane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SCRITURA PÚBLICA QUE CORRI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2)  INSCRIPCIÓN DEL EXTRACTO Y SU PUB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ROCED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6200" y="1557360"/>
            <a:ext cx="7886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LAZO PARA EFECTUAR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SANE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saneamiento que establece la ley puede ser practicado en cualquier momento, aún después de que haya hecho hacer valer en Juicio, pero antes de quedar ejecutoriada la sent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4110840" y="29534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8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800" spc="-1" strike="noStrike">
                <a:solidFill>
                  <a:srgbClr val="3333cc"/>
                </a:solidFill>
                <a:latin typeface="Verdana"/>
              </a:rPr>
              <a:t>Derecho Comercial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. Tomo II, volumen 1. Editorial Jurídica de Chi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777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cc"/>
                </a:solidFill>
                <a:uFillTx/>
                <a:latin typeface="Verdana"/>
              </a:rPr>
              <a:t>                  </a:t>
            </a:r>
            <a:r>
              <a:rPr b="1" lang="es-ES" sz="3600" spc="-1" strike="noStrike" u="sng">
                <a:solidFill>
                  <a:srgbClr val="3333cc"/>
                </a:solidFill>
                <a:uFillTx/>
                <a:latin typeface="Verdana"/>
              </a:rPr>
              <a:t>Constitución</a:t>
            </a:r>
            <a:r>
              <a:rPr b="1" lang="es-ES" sz="3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Verdana"/>
              </a:rPr>
              <a:t>Requisitos de validez de las S.A. Vicios, Nulidad y Efe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Verdana"/>
              </a:rPr>
              <a:t>Saneamiento de vicios y sus limit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Ver imagen en tamaño comple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836640"/>
            <a:ext cx="208764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549360"/>
            <a:ext cx="84978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Verdana"/>
              </a:rPr>
              <a:t>Constitución: Requisitos de validez de las S.A. Vicios, Nulidad y Ef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sociedad anónima es de carácter solemne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,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tanto en su constitución, modificación y disolución, pues se forma y prueba por escritura pública, cuyo extracto se inscribe en el Registro de Comercio y se publica en el Diario O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Ver imagen en tamaño comple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1268280"/>
            <a:ext cx="1594080" cy="165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25360"/>
            <a:ext cx="7777440" cy="41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anciones para el caso de Incumplimiento de las solemnidades del contrato de Sociedad Anónima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_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194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1981080" cy="19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25360"/>
            <a:ext cx="777744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 anterioridad a la Ley 19.499 sobre saneamiento de vicios de Sociedades existían dos clases de sanciones por el incumplimiento de las solemnidades, son las siguien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Inex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Nulidad Absoluta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A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25360"/>
            <a:ext cx="777744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 la entrada de la Ley, se estableció un procedimiento que permite el saneamiento de los vicios de nulidad de tipo formal que afecten su CONSTITUCIÓN O MODIFIC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A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25360"/>
            <a:ext cx="777744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DISTINGUEN DOS CLASES DE SANCIONES PARA EL INCUMPLIMIENTO DE FORMALIDADES.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ulidad Absoluta san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ulidad de pleno derecho. Insubsanab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605400" y="3386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SANEAMIENTO DE VICIOS DE NU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125360"/>
            <a:ext cx="77774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CONCEPTO DE VICIOS FOR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quellos que consisten en el incumplimiento de alguna solemnidad leg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Ejemplo: Cumplimiento imperfecto de ciertas menciones, Publicación tardía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Ver imagen en tamaño completo"/>
          <p:cNvPicPr/>
          <p:nvPr/>
        </p:nvPicPr>
        <p:blipFill>
          <a:blip r:embed="rId2"/>
          <a:stretch/>
        </p:blipFill>
        <p:spPr>
          <a:xfrm>
            <a:off x="1116000" y="2319480"/>
            <a:ext cx="1295280" cy="1253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25360"/>
            <a:ext cx="7777440" cy="32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NULIDAD QUE NO ADMITEN SANE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Nulidad de Pleno Derech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ulidad por privación de elementos esenciales al Contrato de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xistencia de 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76720" y="3933720"/>
            <a:ext cx="2305080" cy="172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9-03-24T01:05:38Z</dcterms:modified>
  <cp:revision>100</cp:revision>
  <dc:subject/>
  <dc:title>Diapositiva 1</dc:title>
</cp:coreProperties>
</file>