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B32E-5F61-4FFE-8D3C-78C1C34C7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9CA6-63D1-4C4B-B0BF-624B2E56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5CF9-1EC4-4119-8606-FC238AB2E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D8E9-4E15-4C5B-9680-EF5970583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96A2-A4BA-48F8-8327-BD3F04BF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CEA2-BBAD-4D6B-B73D-CE6E43C1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69D8-9F4A-4A34-A76C-1999718D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E2B2-0520-47BE-B9D1-57F14938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B7A4-DEAD-4DC9-94B4-B68FA095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C45C-8C9D-4D7E-BDB9-0B08EB28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7BF8-5A3F-4098-8923-AA084084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69FF-F471-4944-9234-57B1C521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ED14-8DC2-4D27-BE41-6D86C71D1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ilederecho.cl/images/images_estate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scrituradesociedades.cl/fotos/escritura_inicio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EDAD ANON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1125360"/>
            <a:ext cx="7777440" cy="44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¿Qué ocurre en caso que la sociedad anónima no conste de escritura pública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sanción es la NULIDAD DE PLE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Y NO PODRÁ SER SANE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3894480" y="37454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1125360"/>
            <a:ext cx="777744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2) VICIOS QUE NO REQUIEREN SANE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rrores ortográficos o gramaticales o resumen de palab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rrores cometidos en la individualización de los socios (salvo que generen dudas respecto a su identidad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rrores numéricos y de cifras que manifiestamente no sean de carácter susta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476280"/>
            <a:ext cx="7777440" cy="49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rrores en datos o características de los aportes, siempre que no se generen dudas en su determina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n general cualquier disconformidad no esencial que existan entre las escrituras, inscripciones y las publicacion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STOS VICIOS PUEDEN SANEARSE EN CUALQUIER MO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3821400" y="44661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920" y="304920"/>
            <a:ext cx="738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557360"/>
            <a:ext cx="8497800" cy="57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NULIDAD ABSOLUTA SANE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OPORTUNIDAD PARA EFECTUAR EL SANE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El saneamiento del vicio de nulidad producirá 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Verdana"/>
              </a:rPr>
              <a:t>efecto retroactivo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y estos efectos dependerán del tipo de vicio de que se tr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443640" y="4941720"/>
            <a:ext cx="1944720" cy="1292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PROCED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6200" y="1557360"/>
            <a:ext cx="84978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Procedimiento y requisitos para efectuar el sane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ESCRITURA PÚBLICA QUE CORRIJ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EL 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2)  INSCRIPCIÓN DEL EXTRACTO Y SU PUBL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PROCED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6200" y="1557360"/>
            <a:ext cx="788652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PLAZO PARA EFECTUAR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SANE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El saneamiento que establece la ley puede ser practicado en cualquier momento, aún después de que haya hecho hacer valer en Juicio, pero antes de quedar ejecutoriada la senten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4110840" y="29534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bliografía</a:t>
            </a: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CONTRERAS STRAUCH, Osvaldo.</a:t>
            </a: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800" spc="-1" strike="noStrike">
                <a:solidFill>
                  <a:srgbClr val="3333cc"/>
                </a:solidFill>
                <a:latin typeface="Verdana"/>
              </a:rPr>
              <a:t>Instituciones de Derecho Comercial</a:t>
            </a: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, Editorial jurídica Lexis Nex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SANDOVAL LOPEZ, Ricardo.</a:t>
            </a: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800" spc="-1" strike="noStrike">
                <a:solidFill>
                  <a:srgbClr val="3333cc"/>
                </a:solidFill>
                <a:latin typeface="Verdana"/>
              </a:rPr>
              <a:t>Derecho Comercial</a:t>
            </a: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. Tomo II, volumen 1. Editorial Jurídica de Chi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836640"/>
            <a:ext cx="7777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3333cc"/>
                </a:solidFill>
                <a:uFillTx/>
                <a:latin typeface="Verdana"/>
              </a:rPr>
              <a:t>                  </a:t>
            </a:r>
            <a:r>
              <a:rPr b="1" lang="es-ES" sz="3600" spc="-1" strike="noStrike" u="sng">
                <a:solidFill>
                  <a:srgbClr val="3333cc"/>
                </a:solidFill>
                <a:uFillTx/>
                <a:latin typeface="Verdana"/>
              </a:rPr>
              <a:t>Constitución</a:t>
            </a:r>
            <a:r>
              <a:rPr b="1" lang="es-ES" sz="36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Verdana"/>
              </a:rPr>
              <a:t>Requisitos de validez de las S.A. Vicios, Nulidad y Efe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Verdana"/>
              </a:rPr>
              <a:t>Saneamiento de vicios y sus limit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Ver imagen en tamaño complet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836640"/>
            <a:ext cx="2087640" cy="1224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549360"/>
            <a:ext cx="849780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333cc"/>
                </a:solidFill>
                <a:uFillTx/>
                <a:latin typeface="Verdana"/>
              </a:rPr>
              <a:t>Constitución: Requisitos de validez de las S.A. Vicios, Nulidad y Ef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sociedad anónima es de carácter solemne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,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tanto en su constitución, modificación y disolución, pues se forma y prueba por escritura pública, cuyo extracto se inscribe en el Registro de Comercio y se publica en el Diario Ofi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Ver imagen en tamaño complet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1268280"/>
            <a:ext cx="1594080" cy="1656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125360"/>
            <a:ext cx="7777440" cy="41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anciones para el caso de Incumplimiento de las solemnidades del contrato de Sociedad Anónima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1_ Antece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ey 194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1557360"/>
            <a:ext cx="849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508720" y="3429000"/>
            <a:ext cx="1981080" cy="198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125360"/>
            <a:ext cx="777744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on anterioridad a la Ley 19.499 sobre saneamiento de vicios de Sociedades existían dos clases de sanciones por el incumplimiento de las solemnidades, son las siguien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      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1) Inex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      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2) Nulidad Absoluta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A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125360"/>
            <a:ext cx="7777440" cy="27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on la entrada de la Ley, se estableció un procedimiento que permite el saneamiento de los vicios de nulidad de tipo formal que afecten su CONSTITUCIÓN O MODIFIC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A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125360"/>
            <a:ext cx="777744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E DISTINGUEN DOS CLASES DE SANCIONES PARA EL INCUMPLIMIENTO DE FORMALIDADES.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Nulidad Absoluta sane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Nulidad de pleno derecho. Insubsanab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3605400" y="33868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SANEAMIENTO DE VICIOS DE NU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1125360"/>
            <a:ext cx="77774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Verdana"/>
              </a:rPr>
              <a:t>CONCEPTO DE VICIOS FOR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           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Aquellos que consisten en el incumplimiento de alguna solemnidad leg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i="1" lang="es-CL" sz="2000" spc="-1" strike="noStrike">
                <a:solidFill>
                  <a:srgbClr val="3333cc"/>
                </a:solidFill>
                <a:latin typeface="Verdana"/>
              </a:rPr>
              <a:t>Ejemplo: Cumplimiento imperfecto de ciertas menciones, Publicación tardía, et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Ver imagen en tamaño completo"/>
          <p:cNvPicPr/>
          <p:nvPr/>
        </p:nvPicPr>
        <p:blipFill>
          <a:blip r:embed="rId2"/>
          <a:stretch/>
        </p:blipFill>
        <p:spPr>
          <a:xfrm>
            <a:off x="1116000" y="2319480"/>
            <a:ext cx="1295280" cy="12538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1125360"/>
            <a:ext cx="7777440" cy="32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1) NULIDAD QUE NO ADMITEN SANE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La Nulidad de Pleno Derech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Nulidad por privación de elementos esenciales al Contrato de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xistencia de 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76720" y="3933720"/>
            <a:ext cx="2305080" cy="1728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9-03-24T01:05:38Z</dcterms:modified>
  <cp:revision>100</cp:revision>
  <dc:subject/>
  <dc:title>Diapositiva 1</dc:title>
</cp:coreProperties>
</file>