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44D-B7C8-435A-BDAB-8B6E59B8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1E3-C5CA-4A7C-9DC8-6EE467AE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A2D-6E94-4152-873F-6BF20940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B77-493A-4558-A2AA-5D1C72CC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56E-C806-4801-8358-DED30041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EFB-04A3-4EA4-88BF-7A5A69C4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7AB-4A73-4CFF-999F-0A88C8D4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641-F50C-4E4A-93D8-DC903A4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F4F-3986-4E54-9BAB-7AA73C5A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121-3C5E-4C27-BF68-2C82888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A2B-10E9-441A-A640-BE32DB8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B34-E442-4FB4-A4CE-C427B07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89DE-71BB-4724-A336-2A89D5FC5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imv.org/miembros/imagenes/LogoSVS.jpg&amp;imgrefurl=http://www.iimv.org/miembros/chile.htm&amp;usg=__FubwnvEKwxAkXDijpOnsGk6-qzw=&amp;h=916&amp;w=715&amp;sz=50&amp;hl=es&amp;start=1&amp;tbnid=sUcUybWTJ_w24M:&amp;tbnh=147&amp;tbnw=115&amp;prev=/images%3Fq%3DSuperIntendencia%2Bde%2BValor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052640"/>
            <a:ext cx="8569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5)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os derechos de los socios están representados por acciones que constan en un tít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6) Es siempre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7) Es solemne, tanto en su formación, modificación y di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8) La responsabilidad de los accionistas es hasta el monto del aporte realizado a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52640"/>
            <a:ext cx="856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UN SUJETO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SIEMP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IMPORTANCIA EN MATERIA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821400" y="3961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981000"/>
            <a:ext cx="792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ÓN NO ESTÁ BASADA EN LA MAGNITUD DE LA EMPRESA, NI EN LOS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143080" cy="2381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981000"/>
            <a:ext cx="7921440" cy="60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ABIERTAS ORDINARIAS</a:t>
            </a: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981000"/>
            <a:ext cx="7921440" cy="42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CERR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on sociedades anónimas cerradas las no comprendidas en el inciso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Sin perjuicio de que puedan sujetarse voluntariamente a las normas que rigen las Sociedades Anónimas abier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581360"/>
            <a:ext cx="140832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981000"/>
            <a:ext cx="792144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 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rtículos 126 y siguientes de la Ley 18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eren para su constitución resolución de la SVS y de la Inscripción y publicación de dicho cert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592360" cy="8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981000"/>
            <a:ext cx="7921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INCIPALES DI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Registr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isposiciones en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750480" y="25218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549360"/>
            <a:ext cx="864072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Distinción en cuanto a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Formación del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Constitución Legal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rmas principales en los Artículos 3, 4 y 5 de la Ley de S.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549360"/>
            <a:ext cx="8640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1) 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2) Inscripción de un extracto de la escritura social autorizado ante not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3)   Publicación en el Diario O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3780000" y="4581360"/>
            <a:ext cx="1198440" cy="18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549360"/>
            <a:ext cx="86407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6000" y="4292640"/>
            <a:ext cx="1290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640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EN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, profesión y domicilio de los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 y domicilio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)  La enunciación del o de los objetos específicos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) El capital de la sociedad, la forma y plazos en que lo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ccionistas deben pagar su aporte, y la indicación y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valoración de todo aporte que no consista en din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5920"/>
            <a:ext cx="8137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4) La duración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7) La fecha en que debe cerrarse el ejercici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feccionarse el balance y la época en que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elebrarse la junta ordinaria de accionist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8) La forma de distribución de las util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5920"/>
            <a:ext cx="813744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9) La forma en que debe hacerse la liquidac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0) La naturaleza del arbitr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1) La designación de los integrante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irectorio provisorio y de los auditores exter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2) Los demás pactos que acordaren los acc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uperintendencia de Valores y Segu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rigen en la Eda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imeras manifestaciones en los negocios banc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Estructura Jurídica más avanzada para la organización de negocios de gran 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ESIBILIDAD DE DEREC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55736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acen en Chile bajo el principio de la Libertad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Hasta 1854 no se conoce un texto que regule las 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31626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ley 18046, publicada el 22 de Octubre de 1981 las reg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Directamente relacionada con la Ley de Mercado de Valores, Ley 18.045 del año 198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rt. 1°(L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sociedad anónima es un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formada por la reunión de un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fondo común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, suministrado por accionistas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les sólo por sus respectivos aportes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dministrada por un directorio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052640"/>
            <a:ext cx="8569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Es una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2) Sus accionistas aportan dinero o bienes estimados en din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3) Persigue fines de lu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4) Las perdidas son soportadas por el fondo constituido por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19T06:29:35Z</dcterms:modified>
  <cp:revision>98</cp:revision>
  <dc:subject/>
  <dc:title>Diapositiva 1</dc:title>
</cp:coreProperties>
</file>