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962-3A9C-4FD8-9EA5-DFCF1924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2B1-4E36-42CA-9524-5B25386D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51F-AACD-4222-9835-7F2DE3FF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B92-93AD-412C-8D72-EB7C7C1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161-BC7E-4F94-A9AB-604DEB3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5C0-13BB-4C4F-B162-CBA6F4C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E96-58A3-45E7-A339-01C2A609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C60-A2E1-4868-93EE-8D754A9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2D1-7D80-4B74-9E03-9C78FC6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7E9-5ADC-4526-8FE2-99A4EA0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0F1-DAEA-439E-9542-B51340F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4E4-DAEF-442A-A6B8-917E062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EC6-565C-45BB-B593-AB2B2157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imv.org/miembros/imagenes/LogoSVS.jpg&amp;imgrefurl=http://www.iimv.org/miembros/chile.htm&amp;usg=__FubwnvEKwxAkXDijpOnsGk6-qzw=&amp;h=916&amp;w=715&amp;sz=50&amp;hl=es&amp;start=1&amp;tbnid=sUcUybWTJ_w24M:&amp;tbnh=147&amp;tbnw=115&amp;prev=/images%3Fq%3DSuperIntendencia%2Bde%2BValor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8569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5)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os derechos de los socios están representados por acciones que constan en un tít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6) Es siempre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7) Es solemne, tanto en su formación, modificación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8) La responsabilidad de los accionistas es hasta el monto del aporte realizado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56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UN SUJETO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SIEMP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IMPORTANCIA EN MATERIA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821400" y="3961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981000"/>
            <a:ext cx="79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ÓN NO ESTÁ BASADA EN LA MAGNITUD DE LA EMPRESA, NI EN LOS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143080" cy="238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81000"/>
            <a:ext cx="792144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ABIERTAS ORDINARIAS</a:t>
            </a: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981000"/>
            <a:ext cx="792144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CER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on sociedades anónimas cerradas las no comprendidas en el incis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Sin perjuicio de que puedan sujetarse voluntariamente a las normas que rigen las Sociedades Anónimas abier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581360"/>
            <a:ext cx="140832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981000"/>
            <a:ext cx="7921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rtículos 126 y siguientes de la Ley 18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eren para su constitución resolución de la SVS y de la Inscripción y publicación de dicho cert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8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981000"/>
            <a:ext cx="7921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INCIPALES DI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Registr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isposiciones en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750480" y="2521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49360"/>
            <a:ext cx="864072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Distinción en cuanto a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Formación del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Constitución Legal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rmas principales en los Artículos 3, 4 y 5 de la Ley de S.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49360"/>
            <a:ext cx="8640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1) 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2) Inscripción de un extracto de la escritura social autorizado ante not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3)   Publicación en el Diario O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3780000" y="4581360"/>
            <a:ext cx="1198440" cy="18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549360"/>
            <a:ext cx="8640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129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640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EN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, profesión y domicilio de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 y domicilio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)  La enunciación del o de los objetos específicos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) El capital de la sociedad, la forma y plazos en que lo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cionistas deben pagar su aporte, y la indicación y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valoración de todo aporte que no consista en din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5920"/>
            <a:ext cx="8137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4) La duración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7) La fecha en que debe cerrarse el ejercici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feccionarse el balance y la época en que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elebrarse la junta ordinaria de accion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8) La forma de distribución de las util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5920"/>
            <a:ext cx="8137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9) La forma en que debe hacerse la liquida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0) La naturaleza del arbitr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1) La designación de los integrante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irectorio provisorio y de los auditores exter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2) Los demás pactos que acordaren los acc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uperintendencia de Valores y Segu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rigen en la Eda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imeras manifestaciones en los negocios banc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Estructura Jurídica más avanzada para la organización de negocios de gran 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ESIBILIDAD DE DER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55736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acen en Chile bajo el principio de la Liberta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Hasta 1854 no se conoce un texto que regule las 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31626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ley 18046, publicada el 22 de Octubre de 1981 las reg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Directamente relacionada con la Ley de Mercado de Valores, Ley 18.045 del año 198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rt. 1°(L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sociedad anónima es un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formada por la reunión de un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fondo común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, suministrado por accionistas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les sólo por sus respectivos aportes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ministrada por un directorio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052640"/>
            <a:ext cx="8569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Es una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2) Sus accionistas aportan dinero o bienes estimados en din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3) Persigue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4) Las perdidas son soportadas por el fondo constituido por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19T06:29:35Z</dcterms:modified>
  <cp:revision>98</cp:revision>
  <dc:subject/>
  <dc:title>Diapositiva 1</dc:title>
</cp:coreProperties>
</file>