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8B5-79D5-4097-BF9F-1ADC2419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D2D-6EFD-4E37-A064-AB5F27DF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F1D-19B4-4978-8FEC-82397810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5BC-4065-4D25-8926-DCF353C1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28A7-73BD-4038-8BE4-0CBF548C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F40-874B-4D5C-AB2D-2A90B24B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320B-0013-4D2D-AB55-2A3B70CD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1B2A-2AD5-41C7-91DE-22C944E3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646-A3C8-4280-BE11-BB0BC8D5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287-806B-4AD7-A95A-A0AE8B8A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A18-6888-499D-B6C8-D3411455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B993-5D68-43B3-8CA6-CB4B860B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5C7F-DFC1-4E8F-A540-D8508F9AC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iimv.org/miembros/imagenes/LogoSVS.jpg&amp;imgrefurl=http://www.iimv.org/miembros/chile.htm&amp;usg=__FubwnvEKwxAkXDijpOnsGk6-qzw=&amp;h=916&amp;w=715&amp;sz=50&amp;hl=es&amp;start=1&amp;tbnid=sUcUybWTJ_w24M:&amp;tbnh=147&amp;tbnw=115&amp;prev=/images%3Fq%3DSuperIntendencia%2Bde%2BValor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 ANO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ISTIC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052640"/>
            <a:ext cx="85694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5)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Los derechos de los socios están representados por acciones que constan en un tít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6) Es siempre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7) Es solemne, tanto en su formación, modificación y disolu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8) La responsabilidad de los accionistas es hasta el monto del aporte realizado a la soc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ISTIC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052640"/>
            <a:ext cx="8569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SOCIEDAD ANÓNIMA ES UN SUJETO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SOCIEDAD ANÓNIMA ES SIEMPRE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IMPORTANCIA EN MATERIA DE RE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3821400" y="3961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981000"/>
            <a:ext cx="7921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ABIER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omunes u Ordin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pe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SOCIEDADES ANÓNIMAS  CER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981000"/>
            <a:ext cx="7921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LASIFICACIÓN NO ESTÁ BASADA EN LA MAGNITUD DE LA EMPRESA, NI EN LOS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635280" y="3429000"/>
            <a:ext cx="2143080" cy="2381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981000"/>
            <a:ext cx="7921440" cy="60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 ABIERTAS ORDINARIAS</a:t>
            </a:r>
            <a:r>
              <a:rPr b="1" lang="es-CL" sz="22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Aquellas que tienen 500 o más accionista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2) Aquellas en las que, a lo menos, el 10% de su capital suscrito pertenece a un mínimo de 100 accionistas, excluidos los que individualmente, o a través de otras personas naturales o jurídicas, excedan dicho porcentaje,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3) Aquéllas que inscriban voluntariamente sus acciones en el Registro de Valor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981000"/>
            <a:ext cx="7921440" cy="42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 CERRAD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on sociedades anónimas cerradas las no comprendidas en el inciso an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Sin perjuicio de que puedan sujetarse voluntariamente a las normas que rigen las Sociedades Anónimas abier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4581360"/>
            <a:ext cx="1408320" cy="18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981000"/>
            <a:ext cx="7921440" cy="48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ABIERTAS ESPE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Artículos 126 y siguientes de la Ley 180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quieren para su constitución resolución de la SVS y de la Inscripción y publicación de dicho certific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19640" y="3500280"/>
            <a:ext cx="2592360" cy="812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981000"/>
            <a:ext cx="7921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PRINCIPALES DI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Fis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Inscripción Registro de Val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Disposiciones en los Estat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3750480" y="25218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000" y="549360"/>
            <a:ext cx="864072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800" spc="-1" strike="noStrike" u="sng">
                <a:solidFill>
                  <a:srgbClr val="3333cc"/>
                </a:solidFill>
                <a:uFillTx/>
                <a:latin typeface="Verdana"/>
              </a:rPr>
              <a:t>Distinción en cuanto a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Formación del Patrimo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Constitución Legal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Normas principales en los Artículos 3, 4 y 5 de la Ley de S.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8000" y="549360"/>
            <a:ext cx="8640720" cy="34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1)  Escritura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2) Inscripción de un extracto de la escritura social autorizado ante not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3)   Publicación en el Diario Ofi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3780000" y="4581360"/>
            <a:ext cx="1198440" cy="18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836640"/>
            <a:ext cx="7777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8000" y="549360"/>
            <a:ext cx="8640720" cy="52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LA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Inscripción y publicación deberán efectuarse dentro del plazo de 60 días contados desde la fecha de la escritura social art. 3º Ley 1804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796000" y="4292640"/>
            <a:ext cx="12906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3004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907920"/>
            <a:ext cx="864072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EN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nombre, profesión y domicilio de los accionist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nombre y domicilio de la socied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3)  La enunciación del o de los objetos específicos de la socied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4) El capital de la sociedad, la forma y plazos en que lo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ccionistas deben pagar su aporte, y la indicación y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valoración de todo aporte que no consista en diner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0040" y="9810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115920"/>
            <a:ext cx="813744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EMENTOS NO ESENCIALES (Artículo 4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4) La duración de la socie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7) La fecha en que debe cerrarse el ejercici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nfeccionarse el balance y la época en que de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elebrarse la junta ordinaria de accionist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8) La forma de distribución de las utilida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30040" y="9810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115920"/>
            <a:ext cx="813744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EMENTOS NO ESENCIALES (Artículo 4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9) La forma en que debe hacerse la liquidació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10) La naturaleza del arbitraj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11) La designación de los integrantes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irectorio provisorio y de los auditores extern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12) Los demás pactos que acordaren los accionis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24000" y="1413000"/>
          <a:ext cx="8028000" cy="419256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ANONIM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ey de Sociedades Anónimas Nº 18.046. y Ley de Mercado de Valores Nº 18.04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El que se decida, terminado en Sociedad Anónima o S.A. (Artículo 4 Nº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un órganos colegiado llamada Directorio, separado de las Propiedad de la Socied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. Tomo II, volumen 1. Editorial Jurídica de Ch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ágina web de la Superintendencia de Valores y Segur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NTECEDENTE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557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Origen en la Edad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rimeras manifestaciones en los negocios bancari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32360" y="3213000"/>
            <a:ext cx="28576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NTECED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55736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Estructura Jurídica más avanzada para la organización de negocios de gran magnit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RESPONSABILIDAD LIMI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ESIBILIDAD DE DERECH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2060640"/>
            <a:ext cx="259236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cios respon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con su patrimon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LIMITADAM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HA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EL MONT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US APOR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49197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ENCUENTRA LIMITADA LA 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557360"/>
            <a:ext cx="849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Nacen en Chile bajo el principio de la Libertad Contr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Hasta 1854 no se conoce un texto que regule las 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3162600" cy="218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55736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La ley 18046, publicada el 22 de Octubre de 1981 las regul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Directamente relacionada con la Ley de Mercado de Valores, Ley 18.045 del año 198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FINI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557360"/>
            <a:ext cx="849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Art. 1°(LS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“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La sociedad anónima es una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formada por la reunión de un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fondo común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, suministrado por accionistas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responsables sólo por sus respectivos aportes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administrada por un directorio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 integrado por miembros esencialmente revocabl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ISTIC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052640"/>
            <a:ext cx="85694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Es una persona jurí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2) Sus accionistas aportan dinero o bienes estimados en din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3) Persigue fines de luc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4) Las perdidas son soportadas por el fondo constituido por los accion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9-03-19T06:29:35Z</dcterms:modified>
  <cp:revision>98</cp:revision>
  <dc:subject/>
  <dc:title>Diapositiva 1</dc:title>
</cp:coreProperties>
</file>