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27D-B9B4-4E02-989C-63D50A8C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B13-DE45-4AA8-A7D2-9A623B7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FB0-FBAB-4BC3-9444-D40C41C2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760-4F78-4355-AF23-EC744E56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618-31CB-4773-B94E-6E914EA7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578-DF37-4C56-B41B-3660AD0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F8B-25C9-4D92-BC89-872624E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26D-315C-44E8-A8D7-D70EFEDC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9EE-409C-44C0-AD8D-1169744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F82-32D7-4031-8A84-1282D01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8FB-3AD9-4EA6-A668-EE320E2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146-6642-426D-8836-4303F2F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AD72-B1CD-416E-B84D-0DCF5880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ENTORN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Marzo, Martes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81000"/>
            <a:ext cx="7777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derecho a realizar cualquiera actividad económica que no sea contraria a la moral, al orden público o a la seguridad nacional, respetando las normas legales que la regul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. 19 Nº21 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contrac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a desarrollar cualquier actividad econ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spetar la normativa le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plejidad de normas nacionales e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EPTOS ACTUALES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o compañía es un contrato en que dos o más personas estipulan poner algo en común con la mira de repartir entre sí los beneficios que de ello provengan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forma una persona jurídica distinta de los socios individualmente considerados.”  (Artículo 2053 Código Civ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una persona jurídica formada por la reunión de un fondo común, suministrado por accionistas responsables sólo por sus respectivos aportes y administrada por un directorio integrado por miembros esencialmente revocabl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siempre mercantil aún cuando se forme para la realización de negocios de carácter civi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ículo I ley 18.0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RACTERISTICAS PRINCIP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ociedad de ca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pital:  Fondo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ícipes: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ciones ordinarias y pre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mbre y n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ominio y poder: Juntas de accionista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total: 2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ministración Directorio. Miembros revo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ayorías y minorí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iscalización: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os especiales: Control y supervisión del Poder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_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bie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MPRESA Y SOCIEDAD ANO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a o sociedad mercantil o industrial fundada para emprender o llevar a cabo construcciones, negocios o proyectos de importa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ntidad integrada por el capital y el trabajo como factores de la producción y dedicada a actividades industriales, mercantiles o de prestación de servicios con fines lucrativos y con la consiguiente responsabilida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Diccionario de la Real Academ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tualmente principal vehículo y estructura jurídica utilizada por empresarios en todo el mundo para llevar a efecto sus proye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gur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endas de departament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inerí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upermer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resas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NTORNO CO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ante la ley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 C.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rotección de derech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asociación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de trabaj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tribut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económic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discriminación arbitr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ón del domini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propiedad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arantía esencial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CURSO DE PROTEC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20 Constitución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curso especialísimo establecido en la C.P. de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interpone ante la Corte de Ap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ciertas garant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ramitación informal y muy br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se discuten temas de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privación, perturbación o amenazas a las garantías proteg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pelación ante la Corte Suprema, que resuelve en cuenta por 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7777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SISTEMA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A está sujeta también a una serie de normas que forman el tejido institucional – jurídic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libr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oferta públic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lab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prestación de servicios básicos: luz, agua,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edu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981000"/>
            <a:ext cx="77770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7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FECTO GLOB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chilenas en el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extranjeras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3T14:41:30Z</dcterms:modified>
  <cp:revision>84</cp:revision>
  <dc:subject/>
  <dc:title>Diapositiva 1</dc:title>
</cp:coreProperties>
</file>