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6C3-7742-4E15-8F07-082752AD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70D-B481-4ED0-BED4-76767279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2C8-0D63-4AC7-A542-110600AA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811-1626-45F9-BF24-C05BB26F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7EA-33EE-4B22-B969-5D02EA2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C26-1D53-4851-A67B-481318F4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813-5B18-4580-AC7A-04A074B1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A83-953D-4404-9604-2963206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C0C-638E-4D57-9164-2ECB903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5E7-DC46-446F-9D54-F23AFA5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293-2EC7-42BA-949E-F852AEA4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C89-C6FF-4AD8-81AC-CBBFFF0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63F-0C5E-4E6C-BBE1-7D0B3954E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ENTORN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Marzo, Martes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81000"/>
            <a:ext cx="7777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derecho a realizar cualquiera actividad económica que no sea contraria a la moral, al orden público o a la seguridad nacional, respetando las normas legales que la regul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. 19 Nº21 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contrac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a desarrollar cualquier actividad econ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spetar la normativa le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plejidad de normas nacionales e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EPTOS ACTUALES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o compañía es un contrato en que dos o más personas estipulan poner algo en común con la mira de repartir entre sí los beneficios que de ello provengan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forma una persona jurídica distinta de los socios individualmente considerados.”  (Artículo 2053 Código Civ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una persona jurídica formada por la reunión de un fondo común, suministrado por accionistas responsables sólo por sus respectivos aportes y administrada por un directorio integrado por miembros esencialmente revocabl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siempre mercantil aún cuando se forme para la realización de negocios de carácter civi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ículo I ley 18.0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RACTERISTICAS PRINCIP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ociedad de ca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pital:  Fondo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ícipes: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ciones ordinarias y pre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mbre y n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ominio y poder: Juntas de accionista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total: 2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ministración Directorio. Miembros revo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ayorías y minorí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iscalización: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os especiales: Control y supervisión del Poder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_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bie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MPRESA Y SOCIEDAD ANO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a o sociedad mercantil o industrial fundada para emprender o llevar a cabo construcciones, negocios o proyectos de importa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ntidad integrada por el capital y el trabajo como factores de la producción y dedicada a actividades industriales, mercantiles o de prestación de servicios con fines lucrativos y con la consiguiente responsabilida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Diccionario de la Real Academ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tualmente principal vehículo y estructura jurídica utilizada por empresarios en todo el mundo para llevar a efecto sus proye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gur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endas de departament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inerí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upermer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resas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NTORNO CO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ante la ley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 C.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rotección de derech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asociación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de trabaj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tribut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económic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discriminación arbitr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ón del domini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propiedad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arantía esencial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CURSO DE PROTEC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20 Constitución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curso especialísimo establecido en la C.P. de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interpone ante la Corte de Ap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ciertas garant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ramitación informal y muy br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se discuten temas de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privación, perturbación o amenazas a las garantías proteg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pelación ante la Corte Suprema, que resuelve en cuenta por 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7777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SISTEMA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A está sujeta también a una serie de normas que forman el tejido institucional – jurídic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libr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oferta públic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lab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prestación de servicios básicos: luz, agua,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edu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981000"/>
            <a:ext cx="77770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7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FECTO GLOB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chilenas en el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extranjeras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3T14:41:30Z</dcterms:modified>
  <cp:revision>84</cp:revision>
  <dc:subject/>
  <dc:title>Diapositiva 1</dc:title>
</cp:coreProperties>
</file>