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E2C8-E283-4E23-9B13-F1A1A6B3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146-BBC2-46BF-9541-F527F4CC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518-1E3D-438B-95D6-107A2E8E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7E1-4EAE-4271-9BCD-88A0F76C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20C-1029-4FFC-9B17-09078E44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C34-38B8-4D99-BCE3-782E9DD1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93E-C410-4586-87D1-9607267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E76-B945-4B60-BD70-7626F2F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A20-CA81-4168-9AF0-68366143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5F8-A222-45D9-84B7-CAE9DA14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25C-DA2A-420A-8875-DF763CEB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905-598C-462E-9CB3-5F31C7E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4B9-0DFF-4C8B-8455-64CCD3E5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ENTORN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Marzo, Martes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981000"/>
            <a:ext cx="7777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derecho a realizar cualquiera actividad económica que no sea contraria a la moral, al orden público o a la seguridad nacional, respetando las normas legales que la regula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. 19 Nº21 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contrac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a desarrollar cualquier actividad económ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spetar la normativa leg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plejidad de normas nacionales e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ONCEPTOS ACTUALES DE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o compañía es un contrato en que dos o más personas estipulan poner algo en común con la mira de repartir entre sí los beneficios que de ello provengan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forma una persona jurídica distinta de los socios individualmente considerados.”  (Artículo 2053 Código Civ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una persona jurídica formada por la reunión de un fondo común, suministrado por accionistas responsables sólo por sus respectivos aportes y administrada por un directorio integrado por miembros esencialmente revocabl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ociedad anónima es siempre mercantil aún cuando se forme para la realización de negocios de carácter civi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Artículo I ley 18.0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CARACTERISTICAS PRINCIP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ociedad de ca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pital:  Fondo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rtícipes: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ciones ordinarias y pre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mbre y n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ominio y poder: Juntas de accionista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trol total: 2 /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ministración Directorio. Miembros revo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ayorías y minorí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Fiscalización: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os especiales: Control y supervisión del Poder Ej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_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bie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rvici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MPRESA Y SOCIEDAD ANO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asa o sociedad mercantil o industrial fundada para emprender o llevar a cabo construcciones, negocios o proyectos de importa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ntidad integrada por el capital y el trabajo como factores de la producción y dedicada a actividades industriales, mercantiles o de prestación de servicios con fines lucrativos y con la consiguiente responsabilida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(Diccionario de la Real Academ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ctualmente principal vehículo y estructura jurídica utilizada por empresarios en todo el mundo para llevar a efecto sus proye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Banc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gur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endas de departament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Combust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Minerí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sapre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upermer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mpresas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NTORNO CO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ante la ley  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 C.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Protección de derechos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asociación 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de trabaj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gualdad tribut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ibertad económic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discriminación arbitrari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dquisición del dominio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erecho de propiedad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Garantía esencial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19 Nº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ECURSO DE PROTEC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rtículo 20 Constitución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Recurso especialísimo establecido en la C.P. de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e interpone ante la Corte de Ap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ciertas garant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ramitación informal y muy br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No se discuten temas de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ólo respecto de privación, perturbación o amenazas a las garantías proteg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Apelación ante la Corte Suprema, que resuelve en cuenta por l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981000"/>
            <a:ext cx="7777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SISTEMA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SA está sujeta también a una serie de normas que forman el tejido institucional – jurídic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libre compet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oferta pública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lab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medio 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de prestación de servicios básicos: luz, agua,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istema edu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NTORN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981000"/>
            <a:ext cx="77770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7.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EL EFECTO GLOB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chilenas en el ex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Inversiones extranjeras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Diligencia de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Sistem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Tipo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3T14:41:30Z</dcterms:modified>
  <cp:revision>84</cp:revision>
  <dc:subject/>
  <dc:title>Diapositiva 1</dc:title>
</cp:coreProperties>
</file>