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5A256-8CEE-4697-A18B-C3DE02F24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AEE7-161A-4D55-B661-1A1D2E05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AC668-C9B9-421A-8791-1E26E0A0E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79A38-651F-499F-A91A-64CA5943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E094-B528-427C-ABC7-1432199F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C02B-4DD7-4025-865C-1DC05E78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50BE-A632-4009-B319-E7B65D4F6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CFAAB-203C-45E1-99D7-CD95B7962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035F2-A9C8-4820-88E3-22103791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7460-5632-46FD-8D26-D1CD3F69D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7E82-AD76-4F07-91C3-82B9B5A6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3103-104E-44FA-98CD-DB87EE866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3594-8EBA-45DB-832E-7705F71C5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71640" y="4997520"/>
            <a:ext cx="734544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SOCIEDAD  ANÓNI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PRESENTA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Marzo, miércoles 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81" name=""/>
          <p:cNvSpPr/>
          <p:nvPr/>
        </p:nvSpPr>
        <p:spPr>
          <a:xfrm>
            <a:off x="395280" y="981000"/>
            <a:ext cx="777708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Período de la Independencia :  Apertura al Comercio Intern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Uno de los propósitos principales de los patriotas chilenos,  al procurar la libertad política del país en el año 1810, fue también la necesidad de obtener la libertad de comercio con el exteri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Las primeras leyes patrias dictadas en febrero de 1811, sólo un año después de la declaración de la Independencia, se refieren al comercio con las naciones amigas y neutrale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ibertad al dinero internado para compras de efectos del país con destino al estranjero.  La introducción marítima de dinero para comprar frutos o efectos del país i llevar al extranjero, constando este destino, será enteramente libre de derecho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 y="981000"/>
            <a:ext cx="7632720" cy="567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El artículo 30, del mismo cuerpo legal, dispon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Adopción de los estranjeros i de sus manufacturas.  Los fabricantes, agricultores i artesanos estranjeros, desde que sean avecindados en este Reino,  deben reputarse como naturales de él, i así sus manufacturas se mirarán como del país para que gocen de las rebajas i exenciones que se concedieren a ell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El historiador Diego Barros Arana comenta la situación de esa époc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a:t>
            </a:r>
            <a:r>
              <a:rPr b="1" lang="es-CL" sz="1800" spc="-1" strike="noStrike">
                <a:solidFill>
                  <a:srgbClr val="3333cc"/>
                </a:solidFill>
                <a:latin typeface="Arial"/>
              </a:rPr>
              <a:t>A primera vista parecía que ninguna de las primeras colonias de España era menos apta para llevar a cabo estos progresos y realizar los destinos de república independiente.  Si tal vez no era la más pequeña de las provincias que formaba el extenso imperio colonial de los españoles, era  sin duda alguna la más pobre y, al mismo tiempo la más atrasada.  Su población no pasaba de 500.000 habitantes.  Su comercio con las otras colonias se reducía a unos dos millones de pesos por año, y las rentas públicas apenas alcanzaban a medio millón”.</a:t>
            </a:r>
            <a:r>
              <a:rPr b="0" lang="es-CL"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84"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85" name=""/>
          <p:cNvSpPr/>
          <p:nvPr/>
        </p:nvSpPr>
        <p:spPr>
          <a:xfrm>
            <a:off x="395280" y="981000"/>
            <a:ext cx="7777080" cy="120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Período de Consolidación Política y Económ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Informe sobre Chile del Ministro Diplomático de Gran Bretaña, M. Horacio Rumbold, presentado en el año 1875 al gobierno inglé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Una nación sobria, práctica, laboriosa, bien ordenada, gobernada prudentemente, y formando un gran contraste con los otros estados del mismo origen y de instituciones semejantes que se extienden en el continente america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Todo esto puede resumirse en dos palabr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Arial"/>
              </a:rPr>
              <a:t>● </a:t>
            </a:r>
            <a:r>
              <a:rPr b="1" lang="es-CL" sz="2000" spc="-1" strike="noStrike">
                <a:solidFill>
                  <a:srgbClr val="3333cc"/>
                </a:solidFill>
                <a:latin typeface="Arial"/>
              </a:rPr>
              <a:t>TRABAJO y CORDU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89" name=""/>
          <p:cNvSpPr/>
          <p:nvPr/>
        </p:nvSpPr>
        <p:spPr>
          <a:xfrm>
            <a:off x="395280" y="981000"/>
            <a:ext cx="7777080" cy="78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5280" y="99864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LASES DE SOCIEDA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1.- Sociedades de personas y sociedades de capi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2.- Sociedades nacionales, extranjeras y multinacion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3.- Sociedades con y sin personalidad juríd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4.- Sociedades consensuales y solem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5.- Sociedades civiles, mercantiles y miner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6.-  Sociedades sujetas a fiscalización o 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7.- Según la participación y responsabilidad de los s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	</a:t>
            </a:r>
            <a:r>
              <a:rPr b="1" lang="es-ES" sz="1800" spc="-1" strike="noStrike">
                <a:solidFill>
                  <a:srgbClr val="3333cc"/>
                </a:solidFill>
                <a:latin typeface="Arial"/>
              </a:rPr>
              <a:t>Todos o algunos administr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	</a:t>
            </a:r>
            <a:r>
              <a:rPr b="1" lang="es-ES" sz="1800" spc="-1" strike="noStrike">
                <a:solidFill>
                  <a:srgbClr val="3333cc"/>
                </a:solidFill>
                <a:latin typeface="Arial"/>
              </a:rPr>
              <a:t>Todos o algunos responden por las obligaciones soc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96" name=""/>
          <p:cNvSpPr/>
          <p:nvPr/>
        </p:nvSpPr>
        <p:spPr>
          <a:xfrm>
            <a:off x="395280" y="981000"/>
            <a:ext cx="777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8.- Según su clase y denominació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a:t>
            </a:r>
            <a:r>
              <a:rPr b="1" lang="es-ES" sz="1800" spc="-1" strike="noStrike">
                <a:solidFill>
                  <a:srgbClr val="3333cc"/>
                </a:solidFill>
                <a:latin typeface="Arial"/>
              </a:rPr>
              <a:t>	</a:t>
            </a:r>
            <a:r>
              <a:rPr b="1" lang="es-ES" sz="1800" spc="-1" strike="noStrike">
                <a:solidFill>
                  <a:srgbClr val="3333cc"/>
                </a:solidFill>
                <a:latin typeface="Arial"/>
              </a:rPr>
              <a:t>Sociedad colectiv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a:t>
            </a:r>
            <a:r>
              <a:rPr b="1" lang="es-ES" sz="1800" spc="-1" strike="noStrike">
                <a:solidFill>
                  <a:srgbClr val="3333cc"/>
                </a:solidFill>
                <a:latin typeface="Arial"/>
              </a:rPr>
              <a:t>	</a:t>
            </a:r>
            <a:r>
              <a:rPr b="1" lang="es-ES" sz="1800" spc="-1" strike="noStrike">
                <a:solidFill>
                  <a:srgbClr val="3333cc"/>
                </a:solidFill>
                <a:latin typeface="Arial"/>
              </a:rPr>
              <a:t>Sociedad de responsabilidad limitad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a:t>
            </a:r>
            <a:r>
              <a:rPr b="1" lang="es-ES" sz="1800" spc="-1" strike="noStrike">
                <a:solidFill>
                  <a:srgbClr val="3333cc"/>
                </a:solidFill>
                <a:latin typeface="Arial"/>
              </a:rPr>
              <a:t>	</a:t>
            </a:r>
            <a:r>
              <a:rPr b="1" lang="es-ES" sz="1800" spc="-1" strike="noStrike">
                <a:solidFill>
                  <a:srgbClr val="3333cc"/>
                </a:solidFill>
                <a:latin typeface="Arial"/>
              </a:rPr>
              <a:t>Sociedad en comandit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ociedad anónim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a:t>
            </a:r>
            <a:r>
              <a:rPr b="1" lang="es-ES" sz="1800" spc="-1" strike="noStrike">
                <a:solidFill>
                  <a:srgbClr val="3333cc"/>
                </a:solidFill>
                <a:latin typeface="Arial"/>
              </a:rPr>
              <a:t>	</a:t>
            </a:r>
            <a:r>
              <a:rPr b="1" lang="es-ES" sz="1800" spc="-1" strike="noStrike">
                <a:solidFill>
                  <a:srgbClr val="3333cc"/>
                </a:solidFill>
                <a:latin typeface="Arial"/>
              </a:rPr>
              <a:t>Abiert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a:t>
            </a:r>
            <a:r>
              <a:rPr b="1" lang="es-ES" sz="1800" spc="-1" strike="noStrike">
                <a:solidFill>
                  <a:srgbClr val="3333cc"/>
                </a:solidFill>
                <a:latin typeface="Arial"/>
              </a:rPr>
              <a:t>	</a:t>
            </a:r>
            <a:r>
              <a:rPr b="1" lang="es-ES" sz="1800" spc="-1" strike="noStrike">
                <a:solidFill>
                  <a:srgbClr val="3333cc"/>
                </a:solidFill>
                <a:latin typeface="Arial"/>
              </a:rPr>
              <a:t>Cerrada</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100" name=""/>
          <p:cNvSpPr/>
          <p:nvPr/>
        </p:nvSpPr>
        <p:spPr>
          <a:xfrm>
            <a:off x="395280" y="981000"/>
            <a:ext cx="7777080" cy="5626440"/>
          </a:xfrm>
          <a:prstGeom prst="rect">
            <a:avLst/>
          </a:prstGeom>
          <a:noFill/>
          <a:ln w="0">
            <a:noFill/>
          </a:ln>
        </p:spPr>
        <p:style>
          <a:lnRef idx="0"/>
          <a:fillRef idx="0"/>
          <a:effectRef idx="0"/>
          <a:fontRef idx="minor"/>
        </p:style>
        <p:txBody>
          <a:bodyPr lIns="90000" rIns="90000" tIns="46800" bIns="46800" anchor="t">
            <a:spAutoFit/>
          </a:bodyPr>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EGISLACION SOBRE SOCIEDADES ANONIMAS</a:t>
            </a: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1.</a:t>
            </a:r>
            <a:r>
              <a:rPr b="1" lang="es-CL" sz="1800" spc="-1" strike="noStrike">
                <a:solidFill>
                  <a:srgbClr val="3333cc"/>
                </a:solidFill>
                <a:latin typeface="Arial"/>
              </a:rPr>
              <a:t>	</a:t>
            </a:r>
            <a:r>
              <a:rPr b="1" lang="es-CL" sz="1800" spc="-1" strike="noStrike" u="sng">
                <a:solidFill>
                  <a:srgbClr val="3333cc"/>
                </a:solidFill>
                <a:uFillTx/>
                <a:latin typeface="Arial"/>
              </a:rPr>
              <a:t>Ley de 8 de noviembre de 1854</a:t>
            </a: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sociedad anónima es una persona jurídica formada por la creación de un fondo común suministrado por accionistas responsables sólo hasta el monto de sus acciones; administrada por mandatarios revocables; que carece de nombre social y es conocida por la designación del objeto de la empresa”. </a:t>
            </a:r>
            <a:r>
              <a:rPr b="1" lang="es-CL" sz="1800" spc="-1" strike="noStrike">
                <a:solidFill>
                  <a:srgbClr val="3333cc"/>
                </a:solidFill>
                <a:latin typeface="Arial"/>
              </a:rPr>
              <a:t>	</a:t>
            </a:r>
            <a:r>
              <a:rPr b="1" lang="es-CL" sz="1800" spc="-1" strike="noStrike">
                <a:solidFill>
                  <a:srgbClr val="3333cc"/>
                </a:solidFill>
                <a:latin typeface="Arial"/>
              </a:rPr>
              <a:t>(Artículo Iº) </a:t>
            </a: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s sociedades anónimas existen en virtud de un decreto de Gobierno que las autorice”.  (Artículo 6º)</a:t>
            </a: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s sociedades que se propongan establecer bancos de emisión no podrán formarse sino a virtud de una ley”.  (Art. 6º)</a:t>
            </a:r>
            <a:endParaRPr b="0" lang="en-US" sz="1800" spc="-1" strike="noStrike">
              <a:solidFill>
                <a:srgbClr val="000000"/>
              </a:solidFill>
              <a:latin typeface="Times New Roman"/>
            </a:endParaRPr>
          </a:p>
          <a:p>
            <a:pPr marL="442800" indent="-4428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104" name=""/>
          <p:cNvSpPr/>
          <p:nvPr/>
        </p:nvSpPr>
        <p:spPr>
          <a:xfrm>
            <a:off x="395280" y="981000"/>
            <a:ext cx="7777080" cy="534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No se dará curso a ninguna solicitud para la fundación de una compañía si no fuere formada por un número de suscriptores que llenen la tercera parte al menos de las acciones en que se divida el capital”.  (Artículo 9)</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autorización contendrá siempre la condición de hacer efectiva, dentro del plazo que ella señale, la cuota del fondo social que el Gobierno juzgue necesaria para comenzar las operaciones de la sociedad”.  (Artículo 10)</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Justificada la existencia de la cuota a que se refiere el artículo anterior, el Gobierno expedirá un decreto en que se declare que la compañía se haya legalmente instalada, y señale el plazo en que debe principiar sus funciones”  (Artículo 11)</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108" name=""/>
          <p:cNvSpPr/>
          <p:nvPr/>
        </p:nvSpPr>
        <p:spPr>
          <a:xfrm>
            <a:off x="395280" y="981000"/>
            <a:ext cx="7777080" cy="523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ódigo de Civil  (1855)</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3.</a:t>
            </a:r>
            <a:r>
              <a:rPr b="1" lang="es-CL" sz="1800" spc="-1" strike="noStrike">
                <a:solidFill>
                  <a:srgbClr val="3333cc"/>
                </a:solidFill>
                <a:latin typeface="Arial"/>
              </a:rPr>
              <a:t>	</a:t>
            </a:r>
            <a:r>
              <a:rPr b="1" lang="es-CL" sz="1800" spc="-1" strike="noStrike">
                <a:solidFill>
                  <a:srgbClr val="3333cc"/>
                </a:solidFill>
                <a:latin typeface="Arial"/>
              </a:rPr>
              <a:t>Código de Comercio (1865)</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D.F.L. 251 (1931)</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Superintendencia de Compañías de Seguros, Sociedades Anónimas y Bolsas de Comerci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5.</a:t>
            </a:r>
            <a:r>
              <a:rPr b="1" lang="es-CL" sz="1800" spc="-1" strike="noStrike">
                <a:solidFill>
                  <a:srgbClr val="3333cc"/>
                </a:solidFill>
                <a:latin typeface="Arial"/>
              </a:rPr>
              <a:t>	</a:t>
            </a:r>
            <a:r>
              <a:rPr b="1" lang="es-CL" sz="1800" spc="-1" strike="noStrike">
                <a:solidFill>
                  <a:srgbClr val="3333cc"/>
                </a:solidFill>
                <a:latin typeface="Arial"/>
              </a:rPr>
              <a:t>Ley 18.046 sobre Sociedades Anónimas (1981)</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6.</a:t>
            </a:r>
            <a:r>
              <a:rPr b="1" lang="es-CL" sz="1800" spc="-1" strike="noStrike">
                <a:solidFill>
                  <a:srgbClr val="3333cc"/>
                </a:solidFill>
                <a:latin typeface="Arial"/>
              </a:rPr>
              <a:t>	</a:t>
            </a:r>
            <a:r>
              <a:rPr b="1" lang="es-CL" sz="1800" spc="-1" strike="noStrike">
                <a:solidFill>
                  <a:srgbClr val="3333cc"/>
                </a:solidFill>
                <a:latin typeface="Arial"/>
              </a:rPr>
              <a:t>Ley 18.045 de Mercados de Valores (1981)</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49" name=""/>
          <p:cNvSpPr/>
          <p:nvPr/>
        </p:nvSpPr>
        <p:spPr>
          <a:xfrm>
            <a:off x="395280" y="981000"/>
            <a:ext cx="7777080" cy="56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BIBLIOGRAFI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SOCIEDADES.  Editorial Jurídica.  Puelma Acorsi Alvaro.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INSTITUCIONES DE DERECHO COMERCIAL.  Tomo I.  Lexis Nexis.  Contreras S. Osvald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TRATADO DE DERECHO COMERCIAL.  Lexis Nexis.  Baeza O. Gonzalo.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AS SOCIEDADES MERCANTILES ANTES DE LA DICTACION DEL CODIGO DE COMERCIO.  Editorial Puerto de Palos. Piwonka F. Gonzal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53" name=""/>
          <p:cNvSpPr/>
          <p:nvPr/>
        </p:nvSpPr>
        <p:spPr>
          <a:xfrm>
            <a:off x="395280" y="981000"/>
            <a:ext cx="7777080" cy="590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CEPTOS ACTUALES DE SOCIEDAD</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sociedad o compañía es un contrato en que dos o más personas estipulan poner algo en común con la mira de repartir entre sí los beneficios que de ello provengan”.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sociedad forma una persona jurídica distinta de los socios individualmente considerado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rtículo 2053 Código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sociedad anónima es una persona jurídica formada por la reunión de un fondo común, suministrado por accionistas responsables sólo por sus respectivos aportes y administrada por un directorio integrado por miembros esencialmente revocable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La sociedad anónima es siempre mercantil aún cuando se forme para la realización de negocios de carácter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rtículo I ley 18.046)</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57" name=""/>
          <p:cNvSpPr/>
          <p:nvPr/>
        </p:nvSpPr>
        <p:spPr>
          <a:xfrm>
            <a:off x="395280" y="981000"/>
            <a:ext cx="7777080" cy="544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MENTARIOS Y ANÁLISIS DE ESTAS DEFINICION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Contrato</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ersona jurídica</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ner algo en común</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Obtener beneficios</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Repartirlos</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Responsabilidad de los partícipes</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Administración de la sociedad</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Naturaleza civil o mercantil</a:t>
            </a:r>
            <a:endParaRPr b="0" lang="en-US" sz="1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61" name=""/>
          <p:cNvSpPr/>
          <p:nvPr/>
        </p:nvSpPr>
        <p:spPr>
          <a:xfrm>
            <a:off x="395280" y="981000"/>
            <a:ext cx="7777080" cy="36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L CONCEPTO DE  “AFFECTIO SOCIETATI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ociedades de persona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ociedades de capital</a:t>
            </a:r>
            <a:endParaRPr b="0" lang="en-US" sz="1800" spc="-1" strike="noStrike">
              <a:solidFill>
                <a:srgbClr val="000000"/>
              </a:solidFill>
              <a:latin typeface="Times New Roman"/>
            </a:endParaRPr>
          </a:p>
          <a:p>
            <a:pPr lvl="1" marL="914400" indent="-4572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ERSONALIDAD  JURIDICA DE LA SOCIEDA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Teorías</a:t>
            </a:r>
            <a:endParaRPr b="0" lang="en-US" sz="1800" spc="-1" strike="noStrike">
              <a:solidFill>
                <a:srgbClr val="000000"/>
              </a:solidFill>
              <a:latin typeface="Times New Roman"/>
            </a:endParaRPr>
          </a:p>
          <a:p>
            <a:pPr marL="457200" indent="-45720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65" name=""/>
          <p:cNvSpPr/>
          <p:nvPr/>
        </p:nvSpPr>
        <p:spPr>
          <a:xfrm>
            <a:off x="395280" y="981000"/>
            <a:ext cx="7777080" cy="6198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ANTECEDENTES HISTORICO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ROM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Organización de comunidad hereditaria: consorci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Societas omnium bonorum</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Unius rei</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Sociedades particulare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Sociedades argentarii</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MENTARIO (Alvaro Puelm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En Roma se conoció a la sociedad como un mero contrato </a:t>
            </a:r>
            <a:r>
              <a:rPr b="1" lang="es-CL" sz="1800" spc="-1" strike="noStrike">
                <a:solidFill>
                  <a:srgbClr val="3333cc"/>
                </a:solidFill>
                <a:latin typeface="Arial"/>
              </a:rPr>
              <a:t>	</a:t>
            </a:r>
            <a:r>
              <a:rPr b="1" lang="es-CL" sz="1800" spc="-1" strike="noStrike">
                <a:solidFill>
                  <a:srgbClr val="3333cc"/>
                </a:solidFill>
                <a:latin typeface="Arial"/>
              </a:rPr>
              <a:t>de vinculaba a los socios sin efectos frente a tercero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a:t>
            </a:r>
            <a:r>
              <a:rPr b="1" lang="es-CL" sz="1800" spc="-1" strike="noStrike">
                <a:solidFill>
                  <a:srgbClr val="3333cc"/>
                </a:solidFill>
                <a:latin typeface="Arial"/>
              </a:rPr>
              <a:t>	</a:t>
            </a:r>
            <a:r>
              <a:rPr b="1" lang="es-CL" sz="1800" spc="-1" strike="noStrike">
                <a:solidFill>
                  <a:srgbClr val="3333cc"/>
                </a:solidFill>
                <a:latin typeface="Arial"/>
              </a:rPr>
              <a:t>Se reconoce la obligación de aporte, el propósito de buscar </a:t>
            </a:r>
            <a:r>
              <a:rPr b="1" lang="es-CL" sz="1800" spc="-1" strike="noStrike">
                <a:solidFill>
                  <a:srgbClr val="3333cc"/>
                </a:solidFill>
                <a:latin typeface="Arial"/>
              </a:rPr>
              <a:t>	</a:t>
            </a:r>
            <a:r>
              <a:rPr b="1" lang="es-CL" sz="1800" spc="-1" strike="noStrike">
                <a:solidFill>
                  <a:srgbClr val="3333cc"/>
                </a:solidFill>
                <a:latin typeface="Arial"/>
              </a:rPr>
              <a:t>un beneficio y la distribución de utilidades y pérdidas</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69" name=""/>
          <p:cNvSpPr/>
          <p:nvPr/>
        </p:nvSpPr>
        <p:spPr>
          <a:xfrm>
            <a:off x="395280" y="981000"/>
            <a:ext cx="7777080" cy="5780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DAD MEDI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a Comend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ra un negocio en que el comendador lo encargaba o encomendaba a un tercero llamado tractor o ejecutor, quien bajo su responsabilidad realizaba negocios inicialmente en el comercio marítim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as Sociedades de Capital</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Se crean en el siglo XV principalmente en Italia y en Alemani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Moana        Monti        Gesllschaft der Schiffsfreund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Desarrollo posterior siglo XVIII</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ódigo de Comercio Francés  1807</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Inglaterra.  Joint Stock Compan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73" name=""/>
          <p:cNvSpPr/>
          <p:nvPr/>
        </p:nvSpPr>
        <p:spPr>
          <a:xfrm>
            <a:off x="395280" y="981000"/>
            <a:ext cx="7777080" cy="548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LEGISLACION ESPAÑOL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1.</a:t>
            </a:r>
            <a:r>
              <a:rPr b="1" lang="es-CL" sz="1800" spc="-1" strike="noStrike">
                <a:solidFill>
                  <a:srgbClr val="3333cc"/>
                </a:solidFill>
                <a:latin typeface="Arial"/>
              </a:rPr>
              <a:t>	</a:t>
            </a:r>
            <a:r>
              <a:rPr b="1" lang="es-CL" sz="1800" spc="-1" strike="noStrike">
                <a:solidFill>
                  <a:srgbClr val="3333cc"/>
                </a:solidFill>
                <a:latin typeface="Arial"/>
              </a:rPr>
              <a:t>Recopilación leyes de India 1680</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2.</a:t>
            </a:r>
            <a:r>
              <a:rPr b="1" lang="es-CL" sz="1800" spc="-1" strike="noStrike">
                <a:solidFill>
                  <a:srgbClr val="3333cc"/>
                </a:solidFill>
                <a:latin typeface="Arial"/>
              </a:rPr>
              <a:t>	</a:t>
            </a:r>
            <a:r>
              <a:rPr b="1" lang="es-CL" sz="1800" spc="-1" strike="noStrike">
                <a:solidFill>
                  <a:srgbClr val="3333cc"/>
                </a:solidFill>
                <a:latin typeface="Arial"/>
              </a:rPr>
              <a:t>Varias otras recopilacion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3.</a:t>
            </a:r>
            <a:r>
              <a:rPr b="1" lang="es-CL" sz="1800" spc="-1" strike="noStrike">
                <a:solidFill>
                  <a:srgbClr val="3333cc"/>
                </a:solidFill>
                <a:latin typeface="Arial"/>
              </a:rPr>
              <a:t>	</a:t>
            </a:r>
            <a:r>
              <a:rPr b="1" lang="es-CL" sz="1800" spc="-1" strike="noStrike">
                <a:solidFill>
                  <a:srgbClr val="3333cc"/>
                </a:solidFill>
                <a:latin typeface="Arial"/>
              </a:rPr>
              <a:t>Ordenanzas de Bilbao 1795</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CEPTOS DE COMPAÑÍ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Compañía, en términos de comercio es un contrato o convenio que se hace, o puede hacerse entre dos o más personas, en virtud del cual se obligan recíprocamente por cierto tiempo, y bajo ciertas condiciones, y pactos, a hacer, y proseguir juntamente varios negocios, por cuenta y riesgo común, de cada uno de los compañeros respectivamente, según, y en la parte que por el caudal o industria que cada uno ponga, le puedan pertenecer, así en las pérdidas, como en las ganancias, que al cabo del tiempo se asignaren, resultaren de tal Compañía”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Artículo Iº Ordenanza de Bilba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SOCIEDAD  ANÓNIMA</a:t>
            </a:r>
            <a:endParaRPr b="0" lang="en-US" sz="1800" spc="-1" strike="noStrike">
              <a:solidFill>
                <a:srgbClr val="000000"/>
              </a:solidFill>
              <a:latin typeface="Times New Roman"/>
            </a:endParaRPr>
          </a:p>
        </p:txBody>
      </p:sp>
      <p:sp>
        <p:nvSpPr>
          <p:cNvPr id="77" name=""/>
          <p:cNvSpPr/>
          <p:nvPr/>
        </p:nvSpPr>
        <p:spPr>
          <a:xfrm>
            <a:off x="395280" y="981000"/>
            <a:ext cx="777708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3333cc"/>
                </a:solidFill>
                <a:uFillTx/>
                <a:latin typeface="Arial"/>
              </a:rPr>
              <a:t>ANTECEDENTES SOBRE CHIL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3333cc"/>
                </a:solidFill>
                <a:uFillTx/>
                <a:latin typeface="Arial"/>
              </a:rPr>
              <a:t>Período Colonial</a:t>
            </a:r>
            <a:r>
              <a:rPr b="1" lang="es-CL" sz="1800" spc="-1" strike="noStrike">
                <a:solidFill>
                  <a:srgbClr val="3333cc"/>
                </a:solidFill>
                <a:latin typeface="Arial"/>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Chile no era Jauja, ni la tierra peruana de ese nombre ni la del mito.</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Jerónimo de Bibar escribe:  “no se vestían después que rompieron la ropa que trajeron, sino de pieles de raposas y de nutrias y de lobos marino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Pedro Mariño de Lobera, en su “Crónica del del Reino de Chile”, confirma:  “no más aventajados vestidos que bastimentos, pues los más pulidos y galanos eran de cuero de perros y otros animales semejantes, aderezándolos para eso según la necesidad, que es gran maestra, les enseñaba”.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Muy pronto se volverá proverbial lo de “guardaos, que os enviarán a Chi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 </a:t>
            </a:r>
            <a:r>
              <a:rPr b="1" lang="es-CL" sz="1800" spc="-1" strike="noStrike">
                <a:solidFill>
                  <a:srgbClr val="3333cc"/>
                </a:solidFill>
                <a:latin typeface="Arial"/>
              </a:rPr>
              <a:t>El incendio del 11 de septiembre de 1541 empeora la situ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pc</cp:lastModifiedBy>
  <dcterms:modified xsi:type="dcterms:W3CDTF">2009-03-16T22:07:50Z</dcterms:modified>
  <cp:revision>97</cp:revision>
  <dc:subject/>
  <dc:title>Diapositiva 1</dc:title>
</cp:coreProperties>
</file>