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6AAEE-0C8D-474F-96C4-263CBBD75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1D977-FC8F-45FD-A8EE-64A566B81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5C2BD-1D78-4DCC-8E6F-FDF63D5A2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CF11F-3BDA-41CB-B7A3-F14D19E70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E01A3D-05F3-4192-9323-175CDC316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5B76B-7875-4B81-89FE-7244AE10F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55D93-78CE-401D-AF33-4B25F1862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84A89-71F7-4641-B241-73A1B4F6D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BE88E-5B05-4B27-B70F-177D317DF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22B2D-A21D-448D-8C03-B78CDF4B8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5BC53-77BD-462E-BB79-43837F713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4CC79-9236-4D61-BBAD-16C018DDC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A80DD-9517-4751-8618-105439E24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EA250-8B49-40B8-B2DF-F659EB6AD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D4AFF-78A6-4844-91DC-D5035587A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E8913D-BE48-41C8-8B16-39FCB9B0A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40F8C-E7DB-428B-95AC-E40DE8F143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C3377E-C6EC-4ABC-920F-7820A3DCF3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C56A2B-E7B7-4A0C-955F-8C03E38C9F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B27CDC-CCF4-4589-85F2-660CBF49A2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28119E-F9CA-4AD2-BD23-79A210CCA3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B2F0EE-63E5-4A44-B613-A774191F05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8AC71-F099-45D8-9841-30722D519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5B6895-8079-4920-8F01-33DA65BEF6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6CDBA-6252-4983-8AB3-A2251ED578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74CD4-1D7F-4C18-9801-494128110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87856-2CCB-4913-94ED-84CC3BB54A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F596CB-4081-4F3B-8A23-61B5CDB326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12299B-C5BD-41A7-A451-D61981EBDF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EC7469-73B3-4186-9A2A-850F06C7A1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E609BE-679F-41A2-8775-E012314FFB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144259-5B7A-46ED-B7A1-03BBBC373C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68E5DF-6397-4DBC-8CA2-5CFB70B1F1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8FF04-C83B-4690-AA1F-38FD2F28B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1B7DA6-B774-4E36-9725-A8087B884F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C3344A-83AF-447F-AB86-79381404D7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CBDBFE-4218-4111-8B57-201E86C420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C3002D-E1CA-49F7-9421-C3A1252E1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926BF-FF99-4676-BD8B-491D8C9978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ADA1A2-CB95-41D6-9DBF-87CC02EE76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D48663-AA56-4691-BD6D-1364AB7F48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397D6B-05CA-4732-8161-A8C9472ACE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69C682-5691-4918-B5E9-393E977223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CF669-BE21-4B33-9D7C-0219404E8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769B1-72E8-4491-9738-EB3FE683E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127C6-70B4-40D0-A04D-B01149EF1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55306-7581-4B43-A8B8-0F335C89D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C26B9-C681-4ADF-808C-B6D556238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1FBE-2C5C-422F-9E7D-BF71D41C3733}"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35F5-84F1-4E8C-9133-0654E6CC11D2}"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85B2-3F84-476D-BC45-82F043A162C7}"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F910-CB00-4E83-916F-1850EA991747}"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4" descr=""/>
          <p:cNvPicPr/>
          <p:nvPr/>
        </p:nvPicPr>
        <p:blipFill>
          <a:blip r:embed="rId1"/>
          <a:stretch/>
        </p:blipFill>
        <p:spPr>
          <a:xfrm>
            <a:off x="530280" y="1365120"/>
            <a:ext cx="7943760" cy="189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4617b"/>
                </a:solidFill>
                <a:latin typeface="Calibri"/>
              </a:rPr>
              <a:t>Menciones esenciales de la E.P.:</a:t>
            </a:r>
            <a:endParaRPr b="0" lang="en-US" sz="4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Nombre, apellido, domicilio de los socio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apital, especificando el aporte-&gt;Importante en relación a repartir perdidas y utilidades en el silencio del estatuto.</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Domicilio-&gt;Competencia de los tribunal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Negocios sobre los cuales versa el giro. Para saber si es civil/comercial. Fija los poderes de los administrador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azón soci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ñalar que se limita la responsabilida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Las no esenciales no acarrean nulidad, son suplidas por la ley y se entienden como parte de la naturaleza del contra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Administración:</a:t>
            </a:r>
            <a:r>
              <a:rPr b="0" lang="es-ES" sz="5000" spc="-1" strike="noStrike">
                <a:solidFill>
                  <a:srgbClr val="04617b"/>
                </a:solidFill>
                <a:latin typeface="Calibri"/>
              </a:rPr>
              <a:t> </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racterístico de las sociedades de personas, todos los socios tienen derecho a ella. Pueden s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odos los soci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no o algunos de los soci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rcero extrañ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Razón social:</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Nombre de todos los socios + ltda.</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Nombre de algunos de los socios + cia ltda.</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Mención en relación al objeto social + cia ltda.</a:t>
            </a:r>
            <a:endParaRPr b="0" lang="en-US" sz="2800" spc="-1" strike="noStrike">
              <a:solidFill>
                <a:srgbClr val="000000"/>
              </a:solidFill>
              <a:latin typeface="Constantia"/>
            </a:endParaRPr>
          </a:p>
          <a:p>
            <a:pPr marL="272880" indent="-27288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i se omite la mención de ser “limitada” responden los socios solidariamente de las obligaciones social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uso de la razón social</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ra que se obligue a la socieda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 requieren facultad de administración. Se usa bajo la razón social indicando que se actúa por la sociedad. Si no, responde personalment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i socio no autorizado lo usa responde la soc. hasta concurrencia del beneficio.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i socio facultado la usa indebidamente, la sociedad responde frente a terceros de buena f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500" spc="-1" strike="noStrike">
                <a:solidFill>
                  <a:srgbClr val="04617b"/>
                </a:solidFill>
                <a:latin typeface="Calibri"/>
              </a:rPr>
              <a:t>Limitaciones al giro y su importancia</a:t>
            </a:r>
            <a:endParaRPr b="0" lang="en-US" sz="45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No podrán tener giro bancario –y los demás destinados exclusivamente a las sociedades anónimas, por ejemplo el comercio de seguros, las AFPs, las corredoras de bolsa etc.-.</a:t>
            </a:r>
            <a:endParaRPr b="0" lang="en-US" sz="2800" spc="-1" strike="noStrike">
              <a:solidFill>
                <a:srgbClr val="000000"/>
              </a:solidFill>
              <a:latin typeface="Constantia"/>
            </a:endParaRPr>
          </a:p>
          <a:p>
            <a:pPr marL="270000" indent="-270000" algn="just">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El giro determina: el tipo de sociedad, facultades de los administradores, obligación de los socios de no competir en él, que haya o no objeto ilícito y normativa tributaria aplicabl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Capacidad</a:t>
            </a:r>
            <a:r>
              <a:rPr b="1" lang="es-CO" sz="5000" spc="-1" strike="noStrike">
                <a:solidFill>
                  <a:srgbClr val="04617b"/>
                </a:solidFill>
                <a:latin typeface="Calibri"/>
              </a:rPr>
              <a: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Constantia"/>
              </a:rPr>
              <a:t>Menor adul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Comerciales: autorización judicial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Civiles: representado o por autorización de quien corresponda. En cuanto se aporten bienes raíces también requiere autorización judi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836640"/>
            <a:ext cx="8229600" cy="503064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ujer casada:</a:t>
            </a:r>
            <a:endParaRPr b="0" lang="en-US" sz="2600" spc="-1" strike="noStrike">
              <a:solidFill>
                <a:srgbClr val="000000"/>
              </a:solidFill>
              <a:latin typeface="Constantia"/>
            </a:endParaRPr>
          </a:p>
          <a:p>
            <a:pPr marL="272880" indent="-272880">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volución.</a:t>
            </a:r>
            <a:endParaRPr b="0" lang="en-US" sz="2600" spc="-1" strike="noStrike">
              <a:solidFill>
                <a:srgbClr val="000000"/>
              </a:solidFill>
              <a:latin typeface="Constantia"/>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ey 12.588/57-&gt;</a:t>
            </a:r>
            <a:r>
              <a:rPr b="0" lang="es-CO" sz="2400" spc="-1" strike="noStrike">
                <a:solidFill>
                  <a:srgbClr val="000000"/>
                </a:solidFill>
                <a:latin typeface="Constantia"/>
              </a:rPr>
              <a:t>A la mujer totalmente separada de bienes o de manera parcial convencionalmente y a la que desempeñaba un trabajo independiente del marido, en virtud de su patrimonio reservado, se le permitió celebrar el contrato de sociedad sin necesidad de autorización, pero en relación a ese patrimonio independiente.</a:t>
            </a:r>
            <a:r>
              <a:rPr b="0" lang="es-E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836280"/>
            <a:ext cx="8229600" cy="5289480"/>
          </a:xfrm>
          <a:prstGeom prst="rect">
            <a:avLst/>
          </a:prstGeom>
          <a:noFill/>
          <a:ln w="0">
            <a:noFill/>
          </a:ln>
        </p:spPr>
        <p:txBody>
          <a:bodyPr lIns="90000" rIns="90000" tIns="46800" bIns="46800" anchor="t">
            <a:normAutofit/>
          </a:bodyPr>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ey 18.802/89: </a:t>
            </a:r>
            <a:r>
              <a:rPr b="0" lang="es-CO" sz="2400" spc="-1" strike="noStrike">
                <a:solidFill>
                  <a:srgbClr val="000000"/>
                </a:solidFill>
                <a:latin typeface="Constantia"/>
              </a:rPr>
              <a:t>mujer casada y no separada totalmente de bienes es plenamente capaz, por lo que algunos autores consideran irrelevante hoy en día hacer la distinción.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	</a:t>
            </a:r>
            <a:r>
              <a:rPr b="0" lang="es-CO" sz="2400" spc="-1" strike="noStrike">
                <a:solidFill>
                  <a:srgbClr val="000000"/>
                </a:solidFill>
                <a:latin typeface="Constantia"/>
              </a:rPr>
              <a:t>Para otros, la mujer casada no separada de bienes, requiere la concurrencia al acto del marido como administrador de la sociedad conyugal, la que podrá ser forzada judicialmente si se niega sin causa.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5000" spc="-1" strike="noStrike">
                <a:solidFill>
                  <a:srgbClr val="04617b"/>
                </a:solidFill>
                <a:latin typeface="Calibri"/>
              </a:rPr>
              <a:t>La responsabilidad:</a:t>
            </a:r>
            <a:r>
              <a:rPr b="0" lang="es-CO" sz="5000" spc="-1" strike="noStrike">
                <a:solidFill>
                  <a:srgbClr val="04617b"/>
                </a:solidFill>
                <a:latin typeface="Calibri"/>
              </a:rPr>
              <a:t> </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imitada al aporte o suma superior que designe. Antiguos arts. 455 y 456 C. Com. Hoy derogados, pero incorporados expresamente en la ley 3918.</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Los socios no son responsables prácticamente.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oncepto</a:t>
            </a:r>
            <a:endParaRPr b="0" lang="en-US" sz="5000" spc="-1" strike="noStrike">
              <a:solidFill>
                <a:srgbClr val="04617b"/>
              </a:solidFill>
              <a:latin typeface="Calibri"/>
            </a:endParaRPr>
          </a:p>
        </p:txBody>
      </p:sp>
      <p:sp>
        <p:nvSpPr>
          <p:cNvPr id="19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está definida en la le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Es una sociedad solemne, de personas, con personalidad jurídica, sin fiscalización especial interna o externa. Con libertad para establecer la administración y representación. –Puelma Accorsi-.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	</a:t>
            </a:r>
            <a:r>
              <a:rPr b="0" lang="es-CO" sz="2400" spc="-1" strike="noStrike">
                <a:solidFill>
                  <a:srgbClr val="000000"/>
                </a:solidFill>
                <a:latin typeface="Constantia"/>
              </a:rPr>
              <a:t>En la que todos los socios administran por sí o por mandatarios elegidos de común acuerdo y en que la responsabilidad de los socios está limitada por el monto del aporte o la suma superior que pactaren. -Sandoval-. Es decir no responden personalmente y sus derechos están representados por una cuot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1000080"/>
            <a:ext cx="2571480" cy="828720"/>
          </a:xfrm>
          <a:prstGeom prst="rect">
            <a:avLst/>
          </a:prstGeom>
          <a:noFill/>
          <a:ln w="0">
            <a:noFill/>
          </a:ln>
        </p:spPr>
        <p:txBody>
          <a:bodyPr lIns="0" rIns="0" tIns="46800" bIns="0" anchor="b">
            <a:noAutofit/>
          </a:bodyPr>
          <a:p>
            <a:pPr>
              <a:buClr>
                <a:srgbClr val="0461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4617b"/>
                </a:solidFill>
                <a:latin typeface="Calibri"/>
              </a:rPr>
              <a:t>Nulidad:</a:t>
            </a:r>
            <a:r>
              <a:rPr b="0" lang="es-CO" sz="5000" spc="-1" strike="noStrike">
                <a:solidFill>
                  <a:srgbClr val="04617b"/>
                </a:solidFill>
                <a:latin typeface="Calibri"/>
              </a:rPr>
              <a:t> </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Será diferente según el hecho que la origina.</a:t>
            </a:r>
            <a:endParaRPr b="0" lang="en-US" sz="2000" spc="-1" strike="noStrike">
              <a:solidFill>
                <a:srgbClr val="000000"/>
              </a:solidFill>
              <a:latin typeface="Constantia"/>
            </a:endParaRPr>
          </a:p>
          <a:p>
            <a:pPr lvl="1" marL="639720" indent="-245880" algn="just">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Si es nula la E.P. de hecho se constituye como comunidad en que se regulan las perdidas según lo pactado y si no lo está subsidiariamente la legislación de sociedad colectiva. No es saneable, es de pleno derecho.</a:t>
            </a:r>
            <a:endParaRPr b="0" lang="en-US" sz="2000" spc="-1" strike="noStrike">
              <a:solidFill>
                <a:srgbClr val="000000"/>
              </a:solidFill>
              <a:latin typeface="Constantia"/>
            </a:endParaRPr>
          </a:p>
          <a:p>
            <a:pPr lvl="1" marL="639720" indent="-245880" algn="just">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Si la nulidad sucede, por vicios distintos a la E.P. que cumple requisitos, hay personalidad jurídica. Queda sujeta en términos generales a la responsabilidad de la colectiva  comercial. Pero los plazos de prescripción varían:</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	</a:t>
            </a:r>
            <a:r>
              <a:rPr b="0" lang="es-CO" sz="2000" spc="-1" strike="noStrike">
                <a:solidFill>
                  <a:srgbClr val="000000"/>
                </a:solidFill>
                <a:latin typeface="Constantia"/>
              </a:rPr>
              <a:t>-Casos del Art. 6</a:t>
            </a:r>
            <a:r>
              <a:rPr b="0" lang="es-ES" sz="2000" spc="-1" strike="noStrike">
                <a:solidFill>
                  <a:srgbClr val="000000"/>
                </a:solidFill>
                <a:latin typeface="Constantia"/>
              </a:rPr>
              <a:t>º ley 19499-&gt; </a:t>
            </a:r>
            <a:r>
              <a:rPr b="0" lang="es-CO" sz="2000" spc="-1" strike="noStrike">
                <a:solidFill>
                  <a:srgbClr val="000000"/>
                </a:solidFill>
                <a:latin typeface="Constantia"/>
              </a:rPr>
              <a:t>2 años</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Nulidad relativa-&gt; 4 años </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Nulidad absoluta comercial-&gt; 4 años </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Nulidad absoluta civil-&gt; 10 años</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33" name="Rectangle 2"/>
          <p:cNvSpPr/>
          <p:nvPr/>
        </p:nvSpPr>
        <p:spPr>
          <a:xfrm>
            <a:off x="42876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071360"/>
            <a:ext cx="8229600" cy="4795560"/>
          </a:xfrm>
          <a:prstGeom prst="rect">
            <a:avLst/>
          </a:prstGeom>
          <a:noFill/>
          <a:ln w="0">
            <a:noFill/>
          </a:ln>
        </p:spPr>
        <p:txBody>
          <a:bodyPr lIns="90000" rIns="90000" tIns="46800" bIns="46800" anchor="t">
            <a:normAutofit/>
          </a:bodyPr>
          <a:p>
            <a:pPr lvl="1" marL="639720" indent="-245880" algn="just">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Nulidad civil art. 2058 no puede perjudicar a terceros de buena fe. No hay más regulación en el C.C.</a:t>
            </a:r>
            <a:endParaRPr b="0" lang="en-US" sz="2400" spc="-1" strike="noStrike">
              <a:solidFill>
                <a:srgbClr val="000000"/>
              </a:solidFill>
              <a:latin typeface="Constantia"/>
            </a:endParaRPr>
          </a:p>
          <a:p>
            <a:pPr lvl="1" marL="639720" indent="-245880" algn="just">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La nulidad no procede mientras no se declare y si está inscrita y publicada dentro de plazo, los actos realizados serán válidos hasta tanto no se declare la nulidad. No produce efecto retroactivo la declaración. Producirá efectos una vez ejecutoriada la resolución que la decla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Origen y aparición en Derecho Comparado</a:t>
            </a:r>
            <a:endParaRPr b="0" lang="en-US" sz="36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Derecho alemán. 1892.</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Similar a las private companies del Derecho inglés, que son anteriore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n USA no están reguladas. Similares a las S.A. cerradas, con limitación de cesión de derechos sociale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En Chile por indicación de Claro Solar, senador  en la época. Se aprobó el 14 de marzo 1923. Ley 3918.</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azón de ser</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Limitar la responsabilidad de los socios al monto del aporte o suma superior que pactaran, reduciendo para él los riesgos. Motivar asimismo el emprendimien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Reducir los costos que implica la estructura misma de una sociedad de capital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4617b"/>
                </a:solidFill>
                <a:latin typeface="Calibri"/>
              </a:rPr>
              <a:t>Tendencias en derecho comparado:</a:t>
            </a:r>
            <a:endParaRPr b="0" lang="en-US" sz="4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Corriente alemana. Sociedad de capital, porque cada socio tiene una cuota de propiedad no es un titulo valor transable públicamente, pero si en venta privada sin consentimiento de los otros, salvo estipulación expresa en el estatuto.</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Grupo inglés. También de capitales, las cuotas se llaman acciones –shares- pero no son tampoco transables. Parecida a la alemana. Diferencia de la sociedad alemana, no en cuanto  a ella sino a normativas relativas aplicables. Se refiere al ultra vires, trust y widing up.</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Grupo de sociedad colectiva. Está Chile. Se le considera de personas en que los socios no responden por las obligaciones sociales. Se aplican principalmente normas de la soc. col. salvo materias específicas.</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Caso francés es intermedio-&gt;No se puede prohibir libre cesibilidad. Pero no se puede ceder a terceros extraños a la soc. sino por acuerdo de los ¾ de los socio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4617b"/>
                </a:solidFill>
                <a:latin typeface="Calibri"/>
              </a:rPr>
              <a:t>Características de la Sociedad de Responsabilidad Limitada chilena:</a:t>
            </a:r>
            <a:endParaRPr b="0" lang="en-US" sz="36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ducida cantidad de socios –máx. 50-.</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Capital determinado por los aportes como garantía de los acreedor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No responsabilidad de los socios frente a terceros por las obligaciones socia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s de personas –no intuito persona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No hay libertad para ceder los derechos sociales. Se puede por acuerdo de todos los socios y mediante reforma de los estatutos.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No se puede captar capital en oferta pública, ni se pueden vender allí los derechos socia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t>
            </a:r>
            <a:r>
              <a:rPr b="0" lang="es-ES" sz="2000" spc="-1" strike="noStrike">
                <a:solidFill>
                  <a:srgbClr val="000000"/>
                </a:solidFill>
                <a:latin typeface="Constantia"/>
              </a:rPr>
              <a:t>La legislación propia es muy reducida. -5 artículos-.</a:t>
            </a:r>
            <a:r>
              <a:rPr b="1" lang="es-E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t>
            </a:r>
            <a:r>
              <a:rPr b="0" lang="es-ES" sz="2000" spc="-1" strike="noStrike">
                <a:solidFill>
                  <a:srgbClr val="000000"/>
                </a:solidFill>
                <a:latin typeface="Constantia"/>
              </a:rPr>
              <a:t>Libertad de administración y represent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Legislación aplicable:</a:t>
            </a:r>
            <a:r>
              <a:rPr b="0" lang="es-ES" sz="5000" spc="-1" strike="noStrike">
                <a:solidFill>
                  <a:srgbClr val="04617b"/>
                </a:solidFill>
                <a:latin typeface="Calibri"/>
              </a:rPr>
              <a:t> </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609480" indent="-609480">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ey 3918.</a:t>
            </a:r>
            <a:endParaRPr b="0" lang="en-US" sz="2600" spc="-1" strike="noStrike">
              <a:solidFill>
                <a:srgbClr val="000000"/>
              </a:solidFill>
              <a:latin typeface="Constantia"/>
            </a:endParaRPr>
          </a:p>
          <a:p>
            <a:pPr marL="609480" indent="-609480">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tuto Social.</a:t>
            </a:r>
            <a:endParaRPr b="0" lang="en-US" sz="2600" spc="-1" strike="noStrike">
              <a:solidFill>
                <a:srgbClr val="000000"/>
              </a:solidFill>
              <a:latin typeface="Constantia"/>
            </a:endParaRPr>
          </a:p>
          <a:p>
            <a:pPr marL="609480" indent="-609480">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rmativa sobre sociedades colectivas aplicable. Sea civil o comercial.</a:t>
            </a:r>
            <a:endParaRPr b="0" lang="en-US" sz="2600" spc="-1" strike="noStrike">
              <a:solidFill>
                <a:srgbClr val="000000"/>
              </a:solidFill>
              <a:latin typeface="Constantia"/>
            </a:endParaRPr>
          </a:p>
          <a:p>
            <a:pPr marL="609480" indent="-609480">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es mixta se régira por la normativa aplicable a la comer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Constitución:</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Contrato Solemne.</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evado a E. P.</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xtracto de la E.P. inscrito en el Registro de Comercio del dom. social. (60 d.)</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Publicación del extracto en el Diario Oficial.(60 d.)</a:t>
            </a:r>
            <a:endParaRPr b="0" lang="en-US" sz="2800" spc="-1" strike="noStrike">
              <a:solidFill>
                <a:srgbClr val="000000"/>
              </a:solidFill>
              <a:latin typeface="Constantia"/>
            </a:endParaRPr>
          </a:p>
          <a:p>
            <a:pPr marL="272880" indent="-272880">
              <a:lnSpc>
                <a:spcPct val="8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En las modificaciones y demás actos solemnes del art. 350 C. Com. se debe proceder de la misma manera. No requieren publicación.</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xtracto</a:t>
            </a:r>
            <a:endParaRPr b="0" lang="en-US" sz="5000" spc="-1" strike="noStrike">
              <a:solidFill>
                <a:srgbClr val="04617b"/>
              </a:solidFill>
              <a:latin typeface="Calibri"/>
            </a:endParaRPr>
          </a:p>
        </p:txBody>
      </p:sp>
      <p:sp>
        <p:nvSpPr>
          <p:cNvPr id="211" name=""/>
          <p:cNvSpPr txBox="1"/>
          <p:nvPr/>
        </p:nvSpPr>
        <p:spPr>
          <a:xfrm>
            <a:off x="457200" y="1981080"/>
            <a:ext cx="8229600" cy="138456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quisitos 354 del C. de Comercio.</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ención de ser limitada la responsabilidad social. </a:t>
            </a:r>
            <a:endParaRPr b="0" lang="en-US" sz="2800" spc="-1" strike="noStrike">
              <a:solidFill>
                <a:srgbClr val="000000"/>
              </a:solidFill>
              <a:latin typeface="Constantia"/>
            </a:endParaRPr>
          </a:p>
        </p:txBody>
      </p:sp>
      <p:sp>
        <p:nvSpPr>
          <p:cNvPr id="212" name="Rectangle 4"/>
          <p:cNvSpPr/>
          <p:nvPr/>
        </p:nvSpPr>
        <p:spPr>
          <a:xfrm>
            <a:off x="395280" y="3068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ublicación</a:t>
            </a:r>
            <a:endParaRPr b="0" lang="en-US" sz="4400" spc="-1" strike="noStrike">
              <a:solidFill>
                <a:srgbClr val="000000"/>
              </a:solidFill>
              <a:latin typeface="Arial"/>
            </a:endParaRPr>
          </a:p>
        </p:txBody>
      </p:sp>
      <p:sp>
        <p:nvSpPr>
          <p:cNvPr id="213" name="Rectangle 5"/>
          <p:cNvSpPr/>
          <p:nvPr/>
        </p:nvSpPr>
        <p:spPr>
          <a:xfrm>
            <a:off x="500040" y="4214880"/>
            <a:ext cx="8229600" cy="161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bf5f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tracto autorizado por notario donde se otorgó la escri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22:34:37Z</dcterms:created>
  <dc:creator>Referencia32</dc:creator>
  <dc:description/>
  <dc:language>en-US</dc:language>
  <cp:lastModifiedBy>Juan Camilo</cp:lastModifiedBy>
  <dcterms:modified xsi:type="dcterms:W3CDTF">2009-07-29T05:18:24Z</dcterms:modified>
  <cp:revision>30</cp:revision>
  <dc:subject/>
  <dc:title>Sociedad de responsabilidad Limitada</dc:title>
</cp:coreProperties>
</file>