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BFE5D-4502-48C4-B203-816F8462D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A5141-EA35-45EC-BE64-F3674C3BA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999EF-4A79-4733-88CC-AED29C6B7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4599F-5AC0-43DE-A6F6-0131EE314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A2770-039C-4D25-B548-9D128FBC9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66FFE-5A95-4629-8064-54C574E01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3D9E8-B3F9-4F0C-B7B9-30313CB5E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FE52F-5A67-4514-9381-031E82BD7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89729-6C7B-407B-B738-639D0FA07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9766F-327D-41EA-9416-08FBB8E60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4B075-E93B-4D4F-88AD-F3ABF0C22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4761A-669E-419F-B29F-FE060BB6D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16E3B-AE54-4DF8-B1E5-ABE47453B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1CD2F-B9DD-43E7-9856-8BF20CF2B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51C78-58D2-425D-ABA2-5679E42F9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3FE6B-3A92-43D0-964C-338E170F6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8D588-64D1-4942-8D4D-5EFE1F510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6B4532-2B99-4EB1-8B82-7CB11DA18F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62C7A-3519-48A2-9CFA-76287D25E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72FB2-2BAA-411C-BD7E-5E5EB5BDA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6BC10B-E4C2-4AF5-A45C-94D24714A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1CA3E0-AC8B-4DCA-9818-8AA00C8CE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21D10-9BF6-4BB3-92A4-E3529F822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AB446-EA4C-4BB0-B749-C4FC35046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79A93-0523-4642-8F21-D0844679F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CFD79-8832-46AC-A8B1-7B891BC9A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2F664-53F2-4E51-A8F9-49754B444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4C854-6D34-4EAC-BE9C-564AC2A58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8A7362-23A4-433A-B32A-780431B2CA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EBF6AF-0DCF-41B1-A6F1-496215D992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54299A-83E3-4257-B144-13580470F0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2D6BD-4852-4308-AEF8-AC1A20FC2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5828D-5D67-49B2-9D26-9DBBE6655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68575-933E-41E6-A281-7F545EDA4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868C1-A675-416A-B141-99BEE13DEA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0EA601-206F-4771-B3AA-913427CD5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41140-2837-452B-8A50-66C3DEAAC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6ED82F-C37C-4613-9D18-3641FCAE7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5F118-7C66-493B-8C94-06202A026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C4C96-814C-4103-B3B0-BB1CCF62C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FD0C6-BFF4-4FF1-9131-C2273830C9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9ED485-A9CE-421E-B98D-4D6ABAF06B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CC62EA-EBEF-4482-B6D9-EF1264FAB5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51252-F7C0-4B1C-9B31-36549DEF7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229EE-EC4F-4A7C-B12F-B7E280CA0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BC03-CCFA-493D-B6E1-F571AE269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BB5F6-4F29-4309-A3D2-3FAACF770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F6546-EA5B-44F1-B275-1C436477F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D0D9-3019-4877-8368-0EC7C7237F7D}"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D806-B000-41E3-BC4E-A383495F0D33}"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1814-8C24-4AFD-A13C-AF5C10BEA25A}"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EE05-BC2A-4F8D-8F45-4675C2BECB70}"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4" descr=""/>
          <p:cNvPicPr/>
          <p:nvPr/>
        </p:nvPicPr>
        <p:blipFill>
          <a:blip r:embed="rId1"/>
          <a:stretch/>
        </p:blipFill>
        <p:spPr>
          <a:xfrm>
            <a:off x="530280" y="1365120"/>
            <a:ext cx="7943760" cy="189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4617b"/>
                </a:solidFill>
                <a:latin typeface="Calibri"/>
              </a:rPr>
              <a:t>Menciones esenciales de la E.P.:</a:t>
            </a:r>
            <a:endParaRPr b="0" lang="en-US" sz="4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ombre, apellido, domicilio de los soci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apital, especificando el aporte-&gt;Importante en relación a repartir perdidas y utilidades en el silencio del estatuto.</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omicilio-&gt;Competencia de los tribunal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egocios sobre los cuales versa el giro. Para saber si es civil/comercial. Fija los poderes de los administrador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azón soci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ñalar que se limita la responsabilida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as no esenciales no acarrean nulidad, son suplidas por la ley y se entienden como parte de la naturaleza del contra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Administración:</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racterístico de las sociedades de personas, todos los socios tienen derecho a ella. Pueden s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odos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o o algunos de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rcero extr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Razón social:</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todos los socios +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algunos de los socios + cia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Mención en relación al objeto social + cia ltda.</a:t>
            </a:r>
            <a:endParaRPr b="0" lang="en-US" sz="2800" spc="-1" strike="noStrike">
              <a:solidFill>
                <a:srgbClr val="000000"/>
              </a:solidFill>
              <a:latin typeface="Constantia"/>
            </a:endParaRPr>
          </a:p>
          <a:p>
            <a:pPr marL="272880" indent="-2728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i se omite la mención de ser “limitada” responden los socios solidariamente de las obligaciones socia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uso de la razón social</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que se obligue a la socieda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 requieren facultad de administración. Se usa bajo la razón social indicando que se actúa por la sociedad. Si no, responde personalmen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no autorizado lo usa responde la soc. hasta concurrencia del beneficio.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facultado la usa indebidamente, la sociedad responde frente a terceros de buena f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500" spc="-1" strike="noStrike">
                <a:solidFill>
                  <a:srgbClr val="04617b"/>
                </a:solidFill>
                <a:latin typeface="Calibri"/>
              </a:rPr>
              <a:t>Limitaciones al giro y su importancia</a:t>
            </a:r>
            <a:endParaRPr b="0" lang="en-US" sz="45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No podrán tener giro bancario –y los demás destinados exclusivamente a las sociedades anónimas, por ejemplo el comercio de seguros, las AFPs, las corredoras de bolsa etc.-.</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l giro determina: el tipo de sociedad, facultades de los administradores, obligación de los socios de no competir en él, que haya o no objeto ilícito y normativa tributaria aplicabl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Capacidad</a:t>
            </a:r>
            <a:r>
              <a:rPr b="1" lang="es-CO" sz="5000" spc="-1" strike="noStrike">
                <a:solidFill>
                  <a:srgbClr val="04617b"/>
                </a:solidFill>
                <a:latin typeface="Calibri"/>
              </a:rPr>
              <a: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onstantia"/>
              </a:rPr>
              <a:t>Menor adul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omerciales: autorización judicia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iviles: representado o por autorización de quien corresponda. En cuanto se aporten bienes raíces también requiere autorización judi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836640"/>
            <a:ext cx="8229600" cy="50306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ujer casada:</a:t>
            </a:r>
            <a:endParaRPr b="0" lang="en-US" sz="2600" spc="-1" strike="noStrike">
              <a:solidFill>
                <a:srgbClr val="000000"/>
              </a:solidFill>
              <a:latin typeface="Constantia"/>
            </a:endParaRPr>
          </a:p>
          <a:p>
            <a:pPr marL="272880" indent="-2728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volución.</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2.588/57-&gt;</a:t>
            </a:r>
            <a:r>
              <a:rPr b="0" lang="es-CO" sz="2400" spc="-1" strike="noStrike">
                <a:solidFill>
                  <a:srgbClr val="000000"/>
                </a:solidFill>
                <a:latin typeface="Constantia"/>
              </a:rPr>
              <a:t>A la mujer totalmente separada de bienes o de manera parcial convencionalmente y a la que desempeñaba un trabajo independiente del marido, en virtud de su patrimonio reservado, se le permitió celebrar el contrato de sociedad sin necesidad de autorización, pero en relación a ese patrimonio independiente.</a:t>
            </a: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836280"/>
            <a:ext cx="8229600" cy="5289480"/>
          </a:xfrm>
          <a:prstGeom prst="rect">
            <a:avLst/>
          </a:prstGeom>
          <a:noFill/>
          <a:ln w="0">
            <a:noFill/>
          </a:ln>
        </p:spPr>
        <p:txBody>
          <a:bodyPr lIns="90000" rIns="90000" tIns="46800" bIns="46800" anchor="t">
            <a:normAutofit/>
          </a:bodyPr>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8.802/89: </a:t>
            </a:r>
            <a:r>
              <a:rPr b="0" lang="es-CO" sz="2400" spc="-1" strike="noStrike">
                <a:solidFill>
                  <a:srgbClr val="000000"/>
                </a:solidFill>
                <a:latin typeface="Constantia"/>
              </a:rPr>
              <a:t>mujer casada y no separada totalmente de bienes es plenamente capaz, por lo que algunos autores consideran irrelevante hoy en día hacer la distinción.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Para otros, la mujer casada no separada de bienes, requiere la concurrencia al acto del marido como administrador de la sociedad conyugal, la que podrá ser forzada judicialmente si se niega sin caus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000" spc="-1" strike="noStrike">
                <a:solidFill>
                  <a:srgbClr val="04617b"/>
                </a:solidFill>
                <a:latin typeface="Calibri"/>
              </a:rPr>
              <a:t>La responsabi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imitada al aporte o suma superior que designe. Antiguos arts. 455 y 456 C. Com. Hoy derogados, pero incorporados expresamente en la ley 3918.</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os socios no son responsables prácticament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oncepto</a:t>
            </a:r>
            <a:endParaRPr b="0" lang="en-US" sz="5000" spc="-1" strike="noStrike">
              <a:solidFill>
                <a:srgbClr val="04617b"/>
              </a:solidFill>
              <a:latin typeface="Calibri"/>
            </a:endParaRPr>
          </a:p>
        </p:txBody>
      </p:sp>
      <p:sp>
        <p:nvSpPr>
          <p:cNvPr id="1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stá definida en la le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Es una sociedad solemne, de personas, con personalidad jurídica, sin fiscalización especial interna o externa. Con libertad para establecer la administración y representación. –Puelma Accorsi-.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En la que todos los socios administran por sí o por mandatarios elegidos de común acuerdo y en que la responsabilidad de los socios está limitada por el monto del aporte o la suma superior que pactaren. -Sandoval-. Es decir no responden personalmente y sus derechos están representados por una cuot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1000080"/>
            <a:ext cx="2571480" cy="828720"/>
          </a:xfrm>
          <a:prstGeom prst="rect">
            <a:avLst/>
          </a:prstGeom>
          <a:noFill/>
          <a:ln w="0">
            <a:noFill/>
          </a:ln>
        </p:spPr>
        <p:txBody>
          <a:bodyPr lIns="0" rIns="0" tIns="46800" bIns="0" anchor="b">
            <a:noAutofit/>
          </a:bodyPr>
          <a:p>
            <a:pPr>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4617b"/>
                </a:solidFill>
                <a:latin typeface="Calibri"/>
              </a:rPr>
              <a:t>Nu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erá diferente según el hecho que la origina.</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es nula la E.P. de hecho se constituye como comunidad en que se regulan las perdidas según lo pactado y si no lo está subsidiariamente la legislación de sociedad colectiva. No es saneable, es de pleno derecho.</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la nulidad sucede, por vicios distintos a la E.P. que cumple requisitos, hay personalidad jurídica. Queda sujeta en términos generales a la responsabilidad de la colectiva  comercial. Pero los plazos de prescripción varían:</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	</a:t>
            </a:r>
            <a:r>
              <a:rPr b="0" lang="es-CO" sz="2000" spc="-1" strike="noStrike">
                <a:solidFill>
                  <a:srgbClr val="000000"/>
                </a:solidFill>
                <a:latin typeface="Constantia"/>
              </a:rPr>
              <a:t>-Casos del Art. 6</a:t>
            </a:r>
            <a:r>
              <a:rPr b="0" lang="es-ES" sz="2000" spc="-1" strike="noStrike">
                <a:solidFill>
                  <a:srgbClr val="000000"/>
                </a:solidFill>
                <a:latin typeface="Constantia"/>
              </a:rPr>
              <a:t>º ley 19499-&gt; </a:t>
            </a:r>
            <a:r>
              <a:rPr b="0" lang="es-CO" sz="2000" spc="-1" strike="noStrike">
                <a:solidFill>
                  <a:srgbClr val="000000"/>
                </a:solidFill>
                <a:latin typeface="Constantia"/>
              </a:rPr>
              <a:t>2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relativa-&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omercial-&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ivil-&gt; 10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33" name="Rectangle 2"/>
          <p:cNvSpPr/>
          <p:nvPr/>
        </p:nvSpPr>
        <p:spPr>
          <a:xfrm>
            <a:off x="42876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071360"/>
            <a:ext cx="8229600" cy="4795560"/>
          </a:xfrm>
          <a:prstGeom prst="rect">
            <a:avLst/>
          </a:prstGeom>
          <a:noFill/>
          <a:ln w="0">
            <a:noFill/>
          </a:ln>
        </p:spPr>
        <p:txBody>
          <a:bodyPr lIns="90000" rIns="90000" tIns="46800" bIns="46800" anchor="t">
            <a:normAutofit/>
          </a:bodyPr>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Nulidad civil art. 2058 no puede perjudicar a terceros de buena fe. No hay más regulación en el C.C.</a:t>
            </a:r>
            <a:endParaRPr b="0" lang="en-US" sz="2400" spc="-1" strike="noStrike">
              <a:solidFill>
                <a:srgbClr val="000000"/>
              </a:solidFill>
              <a:latin typeface="Constantia"/>
            </a:endParaRPr>
          </a:p>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La nulidad no procede mientras no se declare y si está inscrita y publicada dentro de plazo, los actos realizados serán válidos hasta tanto no se declare la nulidad. No produce efecto retroactivo la declaración. Producirá efectos una vez ejecutoriada la resolución que la decla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Origen y aparición en Derecho Comparado</a:t>
            </a:r>
            <a:endParaRPr b="0" lang="en-US" sz="36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Derecho alemán. 1892.</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Similar a las private companies del Derecho inglés, que son anterior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USA no están reguladas. Similares a las S.A. cerradas, con limitación de cesión de derechos social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Chile por indicación de Claro Solar, senador  en la época. Se aprobó el 14 de marzo 1923. Ley 3918.</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azón de ser</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imitar la responsabilidad de los socios al monto del aporte o suma superior que pactaran, reduciendo para él los riesgos. Motivar asimismo el emprendi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Reducir los costos que implica la estructura misma de una sociedad de capita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4617b"/>
                </a:solidFill>
                <a:latin typeface="Calibri"/>
              </a:rPr>
              <a:t>Tendencias en derecho comparado:</a:t>
            </a:r>
            <a:endParaRPr b="0" lang="en-US" sz="4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orriente alemana. Sociedad de capital, porque cada socio tiene una cuota de propiedad no es un titulo valor transable públicamente, pero si en venta privada sin consentimiento de los otros, salvo estipulación expresa en el estatuto.</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inglés. También de capitales, las cuotas se llaman acciones –shares- pero no son tampoco transables. Parecida a la alemana. Diferencia de la sociedad alemana, no en cuanto  a ella sino a normativas relativas aplicables. Se refiere al ultra vires, trust y widing up.</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de sociedad colectiva. Está Chile. Se le considera de personas en que los socios no responden por las obligaciones sociales. Se aplican principalmente normas de la soc. col. salvo materias específicas.</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aso francés es intermedio-&gt;No se puede prohibir libre cesibilidad. Pero no se puede ceder a terceros extraños a la soc. sino por acuerdo de los ¾ de los socio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Características de la Sociedad de Responsabilidad Limitada chilena:</a:t>
            </a:r>
            <a:endParaRPr b="0" lang="en-US" sz="36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ducida cantidad de socios –máx. 50-.</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apital determinado por los aportes como garantía de los acreedor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responsabilidad de los socios frente a terceros por las obligacione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s de personas –no intuito persona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hay libertad para ceder los derechos sociales. Se puede por acuerdo de todos los socios y mediante reforma de los estatuto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se puede captar capital en oferta pública, ni se pueden vender allí los derecho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a legislación propia es muy reducida. -5 artículos-.</a:t>
            </a:r>
            <a:r>
              <a:rPr b="1" lang="es-E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ibertad de administración y represent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Legislación aplicable:</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ey 3918.</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tuto Social.</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rmativa sobre sociedades colectivas aplicable. Sea civil o comercial.</a:t>
            </a:r>
            <a:endParaRPr b="0" lang="en-US" sz="2600" spc="-1" strike="noStrike">
              <a:solidFill>
                <a:srgbClr val="000000"/>
              </a:solidFill>
              <a:latin typeface="Constantia"/>
            </a:endParaRPr>
          </a:p>
          <a:p>
            <a:pPr marL="609480" indent="-6094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s mixta se régira por la normativa aplicable a la comer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Constitu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trato Solemn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evado a E. P.</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xtracto de la E.P. inscrito en el Registro de Comercio del dom. social. (60 d.)</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Publicación del extracto en el Diario Oficial.(60 d.)</a:t>
            </a:r>
            <a:endParaRPr b="0" lang="en-US" sz="2800" spc="-1" strike="noStrike">
              <a:solidFill>
                <a:srgbClr val="000000"/>
              </a:solidFill>
              <a:latin typeface="Constantia"/>
            </a:endParaRPr>
          </a:p>
          <a:p>
            <a:pPr marL="272880" indent="-2728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las modificaciones y demás actos solemnes del art. 350 C. Com. se debe proceder de la misma manera. No requieren public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xtracto</a:t>
            </a:r>
            <a:endParaRPr b="0" lang="en-US" sz="5000" spc="-1" strike="noStrike">
              <a:solidFill>
                <a:srgbClr val="04617b"/>
              </a:solidFill>
              <a:latin typeface="Calibri"/>
            </a:endParaRPr>
          </a:p>
        </p:txBody>
      </p:sp>
      <p:sp>
        <p:nvSpPr>
          <p:cNvPr id="211" name=""/>
          <p:cNvSpPr txBox="1"/>
          <p:nvPr/>
        </p:nvSpPr>
        <p:spPr>
          <a:xfrm>
            <a:off x="457200" y="1981080"/>
            <a:ext cx="8229600" cy="138456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quisitos 354 del C. de Comercio.</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ención de ser limitada la responsabilidad social. </a:t>
            </a:r>
            <a:endParaRPr b="0" lang="en-US" sz="2800" spc="-1" strike="noStrike">
              <a:solidFill>
                <a:srgbClr val="000000"/>
              </a:solidFill>
              <a:latin typeface="Constantia"/>
            </a:endParaRPr>
          </a:p>
        </p:txBody>
      </p:sp>
      <p:sp>
        <p:nvSpPr>
          <p:cNvPr id="212" name="Rectangle 4"/>
          <p:cNvSpPr/>
          <p:nvPr/>
        </p:nvSpPr>
        <p:spPr>
          <a:xfrm>
            <a:off x="395280" y="306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ublicación</a:t>
            </a:r>
            <a:endParaRPr b="0" lang="en-US" sz="4400" spc="-1" strike="noStrike">
              <a:solidFill>
                <a:srgbClr val="000000"/>
              </a:solidFill>
              <a:latin typeface="Arial"/>
            </a:endParaRPr>
          </a:p>
        </p:txBody>
      </p:sp>
      <p:sp>
        <p:nvSpPr>
          <p:cNvPr id="213" name="Rectangle 5"/>
          <p:cNvSpPr/>
          <p:nvPr/>
        </p:nvSpPr>
        <p:spPr>
          <a:xfrm>
            <a:off x="500040" y="4214880"/>
            <a:ext cx="8229600" cy="161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bf5f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tracto autorizado por notario donde se otorgó la escri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22:34:37Z</dcterms:created>
  <dc:creator>Referencia32</dc:creator>
  <dc:description/>
  <dc:language>en-US</dc:language>
  <cp:lastModifiedBy>Juan Camilo</cp:lastModifiedBy>
  <dcterms:modified xsi:type="dcterms:W3CDTF">2009-07-29T05:18:24Z</dcterms:modified>
  <cp:revision>30</cp:revision>
  <dc:subject/>
  <dc:title>Sociedad de responsabilidad Limitada</dc:title>
</cp:coreProperties>
</file>