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B7F0-C422-4772-B80E-54CF25DB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2B7-5214-429D-97DC-9037BC27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E868-1701-4CCA-AA43-60868B33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28CF-7D37-4539-9F81-D5917992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8C86-BF63-4086-8F90-D2ECD8C6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9435-B6D3-4F5A-8465-74DA1B2F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0EDD-F270-492C-A446-01E11D09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4E5D-8FE1-4715-9426-6EFA968A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CF01-EBBD-4514-B37F-9E6CC412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2363-6E6E-43B9-93C7-DC44D34B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FE81-FBB3-4B75-A2E9-0E5E1C22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BAF6-5895-423F-B207-6241851D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C278-A20F-492C-A773-4D6E9A63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891F-333B-469B-85BC-A5C4F5DA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B637-0A1D-4FC2-A732-F31B694B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DA39-AB42-481E-9A53-82A33304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9A8B-12DF-4460-BBA6-AB64B9FD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0765B-8FE3-401D-8586-F9221D0C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42482-721F-4E55-A7EA-FB224F8E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45349-216C-432B-884D-96A70060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C4F07-086E-4435-9BAD-3C206876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99117-7B7D-4B46-8BE5-9EF49340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B85-D85E-4E94-BA3E-C0B294F8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33D5C-4D0A-4AC0-A9AA-4775AAAF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F2A38-744C-4B8A-9502-50EB3B65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2390D-859C-43EF-825F-BBA15245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2263C-3A5C-4F77-AE0D-87B6999F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52F1F-A9AA-44A3-BCAA-C7781AA6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62E1C-FB0A-4AC8-8929-CCA54CF0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DE25E-FD15-475E-9E0B-E863A8A6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1D1C4-73A9-472F-B91E-EF1D0534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4B364-F366-4DFA-A2A9-8E3DB320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D7812-3173-4C22-8B05-F50CBA8B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75D6-AE18-4C2A-827F-E4077C9C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6F8AD-D487-4E97-9943-18436EBE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72A23-EC53-4AA2-A335-EECA41B0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825EB-4781-413A-9D6B-A9FF3C88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8E9FB-4FDC-4159-A639-150E9C06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07C74-6139-4CED-BC05-E3D87018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32E90-07A8-4FDE-9474-8064134B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C65EE-9FCD-43FC-B28A-603D63A0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28606-DF1E-45C3-80AE-334205ED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25A60-B567-4B83-9A48-11C2598F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28D6-71CA-4FCC-A12C-3B558B36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05C2-9852-44A9-91D1-EC24FCAA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6C31-0CBA-4780-A1AE-34D66312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4BC-07D2-4679-ADF0-5F6006AF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185E-CCED-4AA6-8531-BA625649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AD3F-6A4D-49C2-B05F-6E244FECCB3F}" type="slidenum">
              <a:rPr b="0" lang="es-C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2612-0CB0-48B0-A311-17EBF6C21701}" type="slidenum">
              <a:rPr b="0" lang="es-C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C974-4B8B-42A3-894B-84958B902693}" type="slidenum">
              <a:rPr b="0" lang="es-C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D7EE-BC0E-4C84-90D2-6779C1C9A2D5}" type="slidenum">
              <a:rPr b="0" lang="es-C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Martill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asta 1925 dos tip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úblico.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iv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 partir de la ley 18.118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ersonas naturales o jurídicas inscritas en un registro –llevado por la Secretaría de Economía, Fomento y Reconstrucción-, para vender públicamente al mejor postor toda clase de bienes corporales mueb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3nº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600" spc="-1" strike="noStrike">
                <a:solidFill>
                  <a:srgbClr val="000000"/>
                </a:solidFill>
                <a:latin typeface="Constantia"/>
              </a:rPr>
              <a:t>Las empresas de espectáculos públicos, sin perjuicio de las medidas de policía que corresponda tomar a la autoridad administrativ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Ofrece todo tipo de entretenimiento al público, con ánimo de lucro y organizada como empres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3nº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600" spc="-1" strike="noStrike">
                <a:solidFill>
                  <a:srgbClr val="000000"/>
                </a:solidFill>
                <a:latin typeface="Constantia"/>
              </a:rPr>
              <a:t>Las empresas de seguros terrestres a prima, inclusas aquellas que aseguran mercaderías transportadas por canales o rí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rt. 512 C.C.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ñala que es un contrato 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ilateral, condicional y aleatorio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virtud del cual se toman los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iesgos de perdida o deterioro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 objetos pertenecientes a otro, o de las personas,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obligándose a indemnizar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perdida o daño que sufra el o los objetos  o personas asegur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3nº2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onstantia"/>
              </a:rPr>
              <a:t>Las empresas de construcción de bienes inmuebles por adherencia, como edificios, caminos, puentes, canales, desagües, instalaciones industriales y de otros similares de la misma naturalez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troducidas en el C. de Comercio a partir del año 1977 por el D.L. 1953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n el proyecto de l Código se incluían por suma alzada o precio fij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andoval señala que se introduce para someterla a la Ley de Quiebra como actividad comerci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fundamental es la idea de empresa tras ell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3nº1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600" spc="-1" strike="noStrike">
                <a:solidFill>
                  <a:srgbClr val="000000"/>
                </a:solidFill>
                <a:latin typeface="Constantia"/>
              </a:rPr>
              <a:t>Las empresas de construcción, carena, compra y venta de naves, sus aparejos y vitualla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onstantia"/>
              </a:rPr>
              <a:t>Dice relación con las empresas marítimas, las cuales tienen una regulación espec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22:51:08Z</dcterms:created>
  <dc:creator>Juan Camilo</dc:creator>
  <dc:description/>
  <dc:language>en-US</dc:language>
  <cp:lastModifiedBy>Juan Camilo</cp:lastModifiedBy>
  <dcterms:modified xsi:type="dcterms:W3CDTF">2009-04-10T22:53:20Z</dcterms:modified>
  <cp:revision>1</cp:revision>
  <dc:subject/>
  <dc:title>Martillos</dc:title>
</cp:coreProperties>
</file>