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8010-E343-4AA6-BC22-5CDF7569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5301-AF6A-4111-BE8E-FDB490D7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880-EB99-4D8B-8555-F47186BF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87D-0A82-467F-B1B9-9195D9B1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01B8-4C8B-4AA6-9C3F-6FA93E16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7028-D202-4ECB-AAF6-274733CE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A0FC-F12D-459C-9079-3926593C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05B5-2C2D-4739-A717-DA9ED881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0DDE-B786-49B8-AF5F-ADB2F4BF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20BF-AA6F-4D6E-956E-37E4A64B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049E-75AE-4E61-807F-67CC4341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21E-4983-43CF-8F92-63F5C634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10CC-D42C-4C88-9108-9C2000AD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9743-7C20-415D-8B0A-31FB50E5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71DA-3304-4420-A088-E1913ACE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12EA-4117-4E45-8784-F9C9E3B5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8F14-6EA8-4CE2-9DD2-F78B371C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A3600-A66A-4B6C-BBB3-4407602B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D597E-57C6-4AEA-91D9-1EA51FE5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59641-64B9-4340-9F79-F9B90735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F442A-C5B2-483E-8139-482AFDA2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4E5DA-214D-452B-93EF-F2CB54C0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7B5-A162-4A22-BF44-4A1BAE0F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6EB16-1D7E-4248-B2E2-2642A50C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78A0E-364E-4FCE-90D0-D5903AEA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16EFB-AD32-4D8B-B30C-F35DACA9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80EF7-4BB0-4B3F-8953-A1CFEE05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14E0E-5508-48FD-B78B-13AC484B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462E-51BC-4B2B-9A47-D560A1FD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AA618-0F4F-4331-8C80-D2BC5B9E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B21A4-F366-4489-977A-2096777D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8F515-693E-49C2-A309-DF6F9CAA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3B84B-DBBD-4871-A597-135F104E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F86E-DAEC-422D-899C-0DACCAF6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B5A06-E973-4E14-BFA3-17C3D0C0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4690E-D7B1-4346-A966-9BF1EF60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D68EC-46C7-4A00-9BA5-641476C0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A3116-F708-4D48-88F1-87F551CB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AEA29-9BA0-4B13-A288-5291597B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2CD59-FABF-46EF-BA11-1758060A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460A6-ECD3-458D-B562-4D40176B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3827F-6CA6-4E66-8AD8-26385C95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EC4B8-70CE-4C8C-940F-49788CBF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6C6-21A0-46A5-9897-6ED48A56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2720-0A77-4040-90DF-DB4ED35C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6341-22AF-4190-90CF-C96CB5FB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886-EAD1-4F83-B792-830A6EF8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8CC-BF93-41F9-984A-E740471B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BBCB-DCF4-458A-BC70-F84ECD020E1B}" type="slidenum">
              <a:rPr b="0" lang="es-C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464D-7451-4E82-A0AD-D3A7B5FE4C4E}" type="slidenum">
              <a:rPr b="0" lang="es-C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DA81-6978-4C70-8B73-B4A111AF1E71}" type="slidenum">
              <a:rPr b="0" lang="es-C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F2AC-4EAD-4325-B517-EB8DEBF7CD11}" type="slidenum">
              <a:rPr b="0" lang="es-C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Martil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asta 1925 dos tip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úblico.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iv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 partir de la ley 18.118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rsonas naturales o jurídicas inscritas en un registro –llevado por la Secretaría de Economía, Fomento y Reconstrucción-, para vender públicamente al mejor postor toda clase de bienes corporales mue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3nº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000000"/>
                </a:solidFill>
                <a:latin typeface="Constantia"/>
              </a:rPr>
              <a:t>Las empresas de espectáculos públicos, sin perjuicio de las medidas de policía que corresponda tomar a la autoridad administrativ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Ofrece todo tipo de entretenimiento al público, con ánimo de lucro y organizada como empres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3nº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000000"/>
                </a:solidFill>
                <a:latin typeface="Constantia"/>
              </a:rPr>
              <a:t>Las empresas de seguros terrestres a prima, inclusas aquellas que aseguran mercaderías transportadas por canales o rí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rt. 512 C.C.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ñala que es un contrato 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ilateral, condicional y aleatorio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virtud del cual se toman lo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iesgos de perdida o deterioro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 objetos pertenecientes a otro, o de las personas,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obligándose a indemnizar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perdida o daño que sufra el o los objetos  o personas asegur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3nº2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onstantia"/>
              </a:rPr>
              <a:t>Las empresas de construcción de bienes inmuebles por adherencia, como edificios, caminos, puentes, canales, desagües, instalaciones industriales y de otros similares de la misma naturalez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roducidas en el C. de Comercio a partir del año 1977 por el D.L. 1953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n el proyecto de l Código se incluían por suma alzada o precio fij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andoval señala que se introduce para someterla a la Ley de Quiebra como actividad comerci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fundamental es la idea de empresa tras ell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3nº1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000000"/>
                </a:solidFill>
                <a:latin typeface="Constantia"/>
              </a:rPr>
              <a:t>Las empresas de construcción, carena, compra y venta de naves, sus aparejos y vitualla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onstantia"/>
              </a:rPr>
              <a:t>Dice relación con las empresas marítimas, las cuales tienen una regulación espe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22:51:08Z</dcterms:created>
  <dc:creator>Juan Camilo</dc:creator>
  <dc:description/>
  <dc:language>en-US</dc:language>
  <cp:lastModifiedBy>Juan Camilo</cp:lastModifiedBy>
  <dcterms:modified xsi:type="dcterms:W3CDTF">2009-04-10T22:53:20Z</dcterms:modified>
  <cp:revision>1</cp:revision>
  <dc:subject/>
  <dc:title>Martillos</dc:title>
</cp:coreProperties>
</file>