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FCDC-277C-4179-BDF0-F2AB966B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22D2-DEB8-44F9-AF1A-07BC4072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C0E3-2325-4582-8BDD-1A4BBC38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3894-8F2D-4787-915E-C8592672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6351-AFF6-4D0C-9E66-48045763B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FB04-DF78-4EC5-B808-1DAAA585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2220-44E5-44C1-8100-B302DFD6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1F8C-5780-4F8A-A175-25CEBA09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56F4-9A05-45D0-BD23-A60A2D5B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1C7E-D990-458D-BCA4-9DBBB95E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D6F7-8877-4CDA-9B1B-25AC6941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7406-44BC-4442-9A72-2F3712FC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3FFA-4AFF-40B2-A858-50B41DCC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A23D-D2ED-408E-801A-0A767A4F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A7D6-A98F-47B5-921A-B0F761B4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E663-2CD4-4586-AA8D-90B9CBCD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EE82-6059-4DEA-95F9-ECC33A89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D16C8-B2A9-4A0C-B203-EDDBEBCE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5CC78-AF10-4F5D-9BA1-C04F1B97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4D011-69B2-41A9-B72D-9843B3D5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94589-B1AB-4E6E-A033-56DB39BF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825AA-C853-4EBE-AB60-A35E8277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475A-8A3B-4027-998E-ECD0B722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DE7E3-F404-4B31-BB59-05D06141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DCEF5-0604-4971-BBC4-8BFA4772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21530-4842-469E-8347-C14154B0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99261-D265-404B-9F07-3EBCA6A5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755EC-582C-4AFE-AB45-9825CB9B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662C9-8BEA-4233-9484-ED0E2FBD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FCB0F-E30A-4353-8088-D0CE3E23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DB140-422F-4D39-9245-D2263049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F97C5-8F2B-4D51-BEBB-B3792263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58087-D83B-4780-8E74-B72E58B8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267A-35FB-4EFB-A513-7CB69A9A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34861-223D-46CE-A1D9-C16A5EAD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C2058-DB72-4F04-A1A7-664894C7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9F7F5-6EF2-4DFB-9FC7-F03BDAAB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FCC36-0871-41AC-82D1-4F0C5E16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E7A44-ECC1-4B65-8C0B-53C4CFD9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67EE5-F55C-4BE9-AE91-DE1F83F6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A4459-4FBC-48D1-9543-18A57578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37FC5-8050-4996-BADC-213C720D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B18BB-DC22-4685-8474-46D819B0D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798A-21AD-4192-B3B4-FB48C7C9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DB36-C860-480C-B190-97C5275B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496F-8A69-4A07-B3A9-C16069C9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EDCF-C4A8-4DCB-BA81-C5E40AF6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EC44-476E-4E1C-BF76-1D2D4814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59DD-E040-4686-AFE3-4DBEDBF8E64A}" type="slidenum">
              <a:rPr b="0" lang="es-C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9733-BFCD-4C94-9E08-A877C42288E2}" type="slidenum">
              <a:rPr b="0" lang="es-C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735B-79E8-4292-9C3C-0C5AF91AE590}" type="slidenum">
              <a:rPr b="0" lang="es-C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AB8B-2DDE-4016-8C09-2AD05840125F}" type="slidenum">
              <a:rPr b="0" lang="es-C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Martill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asta 1925 dos tipo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úblico.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iv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 partir de la ley 18.118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ersonas naturales o jurídicas inscritas en un registro –llevado por la Secretaría de Economía, Fomento y Reconstrucción-, para vender públicamente al mejor postor toda clase de bienes corporales mueb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3nº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600" spc="-1" strike="noStrike">
                <a:solidFill>
                  <a:srgbClr val="000000"/>
                </a:solidFill>
                <a:latin typeface="Constantia"/>
              </a:rPr>
              <a:t>Las empresas de espectáculos públicos, sin perjuicio de las medidas de policía que corresponda tomar a la autoridad administrativ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Ofrece todo tipo de entretenimiento al público, con ánimo de lucro y organizada como empres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3nº9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600" spc="-1" strike="noStrike">
                <a:solidFill>
                  <a:srgbClr val="000000"/>
                </a:solidFill>
                <a:latin typeface="Constantia"/>
              </a:rPr>
              <a:t>Las empresas de seguros terrestres a prima, inclusas aquellas que aseguran mercaderías transportadas por canales o rí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rt. 512 C.C.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ñala que es un contrato 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bilateral, condicional y aleatorio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 virtud del cual se toman los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iesgos de perdida o deterioro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e objetos pertenecientes a otro, o de las personas,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obligándose a indemnizar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perdida o daño que sufra el o los objetos  o personas asegur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3nº20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onstantia"/>
              </a:rPr>
              <a:t>Las empresas de construcción de bienes inmuebles por adherencia, como edificios, caminos, puentes, canales, desagües, instalaciones industriales y de otros similares de la misma naturalez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troducidas en el C. de Comercio a partir del año 1977 por el D.L. 1953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n el proyecto de l Código se incluían por suma alzada o precio fij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andoval señala que se introduce para someterla a la Ley de Quiebra como actividad comerci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fundamental es la idea de empresa tras ell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3nº13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600" spc="-1" strike="noStrike">
                <a:solidFill>
                  <a:srgbClr val="000000"/>
                </a:solidFill>
                <a:latin typeface="Constantia"/>
              </a:rPr>
              <a:t>Las empresas de construcción, carena, compra y venta de naves, sus aparejos y vitualla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onstantia"/>
              </a:rPr>
              <a:t>Dice relación con las empresas marítimas, las cuales tienen una regulación especi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22:51:08Z</dcterms:created>
  <dc:creator>Juan Camilo</dc:creator>
  <dc:description/>
  <dc:language>en-US</dc:language>
  <cp:lastModifiedBy>Juan Camilo</cp:lastModifiedBy>
  <dcterms:modified xsi:type="dcterms:W3CDTF">2009-04-10T22:53:20Z</dcterms:modified>
  <cp:revision>1</cp:revision>
  <dc:subject/>
  <dc:title>Martillos</dc:title>
</cp:coreProperties>
</file>