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65E8-FEAE-473B-B231-EF7A7E2E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A24D-79F0-4109-B8A6-73A10F47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0C9E-B0FE-496B-8F80-35BC33B5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B61-FECE-4F9D-A52E-78115AFB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BB4D-5075-4F9C-B9B3-914DD65B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EE03-9775-42DB-965D-DDC7A7B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5B01-5F92-45A3-9928-C829B5B4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F716-BBE0-4D8F-8EDF-09CC5126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7142-830A-468E-AD09-81BE3BE5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D170-1FC3-4BE0-BB40-1D7A4CA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3BFD-6D3F-4992-A6AF-37C926FE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0093-33B8-4CAD-A895-D51660C2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07C9-508F-4252-A85D-C2EE55E9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03F7-9563-4894-A099-A7A6570A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B23D-0CF6-4D78-84AA-06F800EB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084D-CD3C-482F-96A0-365B43E8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2B02-FA01-4EAB-84DD-4563254D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1603B-A7B8-4DB6-BCEE-CF077FD3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6495B-FFA6-47D4-89E9-C0C3FCF2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0FA2A-9B7A-40AF-929C-5F39C705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CCAF-5027-47F7-A574-8B38EBD3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EAD3-9AAF-4D93-A8ED-F23D49D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07B2-A505-4247-A279-0C559B3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A579-8996-4061-B596-1FB8D2D9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20B30-165A-4870-BF01-C9FB0669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5BF97-6134-41D6-B623-F7A1EE1A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A7EA-BF74-479D-B1DF-9D1B65C9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BADA4-4DEE-4763-83B9-BA2FBA11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1CBA9-BDB5-446C-8440-CC7FB241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9CCAA-AF7F-40EB-A055-8B5CD914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2E31-145C-41D1-BB5C-D668D65A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3C50C-B8C1-447D-A37B-FCA80CD8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EF767-FC35-45AC-A3D2-FF8BD075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7101-66D0-4B71-9078-F96C118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4F5F-9953-4DB6-A234-8F1DEED8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DAEF-4BCF-45E2-A2F9-39B4113E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735EE-19FB-41B6-A939-B9E4CDC6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29D5-14EA-450D-BDBB-61A8A077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A3ED-0F5C-473B-8DFE-C30D0D3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EDFBB-474D-4C5E-9D9A-68ACC6B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F7288-C45E-4815-8028-0FBD5924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EB554-EB57-43A0-86F8-C0F06646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D692B-7830-4862-9EB1-37055EDB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2B9-833D-4E87-AABF-98AA4CD26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E33-0E1B-4DC1-A0BD-AE11A571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5BC-D567-4484-9BBE-C49EB320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278-1F20-4181-9408-17621DD2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834F-6B64-42E2-838B-B3F1F5E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B202-A765-4B1A-AA90-A1EC6D2BA1E4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3E44-F163-40B2-AFD9-3FEAE52D6E4A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43B6-C246-4ACF-ADE7-4E4F8E317665}" type="slidenum">
              <a:rPr b="0" lang="es-C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9F1B-6EC2-4FC2-90BE-B453AB2E7B98}" type="slidenum">
              <a:rPr b="0" lang="es-C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Martil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Hasta 1925 dos tip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úblico.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iv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 partir de la ley 18.118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ersonas naturales o jurídicas inscritas en un registro –llevado por la Secretaría de Economía, Fomento y Reconstrucción-, para vender públicamente al mejor postor toda clase de bienes corporales mueb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espectáculos públicos, sin perjuicio de las medidas de policía que corresponda tomar a la autoridad administrati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Ofrece todo tipo de entretenimiento al público, con ánimo de lucro y organizada como empre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seguros terrestres a prima, inclusas aquellas que aseguran mercaderías transportadas por canales o rí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Art. 512 C.C.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ñala que es un contrato 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bilateral, condicional y aleatori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 virtud del cual se toman los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riesgos de perdida o deterioro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 objetos pertenecientes a otro, o de las personas, </a:t>
            </a:r>
            <a:r>
              <a:rPr b="1" lang="es-ES" sz="2600" spc="-1" strike="noStrike">
                <a:solidFill>
                  <a:srgbClr val="000000"/>
                </a:solidFill>
                <a:latin typeface="Constantia"/>
              </a:rPr>
              <a:t>obligándose a indemnizar </a:t>
            </a: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a perdida o daño que sufra el o los objetos  o personas asegu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2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onstantia"/>
              </a:rPr>
              <a:t>Las empresas de construcción de bienes inmuebles por adherencia, como edificios, caminos, puentes, canales, desagües, instalaciones industriales y de otros similares de la misma naturalez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Introducidas en el C. de Comercio a partir del año 1977 por el D.L. 1953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proyecto de l Código se incluían por suma alzada o precio fij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andoval señala que se introduce para someterla a la Ley de Quiebra como actividad comerci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o fundamental es la idea de empresa tras e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3nº13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600" spc="-1" strike="noStrike">
                <a:solidFill>
                  <a:srgbClr val="000000"/>
                </a:solidFill>
                <a:latin typeface="Constantia"/>
              </a:rPr>
              <a:t>Las empresas de construcción, carena, compra y venta de naves, sus aparejos y vituall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000000"/>
                </a:solidFill>
                <a:latin typeface="Constantia"/>
              </a:rPr>
              <a:t>Dice relación con las empresas marítimas, las cuales tienen una regulación espe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22:51:08Z</dcterms:created>
  <dc:creator>Juan Camilo</dc:creator>
  <dc:description/>
  <dc:language>en-US</dc:language>
  <cp:lastModifiedBy>Juan Camilo</cp:lastModifiedBy>
  <dcterms:modified xsi:type="dcterms:W3CDTF">2009-04-10T22:53:20Z</dcterms:modified>
  <cp:revision>1</cp:revision>
  <dc:subject/>
  <dc:title>Martillos</dc:title>
</cp:coreProperties>
</file>