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2531-625F-4E08-8B30-84B141A79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19A9-48B0-47FA-B413-71DC571F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87DC-708C-4D28-BBB5-1AC21741B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BB1A-9971-41A0-B6C1-88955B0FD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8393-A9B9-47DF-AD7B-4ECE1FD8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1B33-0541-452B-9C7C-BF4207E3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78C3-9495-4429-B84A-7EEA293F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2431-3E04-48F4-BA72-7A00F6DD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4C93-6E6E-4098-BF5F-D516C926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61BD-E482-46BF-B213-1EDEC518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D5EE-36F6-4230-B161-0E0AF598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8183-C07F-4E18-BB4E-6B539D69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9506-0592-410A-9120-D18501CC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3039-F566-4E74-98A5-F6CDA4E5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B0DF-BE09-47A1-8A73-6DB3E6A9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639D-CC71-4B07-9885-8A5444EC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8876-B49E-44ED-B58B-3620BB7C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DB7AA-87C8-4708-9614-63BD4E68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08FFD-B36F-4522-8FE8-C288C3ED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E9DAA-BF6B-4852-97EE-70931D9C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03073-A0D3-4609-A86F-0C353BAB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0EBE2-6426-403C-B0A7-DFBD7118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9911-8ED3-4E4D-8732-C8F3C737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D28F2-5752-4392-9C9A-544CE907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0C057-5FCE-4D59-9598-AB14AF10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8B66B-B713-42FF-8BB9-5B0A22C4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EBEC4-0700-4901-90BB-F8ABA715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00C37-821C-4A4D-8E99-0DFCCFC2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CB3D3-DCAE-4D92-9D87-0D7F503B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F3856-4E0A-45D1-A7AC-4F7EBF7F2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01249-4337-4064-B06D-D8FDE88D9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EA7CA-5F6F-41CE-B68C-928C1DEC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FF81A-858E-4B67-AC56-0CCE6197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31A5-EF0A-41D5-84AF-81FC1591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08261-92AB-4033-A83E-8C24769F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BE6DD-4137-4171-89B0-1C562099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A7037-9D63-49AE-9941-742701E8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07B68-2D04-44F4-8C05-8A903616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DB6A4-4996-457C-B474-474683C2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4C57E-746E-4BA2-B750-099B859D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37D07-71DC-418C-BA98-6331EB13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39BD7-7FCF-41A7-B140-3B0CFB83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59D43-1714-4309-9E6E-DB53D76E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3AA1-7C56-49CD-B062-E9F8AB93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AE5D-5288-45C0-93A8-ACF4BA14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2C6F-0DE8-417F-A285-A57A0F5A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7B5B-F24E-4B49-BD08-A7FFAD25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0E1C-F38D-4CE2-9401-EFC7DA39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1711-02E8-4824-A9AA-5BDB8EC385D6}" type="slidenum">
              <a:rPr b="0" lang="es-CO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A862-AAE3-4216-AB7B-9E37831FB0E0}" type="slidenum">
              <a:rPr b="0" lang="es-CO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DD0D-7AB8-4C93-9034-7F6BD89C7BB1}" type="slidenum">
              <a:rPr b="0" lang="es-CO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CBD1-F80E-4904-8FC4-12D8C69A778B}" type="slidenum">
              <a:rPr b="0" lang="es-CO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675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Artículo 3º Nros. 5,6,7,8,9,13 y 2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Noción de empresario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orteador es el que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“ejerce la industria de hacer transportar personas o mercaderías por sus dependientes asalariados y en vehículos propios o que se hallen a su servicio, se llama EMPRESARIO de transportes aunque algunas veces ejecute el transporte por si mismo.”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rt. 166 inc. Final del C. de Comerci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3Nº7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Empresa de depósito de mercancías, agencia de negocios, provisiones o suministros y martill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Depósito de Mercancías</a:t>
            </a: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aso típic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mpresa de depósitos generales de mercancías. (L. 18.690/88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lmacenista emit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ertificado de depósito             Warra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Vale de pren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ndoso transfiere domini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Endoso constituye en prend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3 Flecha derecha"/>
          <p:cNvSpPr/>
          <p:nvPr/>
        </p:nvSpPr>
        <p:spPr>
          <a:xfrm>
            <a:off x="4143240" y="378612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4 Flecha abajo"/>
          <p:cNvSpPr/>
          <p:nvPr/>
        </p:nvSpPr>
        <p:spPr>
          <a:xfrm>
            <a:off x="5572080" y="4143240"/>
            <a:ext cx="484200" cy="9781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5 Flecha abajo"/>
          <p:cNvSpPr/>
          <p:nvPr/>
        </p:nvSpPr>
        <p:spPr>
          <a:xfrm>
            <a:off x="2214720" y="4643280"/>
            <a:ext cx="484200" cy="785880"/>
          </a:xfrm>
          <a:prstGeom prst="downArrow">
            <a:avLst>
              <a:gd name="adj1" fmla="val 50000"/>
              <a:gd name="adj2" fmla="val 5005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Provisiones o suministr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Texto debió decir provisiones Y suministr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Provisiones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Entrega continua y periódic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Bienes muebles corporales mercanti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Precio fijado de anteman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Bienes pueden no existir al momento del contra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Suministro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trega continua y periódic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Flujo o servicio inmater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elacionado con servicios públicos. Satisfacción de necesidades genera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Agencias de negoc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gencia denota organiz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mpresa de quienes se encargan profesionalmente de administrar los negocios de otro, de aconsejar…” Guyeno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s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en virtud de la naturaleza de la empresa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y no de la profesión del agen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Fundamento histórico de su inclus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cluye agenciar negocios tanto comerciales como civi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Definición de Empres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Ripert: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cepto Difus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Art. 3º C. del trabajo: “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Toda organización de medios personales, materiales e inmateriales, ordenados bajo una dirección para el logro de fines económicos, sociales, culturales o benéficos, dotada de una individualidad legal determinada”. –Sólo válida para efectos laborales y previsionales-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Elementos para acotar el concept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Organización: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Reunión, coordinación y utilización de bienes y servici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Carácter: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ermanente, continuo y sistemátic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ara que sea comercial requiere de cambio, intermediación y lucr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3Nº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Empresas de fábrica y manufacturas, </a:t>
            </a:r>
            <a:r>
              <a:rPr b="1" lang="es-CO" sz="2600" spc="-1" strike="noStrike">
                <a:solidFill>
                  <a:srgbClr val="000000"/>
                </a:solidFill>
                <a:latin typeface="Constantia"/>
              </a:rPr>
              <a:t>almacenes, tiendas, bazares, fondas, cafés y otros establecimientos semejantes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Fábrica o manufactur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stablecimiento dotado de maquinaria, herramientas e instalaciones para producir artículos, transformar product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Elementos característico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Uso de medios mecánic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Producción en líne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Bienes muebles corpora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Almacenes, tiendas y baza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lmacén de abarrot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-no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EPÓSITO-: Vende artículos de primera necesidad o géneros al por meno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Tienda: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“Casa, puesto o lugar donde se venden artículos al por menor”. RA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Bazar: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“Donde se venden productos de varias industrias”. RAE. Símil de “mercado persa”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Fondas, cafés…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Fonda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ugar donde se da posad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Tienda tempora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afés y salones de té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Empresas constitutivas de establecimientos semejantes.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–Concepto polémico-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3Nº6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Empresa de transporte de mercancías por tierra, ríos o canales navegab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Omisión involuntaria del legislador al no mencionar los lago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Subsanado por el art. 166 inc. 1º, en relación al contrato de transporte: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“…se obliga por cierto precio a conducir por tierra, canales, lagos o ríos.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Personas involucradas en el transport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Porteador: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trae obligación de conduc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argador, consignante o remitente: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l que por cuenta propia o ajena encarga el transpor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signatario: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 quien se envían las mercancí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05:19:13Z</dcterms:created>
  <dc:creator>Juan Camilo</dc:creator>
  <dc:description/>
  <dc:language>en-US</dc:language>
  <cp:lastModifiedBy>Juan Camilo</cp:lastModifiedBy>
  <dcterms:modified xsi:type="dcterms:W3CDTF">2009-04-06T03:18:13Z</dcterms:modified>
  <cp:revision>16</cp:revision>
  <dc:subject/>
  <dc:title>Actos de Comercio de Empresa</dc:title>
</cp:coreProperties>
</file>