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E9B-4470-44CE-A888-3857151E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153-1CEF-4388-A61E-7AF09701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DC8-C508-4267-A2DE-7BF794C0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3860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0390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0384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553860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0390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015-9614-4305-BCD8-21ADCF67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B2F0-7A46-46F8-8D4A-B0C2DF86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DD9A-0A9C-47CB-9061-10C64363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C0D6-8CC6-4A52-AB66-A1B0CD4B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0D51-B057-45EE-BE08-90755991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5D70-C5C7-4930-AEE1-617AA289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1902-33D6-41D4-BF97-C3DB9536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8EF5-E890-45C1-A57A-5C4343E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9D3-9947-4169-8B0B-7580C6A1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E4E3-D480-4F1C-BAF7-BE573516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F375-CC0F-4E7B-B9F6-5AB392F5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5AC5-1AFE-4E49-90B7-A9783AF2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FE50-9504-4E23-B1CE-E6986262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3860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0390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0384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553860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0390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0518-1BB5-448D-A175-C45FB4CB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D43-1DB1-4937-A2FE-272A0A97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461-7990-4B31-81B4-B9BA01B1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70B-DC7A-409D-96A0-F7A29D4B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7FA-C809-4A59-B6F7-DBD9861A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D12-77E8-4D1F-9E05-8F4FD099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E3A-EF86-4CF6-B4CC-EA0392DA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18C-0CE6-429A-B41F-4E7A71F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2816-95C1-4C13-AB21-752E3FFC7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9C93-B3D8-4FD3-A38F-2EC91A40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2590920" cy="533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2. Escasez y Elección.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4. Costos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. La Actividad Económica: Flujo Circular del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Ejemplo:</a:t>
            </a: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Supongamos que el total de factores de producción es 100 y que hay dos productos: salud y educación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Puedo dedicarle 100 a salud y nada a educación, 100 a educación y nada a salud, cantidades inferiores a 100 a ambos productos donde la suma de las cantidades asignadas sea 100, o una cantidades inferiores a 100 a ambos productos donde la suma de de las cantidades asignadas sea una cifra inferior a 100.</a:t>
            </a: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Todas las combinaciones que estén dentro de la FPP son combinaciones viables, todas aquellas que estén fuera de la FPP serán invia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Se dice que la producción es eficiente cuando no se puede producir otra unidad de un producto sin dejar de producir una unidad de otro product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Respecto de la FPP, todos los puntos que estén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en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la FPP serían eficientes, mientras aquellos que estén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bajo la recta formada por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la FPP serían inefici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18200" y="837720"/>
            <a:ext cx="42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ficiencia productiv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8400" y="1905120"/>
            <a:ext cx="732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existen al producir un bien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ómo recupero mis costos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determina que un costo sea recuperable o no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son irrecuperables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son recuper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2666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sto irrecuperable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es aquel que ya se ha comprometido y que no puede rec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295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sto recu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21000" y="262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82880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aquellos en los que no se han incurrido o los que pueden ser revert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se les llama costos evi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Costos de vender el producto (Costos de reparto, de reemplazo del artículo en el inventario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s contrarios: Costos hundidos (Gastos en I&amp;D anteriores, arriendo dentro del plazo del arrendamiento (si no puedo subarrendar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82880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costo recuperable es el costo futuro, no histórico asociado con un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activos pueden tener partes recuperables e irrecuper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 los puedo vender, son recuperables (% vida út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pueden tener un uso alternatio (costo altern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 no posee valor de reventa, ni uso alternativo entonces es irrecuper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cartel de neón con el nombre de mi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4. Costo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57200" y="731880"/>
            <a:ext cx="82296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3366"/>
                </a:solidFill>
                <a:uFillTx/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 es el costo de aquello a lo que debe renunciarse para obtener una cosa.</a:t>
            </a:r>
            <a:br>
              <a:rPr sz="2200"/>
            </a:br>
            <a:br>
              <a:rPr sz="2200"/>
            </a:br>
            <a:r>
              <a:rPr b="0" lang="es-ES" sz="2200" spc="-1" strike="noStrike" u="sng">
                <a:solidFill>
                  <a:srgbClr val="003366"/>
                </a:solidFill>
                <a:uFillTx/>
                <a:latin typeface="Times New Roman"/>
              </a:rPr>
              <a:t>Preguntas</a:t>
            </a:r>
            <a:br>
              <a:rPr sz="2200"/>
            </a:b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Cuál es el costo total de estudiar derecho?</a:t>
            </a:r>
            <a:br>
              <a:rPr sz="2200"/>
            </a:b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Cuál es el costo de oportunidad de estudiar derecho?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. La Actividad Ec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a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jo Circular del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3880" y="1346040"/>
            <a:ext cx="609624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6. Revisar Herramientas Analiticas y ma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es y Gráf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es la econom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Estudia las variables y los medios de satisfac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s necesidades múltiples frente a recursos es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Es la disciplina que busca resolver las preguntas de qué?, cómo? Para quié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otra defini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conomí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iencia social que estudia el modo en que la sociedad gestiona sus recursos escas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i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Disciplina científica, en el senti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que los economistas elaboran teorías, recogen datos, los analizan e intentan verificar o refutar la efectividad de su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or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enci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ci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or contraposición a una ciencia exact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bjeto: Estudio del modo en que la sociedad gestiona sus recursos es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CROEC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52720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ama de la economía que estudia la conducta de entidades individuales (como los hogares y las empresas) y la forma en que interactúan en cada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guntas básicas: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ué, cuánto, cómo y a qu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2286000"/>
            <a:ext cx="833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imes New Roman"/>
              </a:rPr>
              <a:t>Problemas de la organización económica son Qué y Cuánto;  Cómo, y; Para quié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981720" y="3048120"/>
            <a:ext cx="700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Premisa: los recursos son escasos y las necesidades son infin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893960" y="3505680"/>
            <a:ext cx="560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Qué y Cuá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ienes de consumo o bienes de invers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uién producir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qué recurs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qué medios de produc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3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Para quié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uién consume los bienes y cómo se distribuye la rique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2. Escasez, elec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 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 Dese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onibilidad de recursos para satisfacer las necesidades 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t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urge de la interrelación entre las necesidades humanas y los recursos disponibles para satisfacerl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necesidades humanas por consumir bienes y servicios exceden a la cantidad que la economía puede producir con los recursos disponibles quedando siempre necesidades insatisfec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Volviendo a las tres preguntas, y sea cual sea el sistema económico imperante, a efectos de responderlas, las sociedades deben tomar decisiones respecto de los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factore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y los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producto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de la economía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Factores de producción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son: la tierra (recursos naturales), el trabajo (horas hombre) y el capital (bienes para producir otros bienes)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Producto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son los distintos bienes y servicios resultantes del proceso productiv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78240" y="-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Frontera de Posibilidades de Producción (FPP) 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La frontera de posibilidades de producción (FPP) muestra las cantidades máximas de producción que puede obtener una economía, dados sus conocimientos tecnológicos y la cantidad de factores exist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23:39:20Z</dcterms:created>
  <dc:creator>Joaquin Aguirre</dc:creator>
  <dc:description/>
  <dc:language>en-US</dc:language>
  <cp:lastModifiedBy>Joaquin Aguirre</cp:lastModifiedBy>
  <dcterms:modified xsi:type="dcterms:W3CDTF">2009-02-17T02:39:28Z</dcterms:modified>
  <cp:revision>47</cp:revision>
  <dc:subject/>
  <dc:title>MICROECONOMIA                         Joaquín Aguirre E.</dc:title>
</cp:coreProperties>
</file>