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2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A903-D0EB-4DDF-B272-7420306F9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038480" y="2895480"/>
            <a:ext cx="443736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038480" y="4522320"/>
            <a:ext cx="443736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6A4E-5209-43C3-A1BB-B75D417F8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038480" y="2895480"/>
            <a:ext cx="21654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312600" y="2895480"/>
            <a:ext cx="21654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038480" y="4522320"/>
            <a:ext cx="21654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312600" y="4522320"/>
            <a:ext cx="21654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744A-C65D-470A-8B8B-F1D00880F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038480" y="289548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538600" y="289548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7039080" y="289548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038480" y="452232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5538600" y="452232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7039080" y="452232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F910-81B1-4CE9-A6FE-3400E9B31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7467B-1701-42FA-BA31-3D5AC373D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038480" y="2895480"/>
            <a:ext cx="443736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B13E9-3708-44AC-832E-B4B4E5E1C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038480" y="2895480"/>
            <a:ext cx="443736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3F10A-B02F-4D37-830F-8CAA81850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038480" y="2895480"/>
            <a:ext cx="216540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312600" y="2895480"/>
            <a:ext cx="216540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FED3D-507E-497B-B7AA-A89C9AA20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6252F-421D-4A9A-A5C2-7EEBE8182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47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89C69-083A-4649-B6D4-9304AEC8A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038480" y="2895480"/>
            <a:ext cx="21654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312600" y="2895480"/>
            <a:ext cx="216540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038480" y="4522320"/>
            <a:ext cx="21654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1DCFC-F0B8-45F4-BBC0-DA8E2108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038480" y="2895480"/>
            <a:ext cx="443736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4461-BBB6-4E65-B397-1E09DB932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038480" y="2895480"/>
            <a:ext cx="216540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312600" y="2895480"/>
            <a:ext cx="21654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312600" y="4522320"/>
            <a:ext cx="21654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E99DB-2617-426E-A1C4-3E3914C0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038480" y="2895480"/>
            <a:ext cx="21654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312600" y="2895480"/>
            <a:ext cx="21654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038480" y="4522320"/>
            <a:ext cx="443736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E1651-B618-40D0-ABD9-5051C470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038480" y="2895480"/>
            <a:ext cx="443736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038480" y="4522320"/>
            <a:ext cx="443736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D95CB-71BD-419A-84B4-F2DD4684B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038480" y="2895480"/>
            <a:ext cx="21654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312600" y="2895480"/>
            <a:ext cx="21654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038480" y="4522320"/>
            <a:ext cx="21654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312600" y="4522320"/>
            <a:ext cx="21654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C324E-2BB8-4DBC-A4E7-786998FA3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038480" y="289548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538600" y="289548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7039080" y="289548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038480" y="452232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5538600" y="452232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7039080" y="452232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CDF8E-B919-4D65-8559-9668FBEC6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038480" y="2895480"/>
            <a:ext cx="443736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AC9A-AEF9-4550-9148-ABB658E4D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038480" y="2895480"/>
            <a:ext cx="216540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312600" y="2895480"/>
            <a:ext cx="216540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EB02-058D-4DF8-8620-8BC4360D4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9F21-070F-46AD-AD7A-C9BBEE612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47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9B5D-7D51-4CA2-8314-3D9E3E112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038480" y="2895480"/>
            <a:ext cx="21654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312600" y="2895480"/>
            <a:ext cx="216540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038480" y="4522320"/>
            <a:ext cx="21654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604D-4D17-4B5A-BECC-6396CD60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038480" y="2895480"/>
            <a:ext cx="216540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312600" y="2895480"/>
            <a:ext cx="21654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2600" y="4522320"/>
            <a:ext cx="21654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C33E-0706-47B8-99DC-8BF7F4A9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038480" y="2895480"/>
            <a:ext cx="21654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312600" y="2895480"/>
            <a:ext cx="21654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038480" y="4522320"/>
            <a:ext cx="443736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E8C5-272A-4CC4-BE4B-BA4B98C6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799"/>
              </a:spcBef>
              <a:buClr>
                <a:srgbClr val="0033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799"/>
              </a:spcBef>
              <a:buClr>
                <a:srgbClr val="33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40D92-540E-4EBB-8C75-10D3DA06A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02E62-EF2F-4913-98E6-F29B5376A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0" y="6324480"/>
            <a:ext cx="2590920" cy="5335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MICROECONOMI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228240" y="609480"/>
            <a:ext cx="89154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ヒラギノ角ゴ ProN W3"/>
              </a:rPr>
              <a:t>_x0016_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. CONCEPTOS BASICOS (2 cla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.1. Concepto de Econom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.2. Escasez y Elección. Necesi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.3. Costos recuperables e irrecuper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.4. Costos de Oportun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.5. La Actividad Económica: Flujo Circular del Din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Ejemplo:</a:t>
            </a:r>
            <a:br>
              <a:rPr sz="2800"/>
            </a:b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Supongamos que el total de factores de producción es 100 y que hay dos productos: salud y educación.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Puedo dedicarle 100 a salud y nada a educación, 100 a educación y nada a salud, cantidades inferiores a 100 a ambos productos donde la suma de las cantidades asignadas sea 100, o una cantidades inferiores a 100 a ambos productos donde la suma de de las cantidades asignadas sea una cifra inferior a 100.</a:t>
            </a:r>
            <a:br>
              <a:rPr sz="2800"/>
            </a:b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Todas las combinaciones que estén dentro de la FPP son combinaciones viables, todas aquellas que estén fuera de la FPP serán inviabl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Se dice que la producción es eficiente cuando no se puede producir otra unidad de un producto sin dejar de producir una unidad de otro producto.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Respecto de la FPP, todos los puntos que estén </a:t>
            </a:r>
            <a:r>
              <a:rPr b="1" lang="es-ES" sz="2800" spc="-1" strike="noStrike">
                <a:solidFill>
                  <a:srgbClr val="ffff99"/>
                </a:solidFill>
                <a:latin typeface="Times New Roman"/>
              </a:rPr>
              <a:t>en</a:t>
            </a: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 la FPP serían eficientes, mientras aquellos que estén </a:t>
            </a:r>
            <a:r>
              <a:rPr b="1" lang="es-ES" sz="2800" spc="-1" strike="noStrike">
                <a:solidFill>
                  <a:srgbClr val="ffff99"/>
                </a:solidFill>
                <a:latin typeface="Times New Roman"/>
              </a:rPr>
              <a:t>bajo la recta formada por </a:t>
            </a: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la FPP serían ineficient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2518200" y="837720"/>
            <a:ext cx="42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ffffff"/>
                </a:solidFill>
                <a:uFillTx/>
                <a:latin typeface="Times New Roman"/>
              </a:rPr>
              <a:t>Eficiencia productiva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MICROECONOMI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228240" y="609480"/>
            <a:ext cx="89154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ヒラギノ角ゴ ProN W3"/>
              </a:rPr>
              <a:t>_x0016_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. CONCEPTOS BASICOS (2 cla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.3. Costos recuperables e irrecuper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148400" y="1905120"/>
            <a:ext cx="73220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Qué costos existen al producir un bien?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Cómo recupero mis costos?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Qué determina que un costo sea recuperable o no?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Qué costos son irrecuperables?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Qué costos son recuperab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MICROECONOMI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228240" y="609480"/>
            <a:ext cx="89154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ヒラギノ角ゴ ProN W3"/>
              </a:rPr>
              <a:t>_x0016_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. CONCEPTOS BASICOS (2 cla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.3. Costos recuperables e irrecuper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90720" y="266688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3366"/>
                </a:solidFill>
                <a:uFillTx/>
                <a:latin typeface="Times New Roman"/>
              </a:rPr>
              <a:t>Costo irrecuperable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 es aquel que ya se ha comprometido y que no puede recupera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MICROECONOMI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228240" y="609480"/>
            <a:ext cx="89154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ヒラギノ角ゴ ProN W3"/>
              </a:rPr>
              <a:t>_x0016_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. CONCEPTOS BASICOS (2 cla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.3. Costos recuperables e irrecuper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12952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3366"/>
                </a:solidFill>
                <a:uFillTx/>
                <a:latin typeface="Times New Roman"/>
              </a:rPr>
              <a:t>Costo recuper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321000" y="2622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04920" y="1828800"/>
            <a:ext cx="83818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on aquellos en los que no se han incurrido o los que pueden ser reverti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ambién se les llama costos evita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jemplo: Costos de vender el producto (Costos de reparto, de reemplazo del artículo en el inventario, et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jemplos contrarios: Costos hundidos (Gastos en I&amp;D anteriores, arriendo dentro del plazo del arrendamiento (si no puedo subarrendar)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MICROECONOMI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228240" y="609480"/>
            <a:ext cx="89154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ヒラギノ角ゴ ProN W3"/>
              </a:rPr>
              <a:t>_x0016_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. CONCEPTOS BASICOS (2 cla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.3. Costos recuperables e irrecuper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80880" y="1828800"/>
            <a:ext cx="83822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l costo recuperable es el costo futuro, no histórico asociado con una ven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os activos pueden tener partes recuperables e irrecuperab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i los puedo vender, son recuperables (% vida úti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ambién pueden tener un uso alternatio (costo alternativ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i no posee valor de reventa, ni uso alternativo entonces es irrecupera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jemplo: cartel de neón con el nombre de mi e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MICROECONOMI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28240" y="609480"/>
            <a:ext cx="89154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ヒラギノ角ゴ ProN W3"/>
              </a:rPr>
              <a:t>_x0016_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. CONCEPTOS BASICOS (2 cla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.4. Costo de oportun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457200" y="731880"/>
            <a:ext cx="8229600" cy="42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 u="sng">
                <a:solidFill>
                  <a:srgbClr val="003366"/>
                </a:solidFill>
                <a:uFillTx/>
                <a:latin typeface="Times New Roman"/>
              </a:rPr>
              <a:t>Costo de oportunidad</a:t>
            </a:r>
            <a:r>
              <a:rPr b="0" lang="es-ES" sz="2200" spc="-1" strike="noStrike">
                <a:solidFill>
                  <a:srgbClr val="003366"/>
                </a:solidFill>
                <a:latin typeface="Times New Roman"/>
              </a:rPr>
              <a:t> es el costo de aquello a lo que debe renunciarse para obtener una cosa.</a:t>
            </a:r>
            <a:br>
              <a:rPr sz="2200"/>
            </a:br>
            <a:br>
              <a:rPr sz="2200"/>
            </a:br>
            <a:r>
              <a:rPr b="0" lang="es-ES" sz="2200" spc="-1" strike="noStrike" u="sng">
                <a:solidFill>
                  <a:srgbClr val="003366"/>
                </a:solidFill>
                <a:uFillTx/>
                <a:latin typeface="Times New Roman"/>
              </a:rPr>
              <a:t>Preguntas</a:t>
            </a:r>
            <a:br>
              <a:rPr sz="2200"/>
            </a:br>
            <a:r>
              <a:rPr b="0" lang="es-ES" sz="2200" spc="-1" strike="noStrike">
                <a:solidFill>
                  <a:srgbClr val="003366"/>
                </a:solidFill>
                <a:latin typeface="Times New Roman"/>
              </a:rPr>
              <a:t>Cuál es el costo total de estudiar derecho?</a:t>
            </a:r>
            <a:br>
              <a:rPr sz="2200"/>
            </a:br>
            <a:r>
              <a:rPr b="0" lang="es-ES" sz="2200" spc="-1" strike="noStrike">
                <a:solidFill>
                  <a:srgbClr val="003366"/>
                </a:solidFill>
                <a:latin typeface="Times New Roman"/>
              </a:rPr>
              <a:t>Cuál es el costo de oportunidad de estudiar derecho?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MICROECONOMI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228240" y="609480"/>
            <a:ext cx="89154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ヒラギノ角ゴ ProN W3"/>
              </a:rPr>
              <a:t>_x0016_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. CONCEPTOS BASICOS (2 cla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.5. La Actividad Eco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mica: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lujo Circular del Din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523880" y="1346040"/>
            <a:ext cx="609624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MICROECONOMI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228240" y="609480"/>
            <a:ext cx="89154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ヒラギノ角ゴ ProN W3"/>
              </a:rPr>
              <a:t>_x0016_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. CONCEPTOS BASICOS (2 cla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.6. Revisar Herramientas Analiticas y mat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mát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nciones y Gráfico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MICROECONOMI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228240" y="609480"/>
            <a:ext cx="89154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ヒラギノ角ゴ ProN W3"/>
              </a:rPr>
              <a:t>_x0016_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. CONCEPTOS BASICOS (2 cla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.1. Concepto de Econom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Qu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 es la economí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MICROECONOMI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228240" y="609480"/>
            <a:ext cx="89154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ヒラギノ角ゴ ProN W3"/>
              </a:rPr>
              <a:t>_x0016_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. CONCEPTOS BASICOS (2 cla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.1. Concepto de Econom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 Estudia las variables y los medios de satisfacc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las necesidades múltiples frente a recursos escas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 Es la disciplina que busca resolver las preguntas de qué?, cómo? Para quié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MICROECONOMI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228240" y="609480"/>
            <a:ext cx="89154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ヒラギノ角ゴ ProN W3"/>
              </a:rPr>
              <a:t>_x0016_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. CONCEPTOS BASICOS (2 cla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.1. Concepto de Econom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 (otra definic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conomí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: Ciencia social que estudia el modo en que la sociedad gestiona sus recursos escasos.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000"/>
            </a:br>
            <a:r>
              <a:rPr b="0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ienci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: Disciplina científica, en el sentido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que los economistas elaboran teorías, recogen datos, los analizan e intentan verificar o refutar la efectividad de sus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eorí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iencia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ocial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: Por contraposición a una ciencia exacta.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Objeto: Estudio del modo en que la sociedad gestiona sus recursos escas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MICROECONOMI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228240" y="609480"/>
            <a:ext cx="89154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ヒラギノ角ゴ ProN W3"/>
              </a:rPr>
              <a:t>_x0016_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. CONCEPTOS BASICOS (2 cla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.1. Concepto de Econom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ICROECONOM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429000" y="2527200"/>
            <a:ext cx="5181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Rama de la economía que estudia la conducta de entidades individuales (como los hogares y las empresas) y la forma en que interactúan en cada merc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MICROECONOMI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228240" y="609480"/>
            <a:ext cx="89154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.1. Concepto de Econom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reguntas básicas: 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qué, cuánto, cómo y a quié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3520" y="2286000"/>
            <a:ext cx="83376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3366"/>
                </a:solidFill>
                <a:latin typeface="Times New Roman"/>
              </a:rPr>
              <a:t>Problemas de la organización económica son Qué y Cuánto;  Cómo, y; Para quié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981720" y="3048120"/>
            <a:ext cx="700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es-ES" sz="2000" spc="-1" strike="noStrike">
                <a:solidFill>
                  <a:srgbClr val="003366"/>
                </a:solidFill>
                <a:latin typeface="Times New Roman"/>
              </a:rPr>
              <a:t>Premisa: los recursos son escasos y las necesidades son infini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1893960" y="3505680"/>
            <a:ext cx="5600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Times New Roman"/>
              </a:rPr>
              <a:t>1ª Pregunta: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Qué y Cuán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Bienes de consumo o bienes de inversió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Times New Roman"/>
              </a:rPr>
              <a:t>2ª Pregunta: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Cóm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Quién producirá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Con qué recurso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Con qué medios de producció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Times New Roman"/>
              </a:rPr>
              <a:t>3ª Pregunta: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Para quié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Quién consume los bienes y cómo se distribuye la riquez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MICROECONOMI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228240" y="609480"/>
            <a:ext cx="89154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ヒラギノ角ゴ ProN W3"/>
              </a:rPr>
              <a:t>_x0016_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. CONCEPTOS BASICOS (2 cla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.2. Escasez, elecc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. Neces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pende d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 Disponi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 Dese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sponibilidad de recursos para satisfacer las necesidades m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ltip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Surge de la interrelación entre las necesidades humanas y los recursos disponibles para satisfacerlas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Las necesidades humanas por consumir bienes y servicios exceden a la cantidad que la economía puede producir con los recursos disponibles quedando siempre necesidades insatisfecha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229600" cy="620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Volviendo a las tres preguntas, y sea cual sea el sistema económico imperante, a efectos de responderlas, las sociedades deben tomar decisiones respecto de los </a:t>
            </a:r>
            <a:r>
              <a:rPr b="1" lang="es-ES" sz="2800" spc="-1" strike="noStrike">
                <a:solidFill>
                  <a:srgbClr val="ffff99"/>
                </a:solidFill>
                <a:latin typeface="Times New Roman"/>
              </a:rPr>
              <a:t>factores</a:t>
            </a: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 y los </a:t>
            </a:r>
            <a:r>
              <a:rPr b="1" lang="es-ES" sz="2800" spc="-1" strike="noStrike">
                <a:solidFill>
                  <a:srgbClr val="ffff99"/>
                </a:solidFill>
                <a:latin typeface="Times New Roman"/>
              </a:rPr>
              <a:t>productos</a:t>
            </a: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 de la economía</a:t>
            </a:r>
            <a:br>
              <a:rPr sz="2800"/>
            </a:br>
            <a:br>
              <a:rPr sz="2800"/>
            </a:br>
            <a:r>
              <a:rPr b="1" lang="es-ES" sz="2800" spc="-1" strike="noStrike">
                <a:solidFill>
                  <a:srgbClr val="ffff99"/>
                </a:solidFill>
                <a:latin typeface="Times New Roman"/>
              </a:rPr>
              <a:t>Factores de producción</a:t>
            </a: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 son: la tierra (recursos naturales), el trabajo (horas hombre) y el capital (bienes para producir otros bienes).</a:t>
            </a:r>
            <a:br>
              <a:rPr sz="2800"/>
            </a:br>
            <a:br>
              <a:rPr sz="2800"/>
            </a:br>
            <a:r>
              <a:rPr b="1" lang="es-ES" sz="2800" spc="-1" strike="noStrike">
                <a:solidFill>
                  <a:srgbClr val="ffff99"/>
                </a:solidFill>
                <a:latin typeface="Times New Roman"/>
              </a:rPr>
              <a:t>Productos</a:t>
            </a: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 son los distintos bienes y servicios resultantes del proceso productiv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478240" y="-20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99"/>
                </a:solidFill>
                <a:uFillTx/>
                <a:latin typeface="Times New Roman"/>
              </a:rPr>
              <a:t>Frontera de Posibilidades de Producción (FPP)  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La frontera de posibilidades de producción (FPP) muestra las cantidades máximas de producción que puede obtener una economía, dados sus conocimientos tecnológicos y la cantidad de factores existent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23:39:20Z</dcterms:created>
  <dc:creator>Joaquin Aguirre</dc:creator>
  <dc:description/>
  <dc:language>en-US</dc:language>
  <cp:lastModifiedBy>Joaquin Aguirre</cp:lastModifiedBy>
  <dcterms:modified xsi:type="dcterms:W3CDTF">2009-02-17T02:39:28Z</dcterms:modified>
  <cp:revision>47</cp:revision>
  <dc:subject/>
  <dc:title>MICROECONOMIA                         Joaquín Aguirre E.</dc:title>
</cp:coreProperties>
</file>