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3C3FF3-6FB8-4EA9-83A8-78C888EBDD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0E54C4-FB60-46EC-B625-D433A077E7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480"/>
            <a:ext cx="5486400" cy="469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F69A1B-4800-4A0D-A899-25F48BBC9B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58FBF9A-E27D-4A1A-ABF6-CB6126F9C0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B43F529-69F2-47DF-9646-70D0B082B1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B6DB53E-6516-4724-AD97-2F7E626878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159E7B9-4654-4AF0-9EC1-90E05EBFC9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A636CA-31D4-4459-9EC6-AEED954724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A421C6-3957-4D7C-819A-A11028514F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0A156BA-FD1F-40F2-B635-7FE29359B5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4BFB82-EA89-494D-AB58-85E6755377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1BB4F9-9CE9-4899-AB2E-4C186EE220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A67874C-6E0C-455D-853D-B12F6209865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4312C2-AE13-495C-88F9-81EA8D6A4C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294F03-3BF1-4D59-9CA4-207935D8064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859059A-E47B-4932-9D73-318259FBE1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923913C-DE15-4351-8B12-97704F430F8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6C2215-4D58-4E15-971C-30CD64ABBA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AF8A63-365E-46C3-BB7D-9365981451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FB39D3-41B4-42A9-B1F7-2CE62D0B9C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FD44C-0964-45ED-B02B-E2B918904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B1318-44CC-4389-B2E5-C4F84D32E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9B72A-A4B1-4DA5-A30F-310F7409A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FE58E-D473-43EF-BD00-9A06DE272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2526-DEF9-4A8B-9E10-94F9458CA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DC39B-042E-465D-AAEE-34A32C171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A4637-28CC-4E89-96E8-4C7CC4D12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EB069-983E-4858-B742-435F4D649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530ED-B454-4548-A30C-D837A211E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E6B99-F4A5-4177-84DC-7F2B1EEBD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069DC-18F3-4C74-AC92-CDD373912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CA4B9-C82C-428F-8BC4-62D9BC34B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E67D-7668-4A6A-9008-A039079EA0D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iro Fraudulento de Chequ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ntrega a efecto de caucionar el cumplimiento de una o más oblig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heque es un instrumento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naturaliza: no tiene el carácter de che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el disvalor de la a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una clásusula de responsabilidad pe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sición contr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el artículo 13 DFL: </a:t>
            </a:r>
            <a:r>
              <a:rPr b="0" lang="es-ES" sz="2800" spc="-1" strike="noStrike">
                <a:solidFill>
                  <a:srgbClr val="000000"/>
                </a:solidFill>
                <a:latin typeface="Arial"/>
              </a:rPr>
              <a:t>cualesquiera otras circunstancias o cláusulas que se agregaren al cheque, se tendrán por no escrita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unción de Derecho la Responsabilidad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smo caso del anteri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y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a en crédito, no en pa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para un incumplimiento civi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heque posdatado presentado antes de la fecha que señal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artículo 10 inciso 2º DFL: </a:t>
            </a:r>
            <a:r>
              <a:rPr b="0" i="1" lang="es-ES" sz="2800" spc="-1" strike="noStrike">
                <a:solidFill>
                  <a:srgbClr val="000000"/>
                </a:solidFill>
                <a:latin typeface="Arial"/>
              </a:rPr>
              <a:t>El cheque es siempre pagadero a la vista. Cualquier mención contraria se tendrá por no escrita. </a:t>
            </a:r>
            <a:r>
              <a:rPr b="1" i="1" lang="es-ES" sz="2800" spc="-1" strike="noStrike">
                <a:solidFill>
                  <a:srgbClr val="000000"/>
                </a:solidFill>
                <a:latin typeface="Arial"/>
              </a:rPr>
              <a:t>El cheque presentado al cobro antes del día indicado como fecha de emisión, es pagadero al día de la presen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ículo 22 DFL: . </a:t>
            </a:r>
            <a:r>
              <a:rPr b="0" i="1" lang="es-ES" sz="2800" spc="-1" strike="noStrike">
                <a:solidFill>
                  <a:srgbClr val="000000"/>
                </a:solidFill>
                <a:latin typeface="Arial"/>
              </a:rPr>
              <a:t>No servirá para eximirse de responsabilidad la circunstancia de haberse girado el cheque sin fecha o a una fecha posterior a la de su expedició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n ficciones civiles que no debieran tener relevancia pen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girador expresamente señala no tener fond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verdadero criminal es el beneficiari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entenderlo: art. 22 busca evitar el fraude del girad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e un acuerdo, sería instrumento de crédito y no che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puede presentar al cobro sin importar la data, también empieza a correr el plazo de caducidad al gir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cobra atendiendo a la fecha de posdata, está caduca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heque caduca en 60 o 90 días (art. 23 DF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aducado, se puede entender desnaturalizado y convertido en un instrumento de créd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7">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Blanco</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s che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13: debe contener la cantidad girada en letras y núm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ícilmente habrá dol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brá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a obligaciones indeterminad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en garantí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posdatad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 de la Responsabilidad</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go dentro de tercero día luego de la notificación del protes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ago del cheque, los intereses corrientes y las costas judiciales: sobreseimiento defini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ón del ofendido (casos de acción penal priv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uerdo reparato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ena</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467 C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plica la del número tres aunque las cantidades sean menores a las ahí expresad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so 9º art. 22: </a:t>
            </a:r>
            <a:r>
              <a:rPr b="0" i="1" lang="es-ES" sz="2400" spc="-1" strike="noStrike">
                <a:solidFill>
                  <a:srgbClr val="000000"/>
                </a:solidFill>
                <a:latin typeface="Arial"/>
              </a:rPr>
              <a:t>La Superintendencia de Bancos e Instituciones Financieras adoptará medidas de carácter general conducentes a impedir que quienes fueren sobreseídos en conformidad al inciso 8° o condenados por infracción a este artículo, </a:t>
            </a:r>
            <a:r>
              <a:rPr b="1" i="1" lang="es-ES" sz="2400" spc="-1" strike="noStrike">
                <a:solidFill>
                  <a:srgbClr val="000000"/>
                </a:solidFill>
                <a:latin typeface="Arial"/>
              </a:rPr>
              <a:t>puedan abrir cuenta corriente bancaria durante los plazos que, según los casos, determi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excarcelació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ículo 44 DFL: En los procesos criminales por los delitos contemplados en los artículos 22 y 43, procederá la excarcelación de acuerdo a las reglas generales. En todo caso se exigirá, además, caución y no se admitirá otra que no sea un depósito de dinero de un monto no inferior al importe del cheque, más los intereses y costas que fije prudencial y provisionalmente el Tribu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ociones General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22 del DFL 707:.- </a:t>
            </a:r>
            <a:r>
              <a:rPr b="0" i="1" lang="es-ES" sz="2400" spc="-1" strike="noStrike">
                <a:solidFill>
                  <a:srgbClr val="000000"/>
                </a:solidFill>
                <a:latin typeface="Arial"/>
              </a:rPr>
              <a:t>El librador deberá tener de antemano fondos o créditos disponibles suficientes en cuenta corriente en poder del Banco librad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l librador que girare sin este requisito o retirare los fondos disponibles después de expedido el cheque, o girare sobre cuenta cerrada o no existente, o revocare el cheque por causales distintas de las señaladas en el artículo 26, y que no consignare fondos suficientes para atender al pago del cheque, de los intereses corrientes y de las costas judiciales, dentro del plazo de tres días contados desde la fecha en que se le notifique el protesto, será sancionado con las penas de presidio indicadas en el artículo 467 del Código Penal, debiendo aplicarse las del N° 3), aun cuando se trate de cantidades inferiores a las ahí indicad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anza en los medios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trimonio del Beneficia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dentro de tercero día de notificado el prote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en cualquier momento del ju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ponderancia de la acción penal priva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de un perjuicio patrimon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nas del artículo 467 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valor de la ac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lvencia prese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ulneración de la confianza del beneficiario en el instrumento de pa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 Normativo: </a:t>
            </a:r>
            <a:r>
              <a:rPr b="1" lang="es-CL" sz="2400" spc="-1" strike="noStrike">
                <a:solidFill>
                  <a:srgbClr val="000000"/>
                </a:solidFill>
                <a:latin typeface="Arial"/>
              </a:rPr>
              <a:t>El chequ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 DFL 707.- El cheque es una orden escrita y girada contra un Banco para que éste pague, a su presentación, el todo o parte de los fondos que el librador pueda disponer en cuenta corrient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es siempre pagadero a la vista. Cualquiera mención contraria se tendrá por no escrita. El cheque presentado al cobro antes del día indicado como fecha de emisión, es pagadero el día de la presentación.</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puede ser a la orden, al portador o nominativo.</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Nuclear: Girar un cheq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periférica o modo de comisió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tener de antemano fond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irar sobre cuenta cerrada o inexis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irar fondos disponibles después de haber expedido el cheq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ocar el cheque por causales distintas de las señaladas en el artículo 26:</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rma falsificad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ación de suma o persona del beneficiari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eque perdido, hurtado o robado.</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21844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entación al cobro ante el banco libr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tes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de Notificación de Protes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ibunal compet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ificación por el 44 CP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zo de tres dí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ibilidad de Tachar de Falsa la fir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cha fraudulenta: penas del artículo 467 CP (art. 43 DF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notificación nula o anul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a posición: Omisión de consignar fon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lito complejo o de doble ac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prescripció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ño desde el protesto (art. 34 DF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proces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nda Posición: El protes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scripción comienza a correr con é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rcera Posición: Complejo; desde el giro, retiro de fondos u orden de no pag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mento del perjuicio: concepto de patrimon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testo da certeza del perjuicio, dada la multiplicidad de hipótesi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 Subjetiv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iempre doloso el giro doloso de che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4:59:00Z</dcterms:created>
  <dc:creator>jwinter</dc:creator>
  <dc:description/>
  <dc:language>en-US</dc:language>
  <cp:lastModifiedBy>Jaime Winter Etcheberry</cp:lastModifiedBy>
  <dcterms:modified xsi:type="dcterms:W3CDTF">2009-08-03T16:23:23Z</dcterms:modified>
  <cp:revision>11</cp:revision>
  <dc:subject/>
  <dc:title>Giro Fraudulento de Cheque</dc:title>
</cp:coreProperties>
</file>