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C8F-EAEA-44DB-ADB6-E673E145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698-0912-41E1-8AA8-3E001B20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9D6-6A3F-4212-917A-C7BB9270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9FB-B5C9-4A0E-9EAF-4AC3BAD2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25F-2B1A-452D-8E0F-AF36368D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910A-8483-4615-A240-C12387AC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2BBC-585D-4733-818E-E15DBAC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8FC0-7C1C-493A-816B-2537456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A2E1-437B-4067-82A0-968DDD17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DE7-2E29-430C-99C2-3D70F1A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6528-3DEB-45B0-A393-E43F224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305-5055-4871-A8CA-5FBC11A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2A4-6904-45C1-991E-98FF8D7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DC11-A3CA-4E0F-8140-57FA5B9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41EF-7FA4-4EEB-85E6-F58CC99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E20-76CB-468D-A114-61B8D8B2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087-2753-47D4-96DC-F457EB24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C5C-B1BE-4E4C-A276-6FF9EBDD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842-D849-42E7-87A1-280144F1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36B-A8CC-4AE1-B3F7-7BE3F428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975-874F-42F6-A0DC-2DF0D5D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6B2-06F0-433D-9C5D-227A1AA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D07-43CA-4328-996E-17032C7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D23-4B0D-4775-9616-F937E0C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6A49-65DA-41EA-9544-FB8412B7C88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B57-DCDA-4A56-B237-7CCCE11E55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os Tratados Internacionales como fuentes del Derecho Procesa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as de interpre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licto entre derechos consagrados en los Tratados sobre DDHH y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ben ser resueltos por el tribunal del fo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ros tra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de Derecho Internacional Privado, o Código de Bustamante, publicado en el D. Oficial el 25 de Abril de 193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42 CPC, los tratados son la primera fuente a aplicar para la aplicación de las sentencias extranjeras en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Concepto Tratado Internacion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n acuerdos o pactos entre Estados para regular sus relaciones entre sí, tanto políticas como económ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Pacta Sunt Servanda opera a su respe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ejercicio de la soberanía reconoce como limitación el respeto a los derechos esenciales que emanan de la persona humana. Es deber de los órganos del Estado respetar y promover tales derechos, garantizados por esta Constitución, así como los tratados internacionales ratificados por Chile y que se encuentren vigentes”. Inc 2 Art. 5 CPR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Rango Constitucional: los que se refieren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 los derechos esenciales que emanan de la persona humana. Art. 5 CP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go legal: los que se refieran a otras materias.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sitos para que produzca efecto un Tratado en Ch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scrito y ratificado por Chile; 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Que se encuentre vigen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demás, según la jurisprudencia de la C.Suprema se requiere que el tratado haya sido publicado en el Diario Ofici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to Internacional sobre Derechos Civiles y Políticos, publicado en el D. Oficial el 29 de Abril de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Protocolo Facultativo del Pacto Internacional de Derechos Civiles y Políticos, publicado en el D. Oficial el 20 de Agosto de 199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ción Americana de Derechos Humanos o Pacto de San José de Costa Rica, publicada en el D.Oficial el 5 de Ener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contra la Tortura, publicada en el D.Oficial el 13 de marz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Interamericana  contra la Tortura, publicada en el D.Oficial el 26 de Noviembre de 1988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retiro de reservas fue publicado en el D. Oficial el 13 de enero de 199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La Convención sobre Eliminación de todas las Formas de Discriminación contra la Mujer, publicado en el D. Oficial el 9 de diciembre de 1989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sobre los Derechos del Niño publicada en el D. Oficial el 27 de Septiembre de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7:51Z</dcterms:modified>
  <cp:revision>198</cp:revision>
  <dc:subject/>
  <dc:title>Inter-American Convention: Dead or Alive?</dc:title>
</cp:coreProperties>
</file>