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AD83-86C2-4170-B974-5D1946FD5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1795-D8FB-475C-B5E9-0AFE923DF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25DD-06C8-4A78-A230-18665CD47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12D1-1EB1-499B-BB68-D74A95095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4A70A-05E2-4A18-9DDA-A042C5268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3E5AC-D738-4897-A560-89CFA5679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8238F-75A0-42E8-A2B9-0846DA113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30F66-812F-469E-BD3E-454CAD777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A13EF-A2A6-4EE9-B206-72D5AD84A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31645-9F6D-4C44-B871-7B10E4C81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D2BE3-A62D-4767-BF6D-68954B1E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E57F-238B-419A-952A-45814D294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BA67B-E90C-49F1-B1B7-DD35346D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93C77-3183-45B3-B178-0BCF03F8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F28E0-34FB-43CD-A16D-65257BBB6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A0272-AB1D-4DEE-A326-E31CEA26D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34D88-DE4B-4664-BF52-BB3CF1E1E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47E7-BD88-4802-9130-25A4C78C9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ABBC-84BB-4784-800A-E4188E830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0B46-D56C-4A90-A0BD-734843907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E521-119F-4AA1-9943-661444A01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8B4F-0A2D-4FCC-BD0E-C391DDCF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551B-7881-4553-B8ED-9BEEA959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3A6D-D973-4CCC-8CBA-A437B1D3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95E8F-5FB6-411F-81AA-E9F629FAC222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4CC73-1C85-484C-80FD-9FB3BA63709D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puntes de Clases preparados por la profesora Carola Canelo para el Curso Derecho Procesal I utilizando como base bibliográfica  los Apuntes del profesor Cristián Maturana M. “Derecho Procesal Orgánico”, de fecha Marzo de 200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Times New Roman"/>
              </a:rPr>
              <a:t>Los Tratados Internacionales como fuentes del Derecho Procesal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roblemas de interpretac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flicto entre derechos consagrados en los Tratados sobre DDHH y la CP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ben ser resueltos por el tribunal del fond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tros tratado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 Convención de Derecho Internacional Privado, o Código de Bustamante, publicado en el D. Oficial el 25 de Abril de 1934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rt. 242 CPC, los tratados son la primera fuente a aplicar para la aplicación de las sentencias extranjeras en Chile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Times New Roman"/>
              </a:rPr>
              <a:t>Concepto Tratado Internacional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n acuerdos o pactos entre Estados para regular sus relaciones entre sí, tanto políticas como económica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incipio Pacta Sunt Servanda opera a su respecto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l ejercicio de la soberanía reconoce como limitación el respeto a los derechos esenciales que emanan de la persona humana. Es deber de los órganos del Estado respetar y promover tales derechos, garantizados por esta Constitución, así como los tratados internacionales ratificados por Chile y que se encuentren vigentes”. Inc 2 Art. 5 CPR.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Jerarquía de los Tratados Interna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Jerarquía de los Tratados Interna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Rango Constitucional: los que se refieren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a los derechos esenciales que emanan de la persona humana. Art. 5 CPR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Rango legal: los que se refieran a otras materias.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equisitos para que produzca efecto un Tratado en Chil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Suscrito y ratificado por Chile; 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Que se encuentre vigent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Además, según la jurisprudencia de la C.Suprema se requiere que el tratado haya sido publicado en el Diario Oficial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ratados que reconocen derechos esenci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acto Internacional sobre Derechos Civiles y Políticos, publicado en el D. Oficial el 29 de Abril de 1989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l Protocolo Facultativo del Pacto Internacional de Derechos Civiles y Políticos, publicado en el D. Oficial el 20 de Agosto de 1992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ratados que reconocen derechos esenci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vención Americana de Derechos Humanos o Pacto de San José de Costa Rica, publicada en el D.Oficial el 5 de Enero de 1991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 Convención contra la Tortura, publicada en el D.Oficial el 13 de marzo de 1991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 Convención Interamericana  contra la Tortura, publicada en el D.Oficial el 26 de Noviembre de 1988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ratados que reconocen derechos esenci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El retiro de reservas fue publicado en el D. Oficial el 13 de enero de 1991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La Convención sobre Eliminación de todas las Formas de Discriminación contra la Mujer, publicado en el D. Oficial el 9 de diciembre de 1989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ratados que reconocen derechos esenci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 Convención sobre los Derechos del Niño publicada en el D. Oficial el 27 de Septiembre de 1990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1T06:10:07Z</dcterms:created>
  <dc:creator>Alvaro Orellana Torres</dc:creator>
  <dc:description/>
  <dc:language>en-US</dc:language>
  <cp:lastModifiedBy>lucarna21</cp:lastModifiedBy>
  <dcterms:modified xsi:type="dcterms:W3CDTF">2005-09-21T16:37:51Z</dcterms:modified>
  <cp:revision>198</cp:revision>
  <dc:subject/>
  <dc:title>Inter-American Convention: Dead or Alive?</dc:title>
</cp:coreProperties>
</file>