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39FF-E473-46DD-8208-7D85A1E3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8112-913F-486A-BF38-263D40E4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4AC8-BDC1-43D1-AFE2-2E92BF28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7FE5-65A4-4320-B9FB-E05C837D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D9F6-2ACE-45AA-BE8B-864C7AC8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7A39-B6A1-4993-A04A-65054B3D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53CA-3252-4472-81C6-BE936563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713B-5A2D-460A-ADD4-7D6F27E0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76A4-50F1-4153-BE68-90342DEF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67DC-D151-4114-8F9F-3CFA5C9B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77FC-361D-473C-A37C-FF03F6C7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5D5A-7F6F-400B-8FF7-443CB31C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82C6-7509-471A-AAA3-9855C3A45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684000"/>
            <a:ext cx="5829480" cy="78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3360" y="468360"/>
            <a:ext cx="6264360" cy="114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EL ACTO ADMINISTRATIVO: Ley de Bases de los Procedimientos Ads., Ley N° 19.880, de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CONCEPTO, art. 3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FORMA, art. 3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PROCEDIMIENTO FORMATIVO DEL ACTO, Capítulo II, arts 18 y sgts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Iniciación, art. 28 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Instrucción, art 34 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Finalización, art. 40.                      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Efectos, arts. 45,  48 y 5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PROCEDIMIENTO REVISORIO DEL ACTO, Capítulo IV                                                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LOCBGAE, art. 10.                               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Los recursos, arts. 59 y 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CASOS ESPECIALES, Capítulo V           Procedimiento de urgencia, art. 63              Silencio Positivo, art. 64.                              Silencio Negativo, art. 6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PROCESO IMPUGNATORIO DEL 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6T21:32:11Z</dcterms:created>
  <dc:creator>Rolando Pantoja</dc:creator>
  <dc:description/>
  <dc:language>en-US</dc:language>
  <cp:lastModifiedBy>Rolando Pantoja</cp:lastModifiedBy>
  <dcterms:modified xsi:type="dcterms:W3CDTF">2009-07-26T21:45:17Z</dcterms:modified>
  <cp:revision>3</cp:revision>
  <dc:subject/>
  <dc:title>                    </dc:title>
</cp:coreProperties>
</file>