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787-03E8-4E6B-B383-BEEF411D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ED5C-51C4-4E5E-A64B-981A7425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21CA-2691-4CAC-979E-DFDB95E4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9E5-1FAD-4E34-BE8B-E3D66054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987D-69E8-4DB2-88A8-CF8B9E9A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4F9-A1D6-416D-B1F7-1C5C652F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099-D089-45B9-AC30-9FA6FBDE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C40-4491-4A7C-AC83-92B2813E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AE1-099E-4243-9A73-00D2D29E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94C-C928-42DD-A86E-A2E3CAFA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B8C-2B12-484A-A4B5-EC34D448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52F-2219-4971-A83C-2D613F5D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6E93-0D2F-4243-997E-2F3981208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684000"/>
            <a:ext cx="5829480" cy="78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33360" y="468360"/>
            <a:ext cx="6264360" cy="114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EL ACTO ADMINISTRATIVO: Ley de Bases de los Procedimientos Ads., Ley N° 19.880, de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CONCEPTO, art. 3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FORMA, art. 3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PROCEDIMIENTO FORMATIVO DEL ACTO, Capítulo II, arts 18 y sgts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Iniciación, art. 28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Instrucción, art 34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Finalización, art. 40.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Efectos, arts. 45,  48 y 5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PROCEDIMIENTO REVISORIO DEL ACTO, Capítulo IV                 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LOCBGAE, art. 10.                               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Los recursos, arts. 59 y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CASOS ESPECIALES, Capítulo V           Procedimiento de urgencia, art. 63              Silencio Positivo, art. 64.                              Silencio Negativo, art. 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Book Antiqua"/>
              </a:rPr>
              <a:t>PROCESO IMPUGNATORIO DEL A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21:32:11Z</dcterms:created>
  <dc:creator>Rolando Pantoja</dc:creator>
  <dc:description/>
  <dc:language>en-US</dc:language>
  <cp:lastModifiedBy>Rolando Pantoja</cp:lastModifiedBy>
  <dcterms:modified xsi:type="dcterms:W3CDTF">2009-07-26T21:45:17Z</dcterms:modified>
  <cp:revision>3</cp:revision>
  <dc:subject/>
  <dc:title>                    </dc:title>
</cp:coreProperties>
</file>