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901-2631-489B-9A06-86D8AD21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0A6-26AE-4738-937F-B3149F80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3E4-96E9-4C38-8EDF-0D671EC0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DC3-B512-4EB6-8E9E-D95A5C0C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DE4-1928-486A-A10B-51C0D9FA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BF4-9864-4A88-B612-7F830CA8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AC2-2D19-4612-BACA-BA6934DB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3E1-E516-48C8-8A78-E0C690F6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C14-2355-4EF4-ADF0-0DFBE777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233-174B-4A97-B180-9F5100D3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D95-B8E7-4416-9770-65EE4A65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8EF-A79B-4289-90F5-BBBC1B28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132C-FE44-4DDB-B88E-22F69F5BD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684000"/>
            <a:ext cx="5829480" cy="78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3360" y="468360"/>
            <a:ext cx="6264360" cy="11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EL ACTO ADMINISTRATIVO: Ley de Bases de los Procedimientos Ads., Ley N° 19.880, de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CONCEPTO, art. 3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FORMA, art. 3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PROCEDIMIENTO FORMATIVO DEL ACTO, Capítulo II, arts 18 y sgts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Iniciación, art. 28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Instrucción, art 34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Finalización, art. 40.  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Efectos, arts. 45,  48 y 5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PROCEDIMIENTO REVISORIO DEL ACTO, Capítulo IV                            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LOCBGAE, art. 10.           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Los recursos, arts. 59 y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CASOS ESPECIALES, Capítulo V           Procedimiento de urgencia, art. 63              Silencio Positivo, art. 64.                              Silencio Negativo, art. 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PROCESO IMPUGNATORIO DEL 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21:32:11Z</dcterms:created>
  <dc:creator>Rolando Pantoja</dc:creator>
  <dc:description/>
  <dc:language>en-US</dc:language>
  <cp:lastModifiedBy>Rolando Pantoja</cp:lastModifiedBy>
  <dcterms:modified xsi:type="dcterms:W3CDTF">2009-07-26T21:45:17Z</dcterms:modified>
  <cp:revision>3</cp:revision>
  <dc:subject/>
  <dc:title>                    </dc:title>
</cp:coreProperties>
</file>