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03D1-FF03-4CE9-B9DB-F505D888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B2F-73AB-40ED-ADA1-C6DD50C0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D2FE-CD0A-4FFE-9E51-7E17E84D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03CB-FBDB-4CE7-98BC-60F6C261B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10BA-1AC1-4922-AC56-D97F48E38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EC09-AF0A-4510-9BE5-E23B2595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925F-0C19-43C5-83CE-8D1701CF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8638-3DE1-4A1F-AF62-8CFF24C1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6EA5-7904-47E5-8EF2-55D01114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D889-F7ED-4746-9BD6-AFF08913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2D7A-0D49-4761-A57D-73450738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C988-3931-47BB-9832-7D62FA77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F108-8D03-4C2E-A784-36C15991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2DF7-99F4-4CE9-B83C-A0548F71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6855-164B-493F-8184-5D604DCC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7093-61B2-41CC-86BE-6ADF514B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7E86-D013-408C-86AA-A1A94F51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EE0-40EF-4F09-B650-B0B4AE3B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10F6-3CA2-4263-9FD7-C10250CE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2CC-BEFE-4F0B-80FC-BDC2F68E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1F1-4415-4032-8FBA-6B396400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DA1-C868-433A-BEAB-9B28CCF2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65CC-FA81-43B8-9131-A3A42852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FEA-4F12-428F-B848-CA0AEBA8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0D61-59EC-403D-9F24-0ACEC191092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4EFF-FBC9-4F03-B566-737FFC9E31EE}" type="slidenum">
              <a:rPr b="0" lang="es-E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DERECHO ADMINISTRATIV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lazos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25: Días hábiles de lunes a viern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e cuentan desde “el día siguiente a aquél en que se notifique o publique el acto de que se trate o se produzca su estimación o desestimación por silencio administrativo”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i vence en día inhábil, se prorroga al día hábil siguien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lazos (3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Obligaciones de la Administración en materia de plaz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24: desde que funcionario recibe solicitud o expediente: 24 horas para remitirlo a oficina que correspond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ovidencias de mero trámite: dentro de 48 horas de recep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es, dictámenes o similares: 10 días desde la peti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lazos (4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Decisiones definitivas (acto terminal): 20 días desde que se certifique que el procedimiento está “en estado de resolverse”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La demora en entregar el certificado da origen a responsabilidad administrativ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l procedimiento NO PUEDE EXCEDER DE 6 MESES (salvo caso fortuito o fuerza mayor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7d47d"/>
                </a:solidFill>
                <a:latin typeface="Arial"/>
              </a:rPr>
              <a:t>Plazos (5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mpliación de los plaz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 petición del interesado o de ofici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Requisito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lazo no debe estar vencid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La ampliación debe decretarse antes del vencimient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ircunstancias deben aconsejar la ampli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Que no se perjudiquen derechos de tercero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No puede exceder la mitad del término prorrogad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n cuanto a los principios, habíamos vis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895320" indent="-465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En cuanto a la instrucción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scritura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eleri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conomía procediment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95320" indent="-465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En cuanto a aspectos garantístico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Gratui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rincipio Conclusivo (plazos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1160" indent="-411480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2f1311"/>
                </a:solidFill>
                <a:latin typeface="Arial"/>
              </a:rPr>
              <a:t>Principio de Contradictoriedad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3) Contradictorie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10 LBPA: Que se discuta todo lo que tenga que discutirs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teresados pueden en cualquier momento deducir alegaciones o aportar documentos u otros elementos de juici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ueden alegarse defectos de tramit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onderación de intereses en juego </a:t>
            </a:r>
            <a:r>
              <a:rPr b="0" i="1" lang="es-CL" sz="2800" spc="-1" strike="noStrike">
                <a:solidFill>
                  <a:srgbClr val="2f1311"/>
                </a:solidFill>
                <a:latin typeface="Arial"/>
              </a:rPr>
              <a:t>debe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 explicitarse en el acto jurídico terminal (deber de fundamentación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mparcialidad y Absten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Imparcialida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11 inciso 1°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lativizado: “juez y parte”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ausales de recus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96080" indent="-496080">
              <a:spcBef>
                <a:spcPts val="700"/>
              </a:spcBef>
              <a:buClr>
                <a:srgbClr val="2f1311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Abstenció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ausales de “implicancia” que dan derecho a abstención: Art. 12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885600" indent="-4604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mplicancia </a:t>
            </a:r>
            <a:r>
              <a:rPr b="0" i="1" lang="es-CL" sz="2400" spc="-1" strike="noStrike">
                <a:solidFill>
                  <a:srgbClr val="2f1311"/>
                </a:solidFill>
                <a:latin typeface="Arial"/>
              </a:rPr>
              <a:t>no invalida</a:t>
            </a: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 per se el acto administrativo, sin perjuicio de generar responsabilidad funcionar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6) Inexcusabili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14 LBP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Va más allá de no poder excusarse de resolver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Si la presentación se hace ante autoridad incompetente, </a:t>
            </a:r>
            <a:r>
              <a:rPr b="0" i="1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funcionario debe informar al interesado de la circunstancia de la incompetencia y remitir los antecedentes a la autoridad competente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 (de hecho, tiene 24 horas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7) Impugnabili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15 LBPA… ¿alguna otra norma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curso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Reposición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Jerárquico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Especial de Revisión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rocede respecto de todo acto administrativo </a:t>
            </a:r>
            <a:r>
              <a:rPr b="0" i="1" lang="es-CL" sz="2400" spc="-1" strike="noStrike">
                <a:solidFill>
                  <a:srgbClr val="2f1311"/>
                </a:solidFill>
                <a:latin typeface="Arial"/>
              </a:rPr>
              <a:t>terminal</a:t>
            </a: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Excepción: actos de mero trámite si: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25"/>
              </a:spcBef>
              <a:buSzPct val="10166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Impiden continuar el procedimiento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25"/>
              </a:spcBef>
              <a:buSzPct val="10166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Producen indefensión (e.g. </a:t>
            </a:r>
            <a:r>
              <a:rPr b="0" i="1" lang="es-CL" sz="1700" spc="-1" strike="noStrike">
                <a:solidFill>
                  <a:srgbClr val="2f1311"/>
                </a:solidFill>
                <a:latin typeface="Arial"/>
              </a:rPr>
              <a:t>solve et repete</a:t>
            </a: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)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¿Quién puede impugnar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7) Transparencia y publicidad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incipio fundamental de la Administración del Estad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8° de la Constituc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rt. 3° y 13° LOCBGA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Ley N° 20.285, Ley de Transparencia de la Función Pública y Acceso a la Información de la Administración del Estad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MUY RELEVANTE para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Fundamentación del acto administrativo (eventuales causales de impugnación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53760" indent="-2512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del Estado (extracontractual y funcionaria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7d47d"/>
                </a:solidFill>
                <a:latin typeface="Arial"/>
              </a:rPr>
              <a:t>PROCEDIMIENTO ADMINISTRATIV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Ley 19.880. Por fin hay ley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 quién se aplica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Órganos de Administración del Estado MENOS el Banco Central y las empresas públicas creadas por ley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Carácter supletorio (Art. 1°)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oblem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7d47d"/>
                </a:solidFill>
                <a:latin typeface="Arial"/>
              </a:rPr>
              <a:t>Sujetos del procedimiento y capacidad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s decir, quién puede gatillar un procedimiento administrativ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El procedimiento administrativo no es </a:t>
            </a:r>
            <a:r>
              <a:rPr b="0" i="1" lang="es-CL" sz="3200" spc="-1" strike="noStrike">
                <a:solidFill>
                  <a:srgbClr val="2f1311"/>
                </a:solidFill>
                <a:latin typeface="Arial"/>
              </a:rPr>
              <a:t>necesariamente</a:t>
            </a: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 bilateral ni contradictori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ujet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La administr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testad jurídica decision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Unidad decisoria formal vs. Unidad decisoria materi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Sujetos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Los interesados (o sujetos pasivos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No se distingue entre “partes” y “terceros”: es interesado todo el que se apersona en el procedimient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ben tener personalidad jurídica (si no la tiene, debe actuar con apoderado común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21 LBPA: sólo se requiere invocar de un derecho o interés individual o colectiv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62720" indent="-2124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Derecho a la ac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Sujetos (3) – Art. 21 LBP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on sujetos: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23760" indent="-480240">
              <a:lnSpc>
                <a:spcPct val="80000"/>
              </a:lnSpc>
              <a:spcBef>
                <a:spcPts val="55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Las personas que promuevan el procedimiento como titulares de derechos o intereses individuales o colectivos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-4248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Ej.: A quienes se les caduca una concesión administrativa, o se les deniega la patente municipal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1" marL="923760" indent="-480240">
              <a:lnSpc>
                <a:spcPct val="80000"/>
              </a:lnSpc>
              <a:spcBef>
                <a:spcPts val="55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Las personas que sin haber iniciado el procedimiento tengan derechos que pudieren resultar afectados por la decisión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-4248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Vecinos de la zona en el marco de un procedimiento de evaluación de impacto ambiental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  <a:p>
            <a:pPr lvl="1" marL="923760" indent="-480240">
              <a:lnSpc>
                <a:spcPct val="80000"/>
              </a:lnSpc>
              <a:spcBef>
                <a:spcPts val="55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2f1311"/>
                </a:solidFill>
                <a:latin typeface="Arial"/>
              </a:rPr>
              <a:t>Las personas que no invocan un derecho sino sólo intereses (individuales o colectivos) y que pudieran resultar afectados por la decisión final.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lvl="2" marL="1311840" indent="-424800">
              <a:lnSpc>
                <a:spcPct val="8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2f1311"/>
                </a:solidFill>
                <a:latin typeface="Arial"/>
              </a:rPr>
              <a:t>Ecologistas que se oponen a la construcción de un camino en una zona determinada.</a:t>
            </a:r>
            <a:endParaRPr b="0" lang="en-US" sz="17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Capacidad – Art. 20 LBP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Capacidad más amplia que en materia civi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on capaces en el procedimien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Quienes ostentan capacidad de goce y ejercicio según reglas general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Menores adultos (sin necesidad de representación ni autorización previa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Doctrina: exceptúa casos de consecuencias patrimoniales que pudieran implicar decisiones que corresponden a tutor o curado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7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7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Fase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istinción previa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ctos de dictación inmediata (e.g. certificado de nacimiento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ctos sujetos a tramitación (lo que nos interesa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Las etapas son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ici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struc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Finaliz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ICI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 oficio o a petición de parte (Art. 28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 oficio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r iniciativa del órgano competente para dictar al acto terminal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r orden de un superior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 petición de otros órganos de la Administr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spcBef>
                <a:spcPts val="601"/>
              </a:spcBef>
              <a:buClr>
                <a:srgbClr val="2f1311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Por denunc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ICIACIÓN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A petición de parte (Art. 30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La solicitud no está sujeta a formalidades puntuales en gener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a administración puede (o debe, según el caso) tener </a:t>
            </a:r>
            <a:r>
              <a:rPr b="0" i="1" lang="es-CL" sz="1800" spc="-1" strike="noStrike">
                <a:solidFill>
                  <a:srgbClr val="2f1311"/>
                </a:solidFill>
                <a:latin typeface="Arial"/>
              </a:rPr>
              <a:t>formularios </a:t>
            </a: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a disposición del interesado (es lo más frecuente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98280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Formalidades mínima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Individualización del interesado y de su apoderado, con domicilio para efectos de notificaciones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Hechos, razones y peticiones en que consiste la solicitud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ugar y fecha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Firma del solicitante (o acreditación de autenticidad de la voluntad expresada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347840" indent="-45720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Órgano al que se dirige la solicitud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STRUC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Objetivo: acopio de antecedentes y pruebas necesarias para la dictación del ac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Prima la </a:t>
            </a:r>
            <a:r>
              <a:rPr b="0" i="1" lang="es-CL" sz="2000" spc="-1" strike="noStrike">
                <a:solidFill>
                  <a:srgbClr val="2f1311"/>
                </a:solidFill>
                <a:latin typeface="Arial"/>
              </a:rPr>
              <a:t>oficiali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Admite todo tipo de prueb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Pueden acompañarse en la solicitud o mediante presentaciones posteriores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La Administración puede abrir un término especial de prueba (Art. 35) si no le constan los hechos alegados por el interesad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No superior a 30 días ni inferior a 10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as pruebas las dispone el órgano instructor o son ofrecidas por el interesado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280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La prueba se aprecia </a:t>
            </a:r>
            <a:r>
              <a:rPr b="0" i="1" lang="es-CL" sz="1800" spc="-1" strike="noStrike">
                <a:solidFill>
                  <a:srgbClr val="2f1311"/>
                </a:solidFill>
                <a:latin typeface="Arial"/>
              </a:rPr>
              <a:t>en conciencia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INSTRUCCIÓN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dministración puede producir prueba de ofici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Si rechaza pruebas del interesado, la resolución debe ser motivad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¿Impugnable?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es facultativos / vinculantes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ación públic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FINALIZ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e toma la decisión (acto administrativo terminal), sea cual fuere la denominación (DS, resolución, ordenanza, reglamento, oficio, etc.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Acto form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Recordemos requisitos acto administrativo, caracteres, etc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Fundamentación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2f1311"/>
                </a:solidFill>
                <a:latin typeface="Arial"/>
              </a:rPr>
              <a:t>Reformatio in peius </a:t>
            </a: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(doctrina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Silencio administrativo (Art. 64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Positiv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2f1311"/>
                </a:solidFill>
                <a:latin typeface="Arial"/>
              </a:rPr>
              <a:t>Negativ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Defini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18 de la ley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“</a:t>
            </a:r>
            <a:r>
              <a:rPr b="0" i="1" lang="es-CL" sz="2800" spc="-1" strike="noStrike">
                <a:solidFill>
                  <a:srgbClr val="2f1311"/>
                </a:solidFill>
                <a:latin typeface="Arial"/>
              </a:rPr>
              <a:t>Sucesión de actos trámite vinculados entre sí, emanados de la Administración y, en su caso, de particulares interesados, que tiene por finalidad producir un acto administrativo terminal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finición formal: excluye aspectos teleológicos y se centra en la FORMA de exteriorizar la voluntad orgánic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iferencias de fondo con sede judicial de impugn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FINALIZACIÓN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También hay otras formas de finalizar el procedimiento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Renunci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sestimient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bandon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Causa sobreviniente que impide continuar con el procedimiento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412640"/>
            <a:ext cx="76932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incipios relativos a la instrucción del procedimien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scrituración – Art. 5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eleridad – Art. 7° (Art. 63: proced. de urgencia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conomía procedimental (Art. 9°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Cuestiones incidentales no suspende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Art. 33: acumulac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No formalizació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No aplica a acto termin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2f1311"/>
              </a:buClr>
              <a:buSzPct val="7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2f1311"/>
                </a:solidFill>
                <a:latin typeface="Arial"/>
              </a:rPr>
              <a:t>Prohibición de que la formalización obste a la finalidad del procedimien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2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Principios relativos al aspecto garantístico del procedimiento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f1311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Gratuidad (Art. 6°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Costo a usuario exige ley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Excepción: tasas y derechos (ej. Certificado de nacimiento)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3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921240" indent="-496080">
              <a:lnSpc>
                <a:spcPct val="90000"/>
              </a:lnSpc>
              <a:spcBef>
                <a:spcPts val="700"/>
              </a:spcBef>
              <a:buClr>
                <a:srgbClr val="2f1311"/>
              </a:buClr>
              <a:buSzPct val="80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incipio conclusivo (Art. 8°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 dubio pro actio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Muy importante respecto de los </a:t>
            </a:r>
            <a:r>
              <a:rPr b="1" lang="es-CL" sz="3200" spc="-1" strike="noStrike" u="sng">
                <a:solidFill>
                  <a:srgbClr val="2f1311"/>
                </a:solidFill>
                <a:uFillTx/>
                <a:latin typeface="Arial"/>
              </a:rPr>
              <a:t>PLAZOS</a:t>
            </a: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lazos de LBPA son obligatorios para la Administr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cumplimiento puede caus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funcionar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extracontractual del E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275480" indent="-4251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ilencio Administrativ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4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Art. 25: Días hábiles de lunes a vierne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e cuentan desde “el día siguiente a aquél en que se notifique o publique el acto de que se trate o se produzca su estimación o desestimación por silencio administrativo”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Si vence en día inhábil, se prorroga al día hábil siguiente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 (5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Obligaciones de la Administración en materia de plaz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Art. 24: desde que funcionario recibe solicitud o expediente: 24 horas para remitirlo a oficina que corresponda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rovidencias de mero trámite: dentro de 48 horas de recep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formes, dictámenes o similares: 10 días desde la peti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Decisiones definitivas (acto terminal): 20 días desde que se certifique que el procedimiento está “en estado de resolverse”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7d47d"/>
                </a:solidFill>
                <a:latin typeface="Arial"/>
              </a:rPr>
              <a:t>Principios del procedimient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2f1311"/>
                </a:solidFill>
                <a:uFillTx/>
                <a:latin typeface="Arial"/>
              </a:rPr>
              <a:t>Principio conclusivo</a:t>
            </a: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 (Art. 8°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In dubio pro action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2f1311"/>
                </a:solidFill>
                <a:uFillTx/>
                <a:latin typeface="Arial"/>
              </a:rPr>
              <a:t>PLAZOS</a:t>
            </a:r>
            <a:r>
              <a:rPr b="0" lang="es-CL" sz="3200" spc="-1" strike="noStrike">
                <a:solidFill>
                  <a:srgbClr val="2f1311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Plazos de LBPA son obligatorios para la Administración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f1311"/>
                </a:solidFill>
                <a:latin typeface="Arial"/>
              </a:rPr>
              <a:t>Incumplimiento puede causa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funcionari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Responsabilidad extracontractual del E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f1311"/>
                </a:solidFill>
                <a:latin typeface="Arial"/>
              </a:rPr>
              <a:t>Silencio Administrativo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4:45:04Z</dcterms:created>
  <dc:creator>Victor Fenner</dc:creator>
  <dc:description/>
  <dc:language>en-US</dc:language>
  <cp:lastModifiedBy>Daniel Andres Iribarren Abarca</cp:lastModifiedBy>
  <dcterms:modified xsi:type="dcterms:W3CDTF">2009-07-25T20:25:20Z</dcterms:modified>
  <cp:revision>4</cp:revision>
  <dc:subject/>
  <dc:title>DERECHO ADMINISTRATIVO</dc:title>
</cp:coreProperties>
</file>