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0217-8B7D-4D6B-8EB9-61717697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781-3227-42ED-8D52-2268172B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02D6-FB19-42ED-8D34-DC4F78EE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77E-A96E-4763-89BA-2D20082A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CA88-9639-406D-9052-B02E8434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B119-3D27-47A2-854B-95D9D1E0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63EB-99F7-43DE-92DA-AC2FB092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563A-42A6-4A10-B18A-EDD0122C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D043-31CA-4118-9D79-AF132BE7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F219-F8C8-4F69-BBCE-3C44C065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7B86-FAAE-4EE2-9C94-408295F1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283-A7DE-4B5F-8F92-1F2E8B6F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F2BF-9E06-413F-8F09-0F0FFF74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40E6-2E92-40D0-AC26-76497751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3680-2124-4B03-A7B4-3ABE8189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EEFF-43C4-452B-B907-A05978A8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3C0D-B8B3-4601-8506-DAC119CE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240-1DDD-49B0-BDFF-694919FC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613-7289-4A47-9322-76F3432F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639B-111D-4B32-BDC3-4A1FEB9A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F1BC-9F20-4B43-9FA1-2EE35597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244-9572-423B-8CCF-E5C6D2D3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F761-0673-4E8E-A297-9B08CBAA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B53F-DD34-4EA5-91C3-4B2C1A7C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91D8-18DA-44DC-8D2A-D85E14E4EBA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9C77-751C-4E92-8541-47551BB4A7BF}" type="slidenum">
              <a:rPr b="0" lang="es-E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3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DERECHO ADMINISTRATIV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lazos (2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Art. 25: Días hábiles de lunes a viern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Se cuentan desde “el día siguiente a aquél en que se notifique o publique el acto de que se trate o se produzca su estimación o desestimación por silencio administrativo”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Si vence en día inhábil, se prorroga al día hábil siguient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lazos (3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Obligaciones de la Administración en materia de plazo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Art. 24: desde que funcionario recibe solicitud o expediente: 24 horas para remitirlo a oficina que correspond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rovidencias de mero trámite: dentro de 48 horas de recep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Informes, dictámenes o similares: 10 días desde la peti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lazos (4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Decisiones definitivas (acto terminal): 20 días desde que se certifique que el procedimiento está “en estado de resolverse”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La demora en entregar el certificado da origen a responsabilidad administrativ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El procedimiento NO PUEDE EXCEDER DE 6 MESES (salvo caso fortuito o fuerza mayor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7d47d"/>
                </a:solidFill>
                <a:latin typeface="Arial"/>
              </a:rPr>
              <a:t>Plazos (5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Ampliación de los plazo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A petición del interesado o de ofici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Requisito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Plazo no debe estar vencid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La ampliación debe decretarse antes del vencimient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Circunstancias deben aconsejar la amplia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Que no se perjudiquen derechos de tercero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No puede exceder la mitad del término prorrogad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rincipios del Procedimient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En cuanto a los principios, habíamos visto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895320" indent="-465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En cuanto a la instrucción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271160" indent="-411480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Escrituració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71160" indent="-411480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Celerida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71160" indent="-411480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Economía procediment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895320" indent="-465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En cuanto a aspectos garantístico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271160" indent="-411480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Gratuida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71160" indent="-411480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Principio Conclusivo (plazos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71160" indent="-411480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2f1311"/>
                </a:solidFill>
                <a:latin typeface="Arial"/>
              </a:rPr>
              <a:t>Principio de Contradictorieda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3) Contradictorieda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Art. 10 LBPA: Que se discuta todo lo que tenga que discutirse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Interesados pueden en cualquier momento deducir alegaciones o aportar documentos u otros elementos de juici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ueden alegarse defectos de tramita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onderación de intereses en juego </a:t>
            </a:r>
            <a:r>
              <a:rPr b="0" i="1" lang="es-CL" sz="2800" spc="-1" strike="noStrike">
                <a:solidFill>
                  <a:srgbClr val="2f1311"/>
                </a:solidFill>
                <a:latin typeface="Arial"/>
              </a:rPr>
              <a:t>debe</a:t>
            </a: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 explicitarse en el acto jurídico terminal (deber de fundamentación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Imparcialidad y Absten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2f1311"/>
                </a:solidFill>
                <a:uFillTx/>
                <a:latin typeface="Arial"/>
              </a:rPr>
              <a:t>Imparcialida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885600" indent="-4604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rt. 11 inciso 1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885600" indent="-4604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Relativizado: “juez y parte”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885600" indent="-4604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Causales de recusa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885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96080" indent="-496080"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2f1311"/>
                </a:solidFill>
                <a:uFillTx/>
                <a:latin typeface="Arial"/>
              </a:rPr>
              <a:t>Abstenció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885600" indent="-4604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Causales de “implicancia” que dan derecho a abstención: Art. 12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885600" indent="-4604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Implicancia </a:t>
            </a:r>
            <a:r>
              <a:rPr b="0" i="1" lang="es-CL" sz="2400" spc="-1" strike="noStrike">
                <a:solidFill>
                  <a:srgbClr val="2f1311"/>
                </a:solidFill>
                <a:latin typeface="Arial"/>
              </a:rPr>
              <a:t>no invalida</a:t>
            </a: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 per se el acto administrativo, sin perjuicio de generar responsabilidad funcionari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6) Inexcusabilida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Art. 14 LBP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Va más allá de no poder excusarse de resolv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Si la presentación se hace ante autoridad incompetente, </a:t>
            </a:r>
            <a:r>
              <a:rPr b="0" i="1" lang="es-CL" sz="2800" spc="-1" strike="noStrike" u="sng">
                <a:solidFill>
                  <a:srgbClr val="2f1311"/>
                </a:solidFill>
                <a:uFillTx/>
                <a:latin typeface="Arial"/>
              </a:rPr>
              <a:t>funcionario debe informar al interesado de la circunstancia de la incompetencia y remitir los antecedentes a la autoridad competente</a:t>
            </a: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 (de hecho, tiene 24 horas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7) Impugnabilida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rt. 15 LBPA… ¿alguna otra norma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Recursos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2f1311"/>
                </a:solidFill>
                <a:latin typeface="Arial"/>
              </a:rPr>
              <a:t>Reposición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2f1311"/>
                </a:solidFill>
                <a:latin typeface="Arial"/>
              </a:rPr>
              <a:t>Jerárquico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2f1311"/>
                </a:solidFill>
                <a:latin typeface="Arial"/>
              </a:rPr>
              <a:t>Especial de Revisión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Procede respecto de todo acto administrativo </a:t>
            </a:r>
            <a:r>
              <a:rPr b="0" i="1" lang="es-CL" sz="2400" spc="-1" strike="noStrike">
                <a:solidFill>
                  <a:srgbClr val="2f1311"/>
                </a:solidFill>
                <a:latin typeface="Arial"/>
              </a:rPr>
              <a:t>terminal</a:t>
            </a: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2f1311"/>
                </a:solidFill>
                <a:latin typeface="Arial"/>
              </a:rPr>
              <a:t>Excepción: actos de mero trámite si: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25"/>
              </a:spcBef>
              <a:buSzPct val="101667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2f1311"/>
                </a:solidFill>
                <a:latin typeface="Arial"/>
              </a:rPr>
              <a:t>Impiden continuar el procedimiento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25"/>
              </a:spcBef>
              <a:buSzPct val="101667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2f1311"/>
                </a:solidFill>
                <a:latin typeface="Arial"/>
              </a:rPr>
              <a:t>Producen indefensión (e.g. </a:t>
            </a:r>
            <a:r>
              <a:rPr b="0" i="1" lang="es-CL" sz="1700" spc="-1" strike="noStrike">
                <a:solidFill>
                  <a:srgbClr val="2f1311"/>
                </a:solidFill>
                <a:latin typeface="Arial"/>
              </a:rPr>
              <a:t>solve et repete</a:t>
            </a:r>
            <a:r>
              <a:rPr b="0" lang="es-CL" sz="1700" spc="-1" strike="noStrike">
                <a:solidFill>
                  <a:srgbClr val="2f1311"/>
                </a:solidFill>
                <a:latin typeface="Arial"/>
              </a:rPr>
              <a:t>)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¿Quién puede impugnar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7) Transparencia y publicida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rincipio fundamental de la Administración del Estado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rt. 8° de la Constitució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rt. 3° y 13° LOCBGA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Ley N° 20.285, Ley de Transparencia de la Función Pública y Acceso a la Información de la Administración del Estad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MUY RELEVANTE para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Fundamentación del acto administrativo (eventuales causales de impugnación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Responsabilidad del Estado (extracontractual y funcionaria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7d47d"/>
                </a:solidFill>
                <a:latin typeface="Arial"/>
              </a:rPr>
              <a:t>PROCEDIMIENTO ADMINISTRATIV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Ley 19.880. Por fin hay le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A quién se aplica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Órganos de Administración del Estado MENOS el Banco Central y las empresas públicas creadas por le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Carácter supletorio (Art. 1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roblem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7d47d"/>
                </a:solidFill>
                <a:latin typeface="Arial"/>
              </a:rPr>
              <a:t>Sujetos del procedimiento y capacida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Es decir, quién puede gatillar un procedimiento administrativ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El procedimiento administrativo no es </a:t>
            </a:r>
            <a:r>
              <a:rPr b="0" i="1" lang="es-CL" sz="3200" spc="-1" strike="noStrike">
                <a:solidFill>
                  <a:srgbClr val="2f1311"/>
                </a:solidFill>
                <a:latin typeface="Arial"/>
              </a:rPr>
              <a:t>necesariamente</a:t>
            </a: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 bilateral ni contradictori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Sujeto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La administra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Potestad jurídica decisiona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Unidad decisoria formal vs. Unidad decisoria materia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Sujetos (2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Los interesados (o sujetos pasivos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No se distingue entre “partes” y “terceros”: es interesado todo el que se apersona en el procedimient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eben tener personalidad jurídica (si no la tiene, debe actuar con apoderado común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Art. 21 LBPA: sólo se requiere invocar de un derecho o interés individual o colectiv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Derecho a la ac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Sujetos (3) – Art. 21 LBP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Son sujetos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23760" indent="-480240">
              <a:lnSpc>
                <a:spcPct val="80000"/>
              </a:lnSpc>
              <a:spcBef>
                <a:spcPts val="550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2f1311"/>
                </a:solidFill>
                <a:latin typeface="Arial"/>
              </a:rPr>
              <a:t>Las personas que promuevan el procedimiento como titulares de derechos o intereses individuales o colectivos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2" marL="1311840" indent="-42480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2f1311"/>
                </a:solidFill>
                <a:latin typeface="Arial"/>
              </a:rPr>
              <a:t>Ej.: A quienes se les caduca una concesión administrativa, o se les deniega la patente municipal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lvl="2" marL="131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lvl="1" marL="923760" indent="-480240">
              <a:lnSpc>
                <a:spcPct val="80000"/>
              </a:lnSpc>
              <a:spcBef>
                <a:spcPts val="550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2f1311"/>
                </a:solidFill>
                <a:latin typeface="Arial"/>
              </a:rPr>
              <a:t>Las personas que sin haber iniciado el procedimiento tengan derechos que pudieren resultar afectados por la decisión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2" marL="1311840" indent="-42480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2f1311"/>
                </a:solidFill>
                <a:latin typeface="Arial"/>
              </a:rPr>
              <a:t>Vecinos de la zona en el marco de un procedimiento de evaluación de impacto ambiental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lvl="2" marL="131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lvl="1" marL="923760" indent="-480240">
              <a:lnSpc>
                <a:spcPct val="80000"/>
              </a:lnSpc>
              <a:spcBef>
                <a:spcPts val="550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2f1311"/>
                </a:solidFill>
                <a:latin typeface="Arial"/>
              </a:rPr>
              <a:t>Las personas que no invocan un derecho sino sólo intereses (individuales o colectivos) y que pudieran resultar afectados por la decisión final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2" marL="1311840" indent="-42480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2f1311"/>
                </a:solidFill>
                <a:latin typeface="Arial"/>
              </a:rPr>
              <a:t>Ecologistas que se oponen a la construcción de un camino en una zona determinada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Capacidad – Art. 20 LBP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Capacidad más amplia que en materia civi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Son capaces en el procedimiento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Quienes ostentan capacidad de goce y ejercicio según reglas general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Menores adultos (sin necesidad de representación ni autorización previa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Doctrina: exceptúa casos de consecuencias patrimoniales que pudieran implicar decisiones que corresponden a tutor o curado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7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Fases del procedimient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istinción previa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ctos de dictación inmediata (e.g. certificado de nacimiento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ctos sujetos a tramitación (lo que nos interesa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Las etapas son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Inicia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Instruc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Finaliza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INICIA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e oficio o a petición de parte (Art. 28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e oficio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f1311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Por iniciativa del órgano competente para dictar al acto termina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f1311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Por orden de un superio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f1311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 petición de otros órganos de la Administra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f1311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Por denunci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INICIACIÓN (2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 petición de parte (Art. 30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La solicitud no está sujeta a formalidades puntuales en genera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34784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La administración puede (o debe, según el caso) tener </a:t>
            </a:r>
            <a:r>
              <a:rPr b="0" i="1" lang="es-CL" sz="1800" spc="-1" strike="noStrike">
                <a:solidFill>
                  <a:srgbClr val="2f1311"/>
                </a:solidFill>
                <a:latin typeface="Arial"/>
              </a:rPr>
              <a:t>formularios </a:t>
            </a: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a disposición del interesado (es lo más frecuente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3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Formalidades mínimas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34784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Individualización del interesado y de su apoderado, con domicilio para efectos de notificaciones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34784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Hechos, razones y peticiones en que consiste la solicitud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34784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Lugar y fecha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34784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Firma del solicitante (o acreditación de autenticidad de la voluntad expresada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34784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Órgano al que se dirige la solicitud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INSTRUC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Objetivo: acopio de antecedentes y pruebas necesarias para la dictación del act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Prima la </a:t>
            </a:r>
            <a:r>
              <a:rPr b="0" i="1" lang="es-CL" sz="2000" spc="-1" strike="noStrike">
                <a:solidFill>
                  <a:srgbClr val="2f1311"/>
                </a:solidFill>
                <a:latin typeface="Arial"/>
              </a:rPr>
              <a:t>oficialida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Admite todo tipo de prueb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Pueden acompañarse en la solicitud o mediante presentaciones posteriores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La Administración puede abrir un término especial de prueba (Art. 35) si no le constan los hechos alegados por el interesad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No superior a 30 días ni inferior a 10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Las pruebas las dispone el órgano instructor o son ofrecidas por el interesado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La prueba se aprecia </a:t>
            </a:r>
            <a:r>
              <a:rPr b="0" i="1" lang="es-CL" sz="1800" spc="-1" strike="noStrike">
                <a:solidFill>
                  <a:srgbClr val="2f1311"/>
                </a:solidFill>
                <a:latin typeface="Arial"/>
              </a:rPr>
              <a:t>en conciencia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INSTRUCCIÓN (2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Administración puede producir prueba de ofici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Si rechaza pruebas del interesado, la resolución debe ser motivad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¿Impugnable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Informes facultativos / vinculant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Información públic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FINALIZA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Se toma la decisión (acto administrativo terminal), sea cual fuere la denominación (DS, resolución, ordenanza, reglamento, oficio, etc.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Acto forma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Recordemos requisitos acto administrativo, caracteres, etc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Fundamentación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2f1311"/>
                </a:solidFill>
                <a:latin typeface="Arial"/>
              </a:rPr>
              <a:t>Reformatio in peius </a:t>
            </a: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(doctrina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Silencio administrativo (Art. 64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Positiv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Negativ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Defini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Art. 18 de la ley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i="1" lang="es-CL" sz="2800" spc="-1" strike="noStrike">
                <a:solidFill>
                  <a:srgbClr val="2f1311"/>
                </a:solidFill>
                <a:latin typeface="Arial"/>
              </a:rPr>
              <a:t>Sucesión de actos trámite vinculados entre sí, emanados de la Administración y, en su caso, de particulares interesados, que tiene por finalidad producir un acto administrativo terminal</a:t>
            </a: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efinición formal: excluye aspectos teleológicos y se centra en la FORMA de exteriorizar la voluntad orgánic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iferencias de fondo con sede judicial de impugna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FINALIZACIÓN (2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También hay otras formas de finalizar el procedimiento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Renunci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esestimient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Abandon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Causa sobreviniente que impide continuar con el procedimient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rincipios del procedimient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412640"/>
            <a:ext cx="76932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rincipios relativos a la instrucción del procedimient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Escrituración – Art. 5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Celeridad – Art. 7° (Art. 63: proced. de urgencia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Economía procedimental (Art. 9°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Cuestiones incidentales no suspende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Art. 33: acumulació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No formaliza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No aplica a acto termina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Prohibición de que la formalización obste a la finalidad del procedimient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rincipios del procedimiento (2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Principios relativos al aspecto garantístico del procedimient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Gratuidad (Art. 6°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Costo a usuario exige ley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Excepción: tasas y derechos (ej. Certificado de nacimiento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rincipios del procedimiento (3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921240" indent="-496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SzPct val="8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rincipio conclusivo (Art. 8°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In dubio pro action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7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Muy importante respecto de los </a:t>
            </a:r>
            <a:r>
              <a:rPr b="1" lang="es-CL" sz="3200" spc="-1" strike="noStrike" u="sng">
                <a:solidFill>
                  <a:srgbClr val="2f1311"/>
                </a:solidFill>
                <a:uFillTx/>
                <a:latin typeface="Arial"/>
              </a:rPr>
              <a:t>PLAZOS</a:t>
            </a: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lazos de LBPA son obligatorios para la Administra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Incumplimiento puede causa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Responsabilidad funcionari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Responsabilidad extracontractual del E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Silencio Administrativ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rincipios del procedimiento (4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Art. 25: Días hábiles de lunes a viern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Se cuentan desde “el día siguiente a aquél en que se notifique o publique el acto de que se trate o se produzca su estimación o desestimación por silencio administrativo”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Si vence en día inhábil, se prorroga al día hábil siguient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rincipios del procedimiento (5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Obligaciones de la Administración en materia de plazo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Art. 24: desde que funcionario recibe solicitud o expediente: 24 horas para remitirlo a oficina que correspond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rovidencias de mero trámite: dentro de 48 horas de recep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Informes, dictámenes o similares: 10 días desde la peti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ecisiones definitivas (acto terminal): 20 días desde que se certifique que el procedimiento está “en estado de resolverse”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rincipios del procedimient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2f1311"/>
                </a:solidFill>
                <a:uFillTx/>
                <a:latin typeface="Arial"/>
              </a:rPr>
              <a:t>Principio conclusivo</a:t>
            </a: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 (Art. 8°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In dubio pro action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2f1311"/>
                </a:solidFill>
                <a:uFillTx/>
                <a:latin typeface="Arial"/>
              </a:rPr>
              <a:t>PLAZOS</a:t>
            </a: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lazos de LBPA son obligatorios para la Administra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Incumplimiento puede causa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Responsabilidad funcionari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Responsabilidad extracontractual del E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Silencio Administrativ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4:45:04Z</dcterms:created>
  <dc:creator>Victor Fenner</dc:creator>
  <dc:description/>
  <dc:language>en-US</dc:language>
  <cp:lastModifiedBy>Daniel Andres Iribarren Abarca</cp:lastModifiedBy>
  <dcterms:modified xsi:type="dcterms:W3CDTF">2009-07-25T20:25:20Z</dcterms:modified>
  <cp:revision>4</cp:revision>
  <dc:subject/>
  <dc:title>DERECHO ADMINISTRATIVO</dc:title>
</cp:coreProperties>
</file>