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6DA-108E-42A3-A14F-8784236A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89D-723E-4655-A068-EC07483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D89-0E3C-4CD2-B5E5-A138DD57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5D9-D7C2-48FB-8A36-37DEF385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D1A-A7A6-48F4-BB1D-A61237F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1A1-8556-4D5B-912F-5D81FD2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3AC-AF4E-4797-9F8F-0E92FEFB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915-95F0-4269-9553-927E232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32E-2A9B-489A-870D-F082158F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B05-AE56-4C06-8AC4-170C59C7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5D7-7C12-4D94-A3E4-3B641B8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9AA-EB4A-43A4-83AF-9C4DE7F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52D-0DB0-45A4-B9B7-74000844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3640"/>
            <a:ext cx="6110280" cy="9349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</a:t>
            </a:r>
            <a:br>
              <a:rPr sz="4100"/>
            </a:br>
            <a:r>
              <a:rPr b="1" lang="es-ES_tradnl" sz="3200" spc="-1" strike="noStrike">
                <a:solidFill>
                  <a:srgbClr val="ff0000"/>
                </a:solidFill>
                <a:latin typeface="Book Antiqua"/>
              </a:rPr>
              <a:t>DERECHO ADMINISTRATIVO</a:t>
            </a:r>
            <a:br>
              <a:rPr sz="3200"/>
            </a:br>
            <a:r>
              <a:rPr b="1" lang="es-ES_tradnl" sz="1400" spc="-1" strike="noStrike">
                <a:solidFill>
                  <a:srgbClr val="ff0000"/>
                </a:solidFill>
                <a:latin typeface="Book Antiqua"/>
              </a:rPr>
              <a:t>Resumen de mate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6000"/>
          </a:bodyPr>
          <a:p>
            <a:pPr marL="240840" indent="-240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DERE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ESTADO MODERN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constitucional de primera generación o Estado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de segunda generación o Estad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l Estado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DAD COMO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objetivo: CPR art. 6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subjetivo, CPR, art. 7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Los Principios del Derecho Administrativo: Clásicos, Moderno,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ADMINISTRACIÓN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L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AUTORIDAD (ver separ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LEGALIDAD (ver separ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n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interno: LOCBGAE, arts. 11 y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externo: CPR, art. 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De la Administración: las instituciones fiscalizadoras: la actividad de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JUSTI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el Derecho comparado: el contencioso administrativo franc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Chile: CPR, art.38, inc. 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7000"/>
          </a:bodyPr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PRINCIPIO MOD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DE LA SERVICI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El Estado social y la nueva finalidad del Estado: satisfacer necesidades públicas de manera regular y continua, conforme a un procedimiento de procedi-miento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Instrumento: el servicio público, organización perm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nente del Estado destinad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satisfacer de manera regul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ON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ORÁN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LOCBGAE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robidad: Título III, LOCB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Transparencia: CPR, art. 3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ey N° 20.285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31:31Z</dcterms:created>
  <dc:creator>Rolando Pantoja</dc:creator>
  <dc:description/>
  <dc:language>en-US</dc:language>
  <cp:lastModifiedBy>Rolando Pantoja</cp:lastModifiedBy>
  <dcterms:modified xsi:type="dcterms:W3CDTF">2009-07-17T22:40:29Z</dcterms:modified>
  <cp:revision>6</cp:revision>
  <dc:subject/>
  <dc:title>Diapositiva 1</dc:title>
</cp:coreProperties>
</file>