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8AB-405B-4B24-AE43-549C4CA6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EF7-B6FB-474E-B83C-C9F2CBDE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378-8AD3-4FBC-A48A-B968003A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366-1F0C-439E-A1FF-F1DD3CA3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527-52A1-4B8A-A9F2-3F49AD5D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ECB-ED19-4D1E-B69F-2938FBD1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A83-86EF-478B-B65A-55B6A59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CAD-15AC-48C3-9C54-F0E76D46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CF2-A5AD-4A24-8542-CB4CD8AE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1CD-4662-4BBD-B062-6430183F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68B-AFC5-4F32-B15F-6BB67E4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3BD-123A-4149-9BC5-3B681A9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D8ED-79A1-4DD8-A988-801D2DFB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3640"/>
            <a:ext cx="6110280" cy="9349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</a:t>
            </a:r>
            <a:br>
              <a:rPr sz="4100"/>
            </a:br>
            <a:r>
              <a:rPr b="1" lang="es-ES_tradnl" sz="3200" spc="-1" strike="noStrike">
                <a:solidFill>
                  <a:srgbClr val="ff0000"/>
                </a:solidFill>
                <a:latin typeface="Book Antiqua"/>
              </a:rPr>
              <a:t>DERECHO ADMINISTRATIVO</a:t>
            </a:r>
            <a:br>
              <a:rPr sz="3200"/>
            </a:br>
            <a:r>
              <a:rPr b="1" lang="es-ES_tradnl" sz="1400" spc="-1" strike="noStrike">
                <a:solidFill>
                  <a:srgbClr val="ff0000"/>
                </a:solidFill>
                <a:latin typeface="Book Antiqua"/>
              </a:rPr>
              <a:t>Resumen de mate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6000"/>
          </a:bodyPr>
          <a:p>
            <a:pPr marL="240840" indent="-240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DERE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ESTADO MODERNO CO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constitucional de primera generación o Estado lib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stado moderno de segunda generación o Estado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l Estado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DAD COMO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objetivo: CPR art. 6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Derecho subjetivo, CPR, art. 7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Los Principios del Derecho Administrativo: Clásicos, Moderno, Contemporán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EL DAD COMO ADMINISTRACIÓN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-149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mo Administración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840" indent="-240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L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8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AUTORIDAD (ver separ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LEGALIDAD (ver separat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En la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interno: LOCBGAE, arts. 11 y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33400" indent="-155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BernhardMod BT"/>
              <a:buChar char="•"/>
              <a:tabLst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  <a:tab algn="l" pos="9045720"/>
              </a:tabLst>
            </a:pPr>
            <a:r>
              <a:rPr b="1" i="1" lang="es-ES_tradnl" sz="1800" spc="-1" strike="noStrike">
                <a:solidFill>
                  <a:srgbClr val="0000ff"/>
                </a:solidFill>
                <a:latin typeface="BernhardMod BT"/>
              </a:rPr>
              <a:t>Control externo: CPR, art. 9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De la Administración: las instituciones fiscalizadoras: la actividad de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DE LA JUSTIC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el Derecho comparado: el contencioso administrativo franc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n Chile: CPR, art.38, inc. 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LOS PRINCIPIOS DE</a:t>
            </a: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	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Book Antiqua"/>
              </a:rPr>
              <a:t>DERECHO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476360"/>
            <a:ext cx="472428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 fontScale="97000"/>
          </a:bodyPr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EL PRINCIPIO MODER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DE LA SERVICI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El Estado social y la nueva finalidad del Estado: satisfacer necesidades públicas de manera regular y continua, conforme a un procedimiento de procedi-miento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* Instrumento: el servicio público, organización perm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nente del Estado destinad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satisfacer de manera regul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OS PRINCIPIOS CONTE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ORÁNE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	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     </a:t>
            </a: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-LOCBGAE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Probidad: Título III, LOCBG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Transparencia: CPR, art. 3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Ley N° 20.285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31:31Z</dcterms:created>
  <dc:creator>Rolando Pantoja</dc:creator>
  <dc:description/>
  <dc:language>en-US</dc:language>
  <cp:lastModifiedBy>Rolando Pantoja</cp:lastModifiedBy>
  <dcterms:modified xsi:type="dcterms:W3CDTF">2009-07-17T22:40:29Z</dcterms:modified>
  <cp:revision>6</cp:revision>
  <dc:subject/>
  <dc:title>Diapositiva 1</dc:title>
</cp:coreProperties>
</file>