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3DB-CAFF-471E-A7CD-9DE9B43D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458-839B-4953-8D52-FBE61FD7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A9C-DE78-4C34-92AC-683E7508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35D-5C94-43D9-9625-A3CA526A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FCA-EA73-4C90-BED1-71F8D994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A5E-4BB0-42E4-913B-D2E0B41C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959-37C0-47D4-A0B2-E5CEA9EE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4FC-461E-4D53-9FFA-CC93EA76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FBF-F8D7-4725-8626-53B0CB89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E39-C1D6-4DB3-BE8D-0CCB4250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1CD-30FB-4D9C-8410-E681C21F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F0F-10CA-44C2-861B-550547A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16A8-4E91-43F3-B8E9-F370548AC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7360" y="323640"/>
            <a:ext cx="6110280" cy="9349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</a:t>
            </a:r>
            <a:br>
              <a:rPr sz="4100"/>
            </a:br>
            <a:r>
              <a:rPr b="1" lang="es-ES_tradnl" sz="3200" spc="-1" strike="noStrike">
                <a:solidFill>
                  <a:srgbClr val="ff0000"/>
                </a:solidFill>
                <a:latin typeface="Book Antiqua"/>
              </a:rPr>
              <a:t>DERECHO ADMINISTRATIVO</a:t>
            </a:r>
            <a:br>
              <a:rPr sz="3200"/>
            </a:br>
            <a:r>
              <a:rPr b="1" lang="es-ES_tradnl" sz="1400" spc="-1" strike="noStrike">
                <a:solidFill>
                  <a:srgbClr val="ff0000"/>
                </a:solidFill>
                <a:latin typeface="Book Antiqua"/>
              </a:rPr>
              <a:t>Resumen de mate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 fontScale="96000"/>
          </a:bodyPr>
          <a:p>
            <a:pPr marL="240840" indent="-240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EL DAD COMO DERE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ESTADO MODERNO CO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stado moderno constitucional de primera generación o Estado lib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stado moderno de segunda generación o Estado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l Estado contemporá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DAD COMO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Derecho objetivo: CPR art. 6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Derecho subjetivo, CPR, art. 7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Los Principios del Derecho Administrativo: Clásicos, Moderno, Contemporá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EL DAD COMO ADMINISTRACIÓN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LOS PRINCIPIOS DE</a:t>
            </a: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	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DERECH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OS PRINCIPIOS CL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AUTORIDAD (ver separ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LEGALIDAD (ver separ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n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BernhardMod BT"/>
              </a:rPr>
              <a:t>Control interno: LOCBGAE, arts. 11 y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BernhardMod BT"/>
              </a:rPr>
              <a:t>Control externo: CPR, art. 9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De la Administración: las instituciones fiscalizadoras: la actividad de reg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JUSTIC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n el Derecho comparado: el contencioso administrativo franc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n Chile: CPR, art.38, inc. 2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LOS PRINCIPIOS DE</a:t>
            </a: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	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DERECH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 fontScale="97000"/>
          </a:bodyPr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PRINCIPIO MODER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-DE LA SERVICI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* El Estado social y la nueva finalidad del Estado: satisfacer necesidades públicas de manera regular y continua, conforme a un procedimiento de procedi-miento de Derech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* Instrumento: el servicio público, organización perm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nente del Estado destinad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satisfacer de manera regul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OS PRINCIPIOS CONTE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PORÁNE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-LOCBGAE, ART. 3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Probidad: Título III, LOCBG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Transparencia: CPR, art. 3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ey N° 20.285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1:31:31Z</dcterms:created>
  <dc:creator>Rolando Pantoja</dc:creator>
  <dc:description/>
  <dc:language>en-US</dc:language>
  <cp:lastModifiedBy>Rolando Pantoja</cp:lastModifiedBy>
  <dcterms:modified xsi:type="dcterms:W3CDTF">2009-07-17T22:40:29Z</dcterms:modified>
  <cp:revision>6</cp:revision>
  <dc:subject/>
  <dc:title>Diapositiva 1</dc:title>
</cp:coreProperties>
</file>