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BA5-CF57-48EE-AF35-54FEEED8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108-DE4C-4A63-B493-0145F6CB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8C3-224F-41E3-8119-D7A2F3FE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631-A0C5-4473-8A8B-FA899E93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1E4-2B5F-4424-B9E5-FB64AFB1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484-2D4C-4CAD-AE39-B1A02C89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C95-E5F6-4B5E-BC7E-149F482F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971-E739-47F9-B049-DDE4EA20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315-8E9C-4AEB-9D72-CF2F07CB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C55-BF20-401B-A197-84E6944A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2CC-B885-4181-B305-55B5F83F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0FB-083E-4835-B696-B9E27D3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9F8-E58E-4BD4-9F72-8B37659A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720" y="324000"/>
            <a:ext cx="5776920" cy="1511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50720" y="3419640"/>
            <a:ext cx="4606920" cy="547344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9000"/>
          </a:bodyPr>
          <a:p>
            <a:pPr marL="24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FUNDAMENTO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INTERPRETACIÓN DEL TRIBUNAL CONSTITUCIONAL: FALLO ROL N° 19, DE 19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ANÁLISIS DEL ARTÍCULO 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537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BernhardMod BT"/>
              </a:rPr>
              <a:t>SU MAND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537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ernhardMod BT"/>
              </a:rPr>
              <a:t>SUS DESTINAT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537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ernhardMod BT"/>
              </a:rPr>
              <a:t>SUS EFECTOS</a:t>
            </a:r>
            <a:r>
              <a:rPr b="1" lang="es-ES_tradnl" sz="1800" spc="-1" strike="noStrike">
                <a:solidFill>
                  <a:srgbClr val="0000ff"/>
                </a:solidFill>
                <a:latin typeface="BernhardMod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DEL PRINCIPIO DE LA LEGALIDAD AL PRINCIPIO DE LA JURID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1900" spc="-1" strike="noStrike">
                <a:solidFill>
                  <a:srgbClr val="ff0000"/>
                </a:solidFill>
                <a:latin typeface="BernhardMod BT"/>
              </a:rPr>
              <a:t>	</a:t>
            </a:r>
            <a:r>
              <a:rPr b="1" i="1" lang="es-ES_tradnl" sz="1900" spc="-1" strike="noStrike">
                <a:solidFill>
                  <a:srgbClr val="ff0000"/>
                </a:solidFill>
                <a:latin typeface="BernhardMod B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9880" y="601992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395280"/>
            <a:ext cx="0" cy="5545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9360" y="468360"/>
            <a:ext cx="0" cy="4967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3360" y="395280"/>
            <a:ext cx="5183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97000" y="539640"/>
            <a:ext cx="3816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444600">
            <a:off x="253800" y="323640"/>
            <a:ext cx="722160" cy="588960"/>
          </a:xfrm>
          <a:custGeom>
            <a:avLst/>
            <a:gdLst>
              <a:gd name="textAreaLeft" fmla="*/ 297360 w 722160"/>
              <a:gd name="textAreaRight" fmla="*/ 424800 w 722160"/>
              <a:gd name="textAreaTop" fmla="*/ 242640 h 588960"/>
              <a:gd name="textAreaBottom" fmla="*/ 346320 h 58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6640" y="1258920"/>
            <a:ext cx="583236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PRIMERA PARTE, PRIMER TEMA:</a:t>
            </a:r>
            <a:r>
              <a:rPr b="1" lang="es-MX" sz="2000" spc="-1" strike="noStrike">
                <a:solidFill>
                  <a:srgbClr val="ff33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Book Antiqua"/>
              </a:rPr>
              <a:t>EL DERECHO ADMINISTRATIVO COMO DERECH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76280" y="826560"/>
            <a:ext cx="432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Book Antiqua"/>
              </a:rPr>
              <a:t>FUNDAMENTO CO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060280" y="2771640"/>
            <a:ext cx="4537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s-MX" sz="2600" spc="-1" strike="noStrike">
                <a:solidFill>
                  <a:srgbClr val="ff0000"/>
                </a:solidFill>
                <a:latin typeface="Book Antiqua"/>
              </a:rPr>
              <a:t>CPR., artículo 6°.</a:t>
            </a:r>
            <a:r>
              <a:rPr b="0" lang="es-MX" sz="2600" spc="-1" strike="noStrike">
                <a:solidFill>
                  <a:srgbClr val="0033cc"/>
                </a:solidFill>
                <a:latin typeface="Book Antiqua"/>
              </a:rPr>
              <a:t> </a:t>
            </a: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Los órganos del Estado deben someter su acción a la Constitución y a las normas dictadas conforme a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Los preceptos de esta Constitución obligan tanto a los titulares o integrantes de dichos órganos como a toda persona, institución o gru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La infracción a esta norma generará las responsabilidades y sancio- nes que determine la l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H="1">
            <a:off x="549360" y="395280"/>
            <a:ext cx="5400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9360" y="395280"/>
            <a:ext cx="0" cy="540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5000" y="684360"/>
            <a:ext cx="0" cy="45352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5000" y="684360"/>
            <a:ext cx="403092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52280" y="826560"/>
            <a:ext cx="5545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TRIBUNAL </a:t>
            </a:r>
            <a:r>
              <a:rPr b="1" lang="es-MX" sz="2400" spc="-1" strike="noStrike">
                <a:solidFill>
                  <a:srgbClr val="ff3300"/>
                </a:solidFill>
                <a:latin typeface="Book Antiqua"/>
              </a:rPr>
              <a:t>CONSTITUCIONAL, FALLO ROL N° 19, DE 13. 09. 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60280" y="2195640"/>
            <a:ext cx="4608360" cy="66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10°.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Que el artículo 6° de la Constitución comprende dos conceptos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sus incisos 1° y 2° consagra   principios vitales en que descansa la nueva institucionalidad: el de la “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supremacía constitucional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” sobre todas las otras normas jurídicas que integran nuestro ordenamiento positivo, y el de la “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vinculación direct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” de los preceptos constitucionales a las autoridades públicas y a todos los ciudadanos, siendo por ende obligatorios, tanto para los gobernantes como para los gober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su inciso final, el constituyente consigna el segundo concepto, cuál es que las responsabilidades y sanciones que origina la violación de  estos principios, -quedan entregadas- al resto de los preceptos de la Constitución y a la le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76280" y="324000"/>
            <a:ext cx="54021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280" y="324000"/>
            <a:ext cx="0" cy="590364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5000" y="684360"/>
            <a:ext cx="4608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5000" y="684360"/>
            <a:ext cx="0" cy="439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3920" y="111564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Book Antiqua"/>
              </a:rPr>
              <a:t>ANÁLISIS DEL ARTÍCULO 6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33720" y="2340000"/>
            <a:ext cx="4535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Book Antiqua"/>
              </a:rPr>
              <a:t>1. SU MANDATO (artículo 6°, incisos 1° y 2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Book Antiqua"/>
              </a:rPr>
              <a:t>	</a:t>
            </a:r>
            <a:r>
              <a:rPr b="1" lang="es-MX" sz="26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UJECIÓN DE LAS ACTUACIONES A LA CONSTITUCIÓN Y A LAS NORMAS DICTADAS CONFORME A 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-La Constitución Políti- 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ca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-Las </a:t>
            </a:r>
            <a:r>
              <a:rPr b="1" lang="es-MX" sz="2400" spc="-1" strike="noStrike">
                <a:solidFill>
                  <a:srgbClr val="0033cc"/>
                </a:solidFill>
                <a:latin typeface="Book Antiqua"/>
              </a:rPr>
              <a:t>normas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 dictadas   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conforme a 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Concepto de norma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Normas del nivel de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Normas del nivel de regla-     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76280" y="468360"/>
            <a:ext cx="532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6280" y="468360"/>
            <a:ext cx="0" cy="489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64640" y="755640"/>
            <a:ext cx="49690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000" y="755640"/>
            <a:ext cx="0" cy="43210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41000" y="1115640"/>
            <a:ext cx="5040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Book Antiqua"/>
              </a:rPr>
              <a:t>2. SUS DESTINATARIOS (artículo 6°, incisos 1° y 2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133720" y="2555640"/>
            <a:ext cx="4464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Book Antiqua"/>
              </a:rPr>
              <a:t>LOS ÓRGANOS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	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-Órgano: todo </a:t>
            </a:r>
            <a:r>
              <a:rPr b="1" lang="es-MX" sz="2000" spc="-1" strike="noStrike">
                <a:solidFill>
                  <a:srgbClr val="ff3300"/>
                </a:solidFill>
                <a:latin typeface="Book Antiqua"/>
              </a:rPr>
              <a:t>cargo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 público representativo de una institución o todo </a:t>
            </a:r>
            <a:r>
              <a:rPr b="1" lang="es-MX" sz="2000" spc="-1" strike="noStrike">
                <a:solidFill>
                  <a:srgbClr val="ff3300"/>
                </a:solidFill>
                <a:latin typeface="Book Antiqua"/>
              </a:rPr>
              <a:t>organismo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	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-Del Estado: abarca a todo el sector “estatal”: organización jurídica de la 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	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-Hria fidedigna del precepto,: opinión de don Alejandro Silva B., su explicación doctrinaria: la teoría de Gier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Book Antiqua"/>
              </a:rPr>
              <a:t>SUS TITULARES (de los cargos) e INTEGRANTES (de los organismos: directivos, profesionales, técnicos, administrativos y auxilia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Book Antiqua"/>
              </a:rPr>
              <a:t>TODA PERSONA, INS- TITUCIÓN O GRUPO (descripción de cada tipo). Qué significa cada una de estas expre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49360" y="539640"/>
            <a:ext cx="5111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9360" y="539640"/>
            <a:ext cx="0" cy="489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7920" y="826920"/>
            <a:ext cx="4033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7920" y="826920"/>
            <a:ext cx="0" cy="410544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28280" y="971280"/>
            <a:ext cx="4714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Book Antiqua"/>
              </a:rPr>
              <a:t>3. SUS EF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13000" y="1979280"/>
            <a:ext cx="4968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PR., artículo 6°, inciso 3°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La infracción de esta norma generará las responsabilidades y sanciones que determine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76280" y="468360"/>
            <a:ext cx="52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6280" y="468360"/>
            <a:ext cx="0" cy="518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6640" y="755640"/>
            <a:ext cx="43210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6640" y="684360"/>
            <a:ext cx="0" cy="44640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57360" y="3708360"/>
            <a:ext cx="51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Book Antiqua"/>
              </a:rPr>
              <a:t>	</a:t>
            </a:r>
            <a:r>
              <a:rPr b="1" lang="es-MX" sz="2800" spc="-1" strike="noStrike">
                <a:solidFill>
                  <a:srgbClr val="ff0000"/>
                </a:solidFill>
                <a:latin typeface="Book Antiqua"/>
              </a:rPr>
              <a:t>Tribunal Constitucional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, 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Fallo Rol N° 19, de 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19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4788000"/>
            <a:ext cx="453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El artículo 6° en estudio no establece, por sí mismo, ninguna sanción a posibles infracciones a sus normas, sino que deja entregado al resto de los preceptos de la Constitución y a la ley, determinar en cada caso cuál será la responsabilidad y la sanción que origina su incumpl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28640" y="971640"/>
            <a:ext cx="4680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76280" y="468360"/>
            <a:ext cx="52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6280" y="468360"/>
            <a:ext cx="0" cy="518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6640" y="755640"/>
            <a:ext cx="43210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6640" y="684360"/>
            <a:ext cx="0" cy="44640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9360" y="759636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44640" y="1403280"/>
            <a:ext cx="4537080" cy="76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os incisos 3os de los artículos 6° y 7° de la CPR consagran las fuentes constitucionales de la responsabilidad en el Derecho chileno, disponie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°. Que ella deriva de una “infracción” o de una “contravención”. Por lo tanto, no admite responsabilidad por acto lícito. Admite la tesis subje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°. Que el régimen jurídico de cada tipo de responsabilidad: política, administrativa, civil o penal, es materia reservada a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21:19:58Z</dcterms:created>
  <dc:creator>ROLANDO PANTOJA  BAUZÁ</dc:creator>
  <dc:description/>
  <dc:language>en-US</dc:language>
  <cp:lastModifiedBy>rpantoja</cp:lastModifiedBy>
  <dcterms:modified xsi:type="dcterms:W3CDTF">2009-04-21T13:02:20Z</dcterms:modified>
  <cp:revision>23</cp:revision>
  <dc:subject/>
  <dc:title>Diapositiva 1</dc:title>
</cp:coreProperties>
</file>