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BCE70-06E3-4AE2-BBAC-6AFDC22C4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03C20-A68E-4C35-A596-1C5FAB87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C9506-6638-4137-8821-6665B8B66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4F9DC-28B4-47A4-BDCF-455658BAD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20C3F-D83A-45A1-9B5E-E330DED3F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23BC1-500F-4950-9DB7-476A5266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013D-38D6-4DF7-9F30-7E31F33F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AD06F-FAB9-4334-83E1-1F35DA11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2E37-EC2C-4D17-A8F7-C102039B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85DF-02D6-4D99-B92C-943C0E56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04D4-5C7F-43AE-A6C7-794EE47A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13170-73D0-4A90-A305-86C060D6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A654-9CF9-478D-8AAE-B449C9BB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9325E-22B3-4B35-8FE5-3E14A56B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07AE-6F70-42FF-AA58-C80B429E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C97F0-D989-4EB4-88D8-B52C31874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4F00-AE21-4E6C-9FA1-8A4B36EF6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2006D-7A31-4B1E-A02C-AA0DAE59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3FA0E-E4BF-4C9A-9A5F-A28DD419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86F1D-8DC8-4990-B62F-4D9CF11A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43A41-1A7E-48E5-BAEB-F9766C00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71DAB-BCFE-4507-87BC-1AD3B457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B5509-1359-4F5F-BFC0-2867BA71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D1223-A9EC-41EE-BB67-153DB015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81A8-5058-49AF-9D6E-AB8ABBDF05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EE4F-2E6B-49E0-BC4B-64EFEA0A41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ffff00"/>
                </a:solidFill>
                <a:uFillTx/>
                <a:latin typeface="Times New Roman"/>
              </a:rPr>
              <a:t>Ley N°19.886. Compras Públicas en Chile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2637000"/>
            <a:ext cx="64008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P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JULIO PALLAVICINI 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División Jurídic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Contraloría General de la Repúblic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Noviembre 5, 200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irección de Compras y Contratación Públic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Evolución de </a:t>
            </a:r>
            <a:br>
              <a:rPr sz="4400"/>
            </a:b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la normativa sobre adquisicio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Aprobación de la ley N°19.886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Principios del Proyecto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rincipio de legalid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rincipio del formalism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rincipio de publicidad y transparenc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rincipio de la iguald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rincipio de la idoneidad del contratan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rincipio de la preeminencia de la Administració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rincipio del contr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Ámbito de aplicación de la le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Contratos a título oneroso para el suministro de bienes muebles y de servicios que se requieran para el desarrollo de sus funcion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Administración del Estado. Excluye a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as empresas públicas creadas por ley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os demás casos que señale la ley (pero están obligados a suministrar la “información básica”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Concepto de “contratos de suministro”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Contratos excluidos de la le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efinicion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Proveed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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Proveedor inscrit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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Oferen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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Adjudicatar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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Contratis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efinicion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- Ba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ases administrativa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ases técnica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- Mecanismos previstos en la le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Convenios marco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icitación o propuesta públic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icitación o propuesta privad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rato o contratación direct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imes New Roman"/>
              </a:rPr>
              <a:t>Mecanismos previstos en la le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- Convenios marc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No hay una “adjudicación” propiamente t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Son obligatorio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Salvo “condiciones más ventajosas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Objetiv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Demostrabl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Sustanciales para la entida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Deben informarse a la Direcció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- Mecanismos “individuale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0920" y="1773360"/>
          <a:ext cx="8785080" cy="4751280"/>
        </p:xfrm>
        <a:graphic>
          <a:graphicData uri="http://schemas.openxmlformats.org/drawingml/2006/table">
            <a:tbl>
              <a:tblPr/>
              <a:tblGrid>
                <a:gridCol w="2224080"/>
                <a:gridCol w="2224080"/>
                <a:gridCol w="2220840"/>
                <a:gridCol w="21160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úblic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lamado públic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sim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iv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vitaciones (al menos 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rato o contratación direc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n al menos 3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requisit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términos de referencia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50920" y="1773360"/>
          <a:ext cx="8785080" cy="4751280"/>
        </p:xfrm>
        <a:graphic>
          <a:graphicData uri="http://schemas.openxmlformats.org/drawingml/2006/table">
            <a:tbl>
              <a:tblPr/>
              <a:tblGrid>
                <a:gridCol w="2224080"/>
                <a:gridCol w="2224080"/>
                <a:gridCol w="2220840"/>
                <a:gridCol w="21160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úblic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lamado públic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sim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iv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vitaciones (al menos 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rato o contratación direc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n al menos 3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requisit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términos de referencia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250920" y="1484280"/>
            <a:ext cx="2089080" cy="2952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00360" y="4941720"/>
            <a:ext cx="5616720" cy="1368720"/>
          </a:xfrm>
          <a:prstGeom prst="wedgeRoundRectCallout">
            <a:avLst>
              <a:gd name="adj1" fmla="val -55680"/>
              <a:gd name="adj2" fmla="val -174939"/>
              <a:gd name="adj3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Procedimiento administrativo de carácter concurs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50920" y="1773360"/>
          <a:ext cx="8785080" cy="4751280"/>
        </p:xfrm>
        <a:graphic>
          <a:graphicData uri="http://schemas.openxmlformats.org/drawingml/2006/table">
            <a:tbl>
              <a:tblPr/>
              <a:tblGrid>
                <a:gridCol w="2224080"/>
                <a:gridCol w="2224080"/>
                <a:gridCol w="2220840"/>
                <a:gridCol w="21160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úblic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lamado públic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sim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iv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vitaciones (al menos 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rato o contratación direc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n al menos 3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requisit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términos de referencia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6659640" y="1700280"/>
            <a:ext cx="2232000" cy="1224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50920" y="1773360"/>
          <a:ext cx="8785080" cy="4751280"/>
        </p:xfrm>
        <a:graphic>
          <a:graphicData uri="http://schemas.openxmlformats.org/drawingml/2006/table">
            <a:tbl>
              <a:tblPr/>
              <a:tblGrid>
                <a:gridCol w="2224080"/>
                <a:gridCol w="2224080"/>
                <a:gridCol w="2220840"/>
                <a:gridCol w="21160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úblic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lamado públic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sim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iv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vitaciones (al menos 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rato o contratación direc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n al menos 3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requisit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términos de referencia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250920" y="3068640"/>
            <a:ext cx="2232000" cy="1224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000" y="1628640"/>
            <a:ext cx="5616720" cy="4824720"/>
          </a:xfrm>
          <a:prstGeom prst="wedgeRoundRectCallout">
            <a:avLst>
              <a:gd name="adj1" fmla="val -61759"/>
              <a:gd name="adj2" fmla="val -11106"/>
              <a:gd name="adj3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a) No hay interesad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b) Resolución o terminación anticipad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c) Emergencia, urgencia o imprevis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d) Un solo proveedo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e) Convenios con personas jurídicas extranjer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f) Servicios de naturaleza confidenci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g) Naturaleza de la negociación + “criterios y casos” del reglamen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h) Monto inferior al fijado por el reglamen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Resum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Objetivos de un sistema de adquisicion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volución de la normativa sobre adquisicion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Principales aspectos de la Ley N° 19.886 y de su reglamento (decreto N° 250/04, Min. Hacienda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¿Se cumplen los objetivos de un sistema de adquisicione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Tareas pendient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50920" y="1773360"/>
          <a:ext cx="8785080" cy="4751280"/>
        </p:xfrm>
        <a:graphic>
          <a:graphicData uri="http://schemas.openxmlformats.org/drawingml/2006/table">
            <a:tbl>
              <a:tblPr/>
              <a:tblGrid>
                <a:gridCol w="2224080"/>
                <a:gridCol w="2224080"/>
                <a:gridCol w="2220840"/>
                <a:gridCol w="21160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úblic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lamado públic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sim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iv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vitaciones (al menos 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rato o contratación direc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n al menos 3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requisit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términos de referencia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6659640" y="2781360"/>
            <a:ext cx="2232000" cy="2952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773360"/>
          <a:ext cx="8785080" cy="4751280"/>
        </p:xfrm>
        <a:graphic>
          <a:graphicData uri="http://schemas.openxmlformats.org/drawingml/2006/table">
            <a:tbl>
              <a:tblPr/>
              <a:tblGrid>
                <a:gridCol w="2224080"/>
                <a:gridCol w="2224080"/>
                <a:gridCol w="2220840"/>
                <a:gridCol w="21160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úblic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lamado públic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sim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iv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vitaciones (al menos 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rato o contratación direc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n al menos 3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requisit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términos de referencia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2340000" y="4365720"/>
            <a:ext cx="2232000" cy="1224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03640" y="1341360"/>
            <a:ext cx="5616360" cy="2664000"/>
          </a:xfrm>
          <a:prstGeom prst="wedgeRoundRectCallout">
            <a:avLst>
              <a:gd name="adj1" fmla="val -33805"/>
              <a:gd name="adj2" fmla="val 65555"/>
              <a:gd name="adj3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a) No hay interesad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b) Resolución o terminación anticipad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e) Convenios con personas jurídicas extranjer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h) Monto inferior al fijado por el reglamen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50920" y="1773360"/>
          <a:ext cx="8785080" cy="4751280"/>
        </p:xfrm>
        <a:graphic>
          <a:graphicData uri="http://schemas.openxmlformats.org/drawingml/2006/table">
            <a:tbl>
              <a:tblPr/>
              <a:tblGrid>
                <a:gridCol w="2224080"/>
                <a:gridCol w="2224080"/>
                <a:gridCol w="2220840"/>
                <a:gridCol w="21160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úblic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lamado públic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sim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iv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vitaciones (al menos 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rato o contratación direc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n al menos 3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requisit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términos de referencia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2340000" y="5229360"/>
            <a:ext cx="2232000" cy="1224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95640" y="1844640"/>
            <a:ext cx="5148360" cy="2016000"/>
          </a:xfrm>
          <a:prstGeom prst="wedgeRoundRectCallout">
            <a:avLst>
              <a:gd name="adj1" fmla="val -40782"/>
              <a:gd name="adj2" fmla="val 127717"/>
              <a:gd name="adj3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c) Emergencia, urgencia o imprevi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d) Un solo proveed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f) Servicios de naturaleza confiden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g) Naturaleza de la negociación + criterios y casos” del reglam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Obligación d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cotiz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licit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contrat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adjudic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desarrollar todos los procesos de adquisición y contratación de bien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CL" sz="3600" spc="-1" strike="noStrike">
                <a:solidFill>
                  <a:srgbClr val="ffffff"/>
                </a:solidFill>
                <a:latin typeface="Times New Roman"/>
              </a:rPr>
              <a:t>Utilizando solamente los sistemas electrónicos o digitales” que establezca la Direcció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Notificacion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24 horas después de publicad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¿Compatibilidad con la ley N°19.880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Garantías: “deben ser fijadas en un monto tal que sin desmedrar su finalidad, no desincentiven la participación de los oferente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De seriedad de la ofer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De fiel cumplimient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Por el anticip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551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imes New Roman"/>
              </a:rPr>
              <a:t>Situación de normativas especial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- Prestación de servicios personales por personas jurídic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- Acciones de apoy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¿Se cumplen los objetivos de un sistema de adquisicione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¿Se cumplen los objetivos de un sistema de adquisicione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quid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as bases no pueden establecer diferencias arbitrarias entre los proponentes (art. 6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n las licitaciones públicas “cualquier persona podrá presentar ofertas (art. 7 a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Acción ante el Tribunal por todo el que “tenga un interés actualmente comprometido” (art. 24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ibre acceso al registro de contratistas (art. 17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¿Se cumplen los objetivos de un sistema de adquisicione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ntegridad (probidad y transparenci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rohibición de fragmentar las contrataciones (art. 7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Obligación de utilizar los sistemas: bases, consultas, aclaraciones, modificaciones, adjudicaciones, etc. (art. 18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ublicidad del Sistema (art. 19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Registro público de contratistas (art. 16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osibilidad de recurrir al Tribunal por la inscripción (art. 16, inc. 6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¿Se cumplen los objetivos de un sistema de adquisicione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424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conomía y eficienc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22320" indent="-295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as bases deben propender a alcanzar “la combinación más ventajosa” (art. 6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22320" indent="-295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Se seleccionará la oferta “más conveniente” (art. 7 a) y b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22320" indent="-295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as bases no pueden atender sólo al precio (art. 6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22320" indent="-295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Se debe propender a la eficacia, eficiencia y ahorro (art. 6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22320" indent="-295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icitación desierta cuando las ofertas “no resulten convenientes a sus intereses” (art. 9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22320" indent="-295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l adjudicatario es el que haga “la propuesta más ventajosa” (art. 10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22320" indent="-295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as garantías no deben desincentivar la participación (art. 11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Objetivos de un sistema de adquisicio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Tareas pendien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Tareas pendien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imes New Roman"/>
              </a:rPr>
              <a:t>Reglamento para las Fuerzas Armadas (ley N°18.928)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imes New Roman"/>
              </a:rPr>
              <a:t>Constitución del Tribunal de Contratación Públ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Objetivos de un sistema de adquisicio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quid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ntegridad (probidad y transparenci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conomía y eficienc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Objetivos de un sistema de adquisicio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Trata a todos los proveedores de la misma manera” (equidad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Adjudica los contratos de acuerdo con el mérito de la propuesta” (integridad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Adjudica los contratos de a la oferta más conveniente” (economía y eficiencia 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Objetivos de un sistema de adquisicio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CL" sz="3000" spc="-1" strike="noStrike">
                <a:solidFill>
                  <a:srgbClr val="ffffff"/>
                </a:solidFill>
                <a:latin typeface="Times New Roman"/>
              </a:rPr>
              <a:t>El propósito de las leyes que disponen la adjudicación de los contratos a la oferta más baja es asegurar a todas las personas la igualdad de derechos para competir por los contratos gubernamentales, prevenir los favoritismos injustos, la colusión y el fraude en la adjudicación de los contratos y garantizar a la Administración los beneficios de una competencia libre y no restringida” (US Supreme Court, 1940)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Times New Roman"/>
              </a:rPr>
              <a:t>Las compras públicas “constituyen …un auténtico tema de política de Estado, en que se juegan valores tan importantes como la transparencia, la eficiencia y la probidad” (Mensaje Presidencial)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Evolución de </a:t>
            </a:r>
            <a:br>
              <a:rPr sz="4400"/>
            </a:b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la normativa sobre adquisicio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Evolución de </a:t>
            </a:r>
            <a:br>
              <a:rPr sz="4400"/>
            </a:b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la normativa sobre adquisicio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Hasta fines de 1999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Mito I: Obligatoriedad de la propuesta públic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Mito II: Obligatoriedad de adjudicar al más barat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Principios: estricta sujeción a las bases, igualdad de los oferentes y cautela del patrimonio públic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La Contraloría como solucionador de conflict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Evolución de </a:t>
            </a:r>
            <a:br>
              <a:rPr sz="4400"/>
            </a:b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la normativa sobre adquisicio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Aprobación de la ley N°19.653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Establece la propuesta pública como regla general para celebrar contratos administrativ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La licitación privada procede previa resolución fundad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El trato directo procede sólo por la naturaleza de la negociació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3:28:02Z</dcterms:created>
  <dc:creator>jpallavi</dc:creator>
  <dc:description/>
  <dc:language>en-US</dc:language>
  <cp:lastModifiedBy>jsjara</cp:lastModifiedBy>
  <dcterms:modified xsi:type="dcterms:W3CDTF">2005-01-20T19:10:38Z</dcterms:modified>
  <cp:revision>47</cp:revision>
  <dc:subject/>
  <dc:title>Ley N°19.886. Compras Públicas en Chile:</dc:title>
</cp:coreProperties>
</file>