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8BBE8-CA33-4824-A1C4-F92AA857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00469-50F8-48C6-8CD4-B3245C36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F2BBF-1B5C-4D50-92F9-14CCE8C3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94950-AB98-4A66-8E5B-FC80ACF6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8B3E-F511-4092-A2A3-218E907E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7BCD-BC56-4DA8-8E2F-B7EA8BEF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A7CA-5549-4C65-9CC4-B68A0739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D79F-B6E5-4774-8376-F82CA6C8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DE40-E91C-4761-8C55-F42BCABC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ABDD-D0C5-4CC8-A273-75EEEBDF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E790-B143-40DD-B5AB-FA1D55D4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C467C-3504-4B94-B8B6-A2AECA4F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FE78-07FE-4B2D-9C54-4C7611A2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1232-911A-41C1-B356-9DDCF132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A3E5-E7A5-43E2-A62D-75735F4A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2594-0F96-45D8-9ED9-333C73B4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B72F-7674-4EAE-B36E-8158E431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8EA80-C2FE-403F-8799-0552FF58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4A9E4-2748-4DF0-8E55-69335D32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CA84C-D06A-442F-B47F-02318D13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C79AB-B515-4571-A47D-663FC49B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6371A-3BAA-4F78-87C1-35DC654B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AC1D1-9310-48AD-BF82-679C1160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FACB8-F721-4499-A39E-78854BC6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FC40-BCD5-43AF-935A-C123C20569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E8EB-B3B6-41D3-8F37-09526D13D9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ffff00"/>
                </a:solidFill>
                <a:uFillTx/>
                <a:latin typeface="Times New Roman"/>
              </a:rPr>
              <a:t>Ley N°19.886. Compras Públicas en Chile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JULIO PALLAVICINI 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ivisión Juríd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ntraloría General de la Repúbl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viembre 5, 200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irección de Compras y Contratación Públ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Evolución de </a:t>
            </a: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la normativa sobr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probación de la ley N°19.886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rincipios del Proyect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l formalism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publicidad y transparenc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la iguald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la idoneidad del contrata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la preeminencia de la Administrac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l contr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Ámbito de aplicación de la le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Contratos a título oneroso para el suministro de bienes muebles y de servicios que se requieran para el desarrollo de sus func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Administración del Estado. Excluye 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empresas públicas creadas por ley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os demás casos que señale la ley (pero están obligados a suministrar la “información básica”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ncepto de “contratos de suministro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ntratos excluidos de la le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finic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roveed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roveedor inscri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Ofere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Adjudicatar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Contratis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finicio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B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ases administrativ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ases técnic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Mecanismos previstos en la l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nvenios marc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 o propuesta públic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 o propuesta privad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rato o contratación direct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Mecanismos previstos en la le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Convenios marc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No hay una “adjudicación” propiamente 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on obligatori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alvo “condiciones más ventajosas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bjetiv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Demostrabl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ustanciales para la entida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ben informarse a la Direcció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Mecanismos “individuale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250920" y="1484280"/>
            <a:ext cx="2089080" cy="2952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941720"/>
            <a:ext cx="5616720" cy="1368720"/>
          </a:xfrm>
          <a:prstGeom prst="wedgeRoundRectCallout">
            <a:avLst>
              <a:gd name="adj1" fmla="val -55680"/>
              <a:gd name="adj2" fmla="val -174939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rocedimiento administrativo de carácter concurs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6659640" y="1700280"/>
            <a:ext cx="2232000" cy="122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3068640"/>
            <a:ext cx="2232000" cy="122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000" y="1628640"/>
            <a:ext cx="5616720" cy="4824720"/>
          </a:xfrm>
          <a:prstGeom prst="wedgeRoundRectCallout">
            <a:avLst>
              <a:gd name="adj1" fmla="val -61759"/>
              <a:gd name="adj2" fmla="val -11106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a) No hay interes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b) Resolución o terminación anticipa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c) Emergencia, urgencia o imprevis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d) Un solo proveed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e) Convenios con personas jurídicas extranjer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f) Servicios de naturaleza confidenc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g) Naturaleza de la negociación + “criterios y casos” del regl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h) Monto inferior al fijado por el regl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Resu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Objetivos de un sistema de adquisicio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volución de la normativa sobre adquisicio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incipales aspectos de la Ley N° 19.886 y de su reglamento (decreto N° 250/04, Min. Hacienda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Se cumplen los objetivos de un sistema de adquisicion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areas pendien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6659640" y="2781360"/>
            <a:ext cx="2232000" cy="2952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2340000" y="4365720"/>
            <a:ext cx="2232000" cy="122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1341360"/>
            <a:ext cx="5616360" cy="2664000"/>
          </a:xfrm>
          <a:prstGeom prst="wedgeRoundRectCallout">
            <a:avLst>
              <a:gd name="adj1" fmla="val -33805"/>
              <a:gd name="adj2" fmla="val 65555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a) No hay interes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b) Resolución o terminación anticipa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e) Convenios con personas jurídicas extranjer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h) Monto inferior al fijado por el regl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2340000" y="5229360"/>
            <a:ext cx="2232000" cy="122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1844640"/>
            <a:ext cx="5148360" cy="2016000"/>
          </a:xfrm>
          <a:prstGeom prst="wedgeRoundRectCallout">
            <a:avLst>
              <a:gd name="adj1" fmla="val -40782"/>
              <a:gd name="adj2" fmla="val 127717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c) Emergencia, urgencia o imprevi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d) Un solo provee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f) Servicios de naturaleza confiden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g) Naturaleza de la negociación + criterios y casos” del reglam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Obligación d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cotiz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licit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contrat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adjudic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desarrollar todos los procesos de adquisición y contratación de bi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Utilizando solamente los sistemas electrónicos o digitales” que establezca la Direcció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tifica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24 horas después de publicad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¿Compatibilidad con la ley N°19.880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Garantías: “deben ser fijadas en un monto tal que sin desmedrar su finalidad, no desincentiven la participación de los oferente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De seriedad de la ofer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De fiel cumplimi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or el anticip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55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Situación de normativas especial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Prestación de servicios personales por personas juríd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Acciones de apoy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¿Se cumplen los objetivos de un sistema de adquisicion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¿Se cumplen los objetivos de un sistema de adquisicion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s bases no pueden establecer diferencias arbitrarias entre los proponentes (art. 6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 las licitaciones públicas “cualquier persona podrá presentar ofertas (art. 7 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cción ante el Tribunal por todo el que “tenga un interés actualmente comprometido” (art. 24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ibre acceso al registro de contratistas (art. 17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¿Se cumplen los objetivos de un sistema de adquisicion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gridad (probidad y transparenci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ohibición de fragmentar las contrataciones (art. 7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Obligación de utilizar los sistemas: bases, consultas, aclaraciones, modificaciones, adjudicaciones, etc. (art. 18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ublicidad del Sistema (art. 19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Registro público de contratistas (art. 16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sibilidad de recurrir al Tribunal por la inscripción (art. 16, inc. 6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¿Se cumplen los objetivos de un sistema de adquisicion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conomía y efici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bases deben propender a alcanzar “la combinación más ventajosa” (art. 6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 seleccionará la oferta “más conveniente” (art. 7 a) y b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bases no pueden atender sólo al precio (art. 6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 debe propender a la eficacia, eficiencia y ahorro (art. 6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 desierta cuando las ofertas “no resulten convenientes a sus intereses” (art. 9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l adjudicatario es el que haga “la propuesta más ventajosa” (art. 10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garantías no deben desincentivar la participación (art. 11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Objetivos de un sistema d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Tareas pendien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Tareas pendien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Reglamento para las Fuerzas Armadas (ley N°18.928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Constitución del Tribunal de Contratación Públ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Objetivos de un sistema d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gridad (probidad y transparenci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conomía y efici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Objetivos de un sistema d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rata a todos los proveedores de la misma manera” (equidad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djudica los contratos de acuerdo con el mérito de la propuesta” (integridad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djudica los contratos de a la oferta más conveniente” (economía y eficiencia 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Objetivos de un sistema d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000" spc="-1" strike="noStrike">
                <a:solidFill>
                  <a:srgbClr val="ffffff"/>
                </a:solidFill>
                <a:latin typeface="Times New Roman"/>
              </a:rPr>
              <a:t>El propósito de las leyes que disponen la adjudicación de los contratos a la oferta más baja es asegurar a todas las personas la igualdad de derechos para competir por los contratos gubernamentales, prevenir los favoritismos injustos, la colusión y el fraude en la adjudicación de los contratos y garantizar a la Administración los beneficios de una competencia libre y no restringida” (US Supreme Court, 1940)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Times New Roman"/>
              </a:rPr>
              <a:t>Las compras públicas “constituyen …un auténtico tema de política de Estado, en que se juegan valores tan importantes como la transparencia, la eficiencia y la probidad” (Mensaje Presidencial)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Evolución de </a:t>
            </a: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la normativa sobr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Evolución de </a:t>
            </a: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la normativa sobr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Hasta fines de 1999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Mito I: Obligatoriedad de la propuesta públic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Mito II: Obligatoriedad de adjudicar al más barat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rincipios: estricta sujeción a las bases, igualdad de los oferentes y cautela del patrimonio públ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La Contraloría como solucionador de conflic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Evolución de </a:t>
            </a: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la normativa sobr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probación de la ley N°19.653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Establece la propuesta pública como regla general para celebrar contratos administrativ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La licitación privada procede previa resolución fundad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El trato directo procede sólo por la naturaleza de la negociac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3:28:02Z</dcterms:created>
  <dc:creator>jpallavi</dc:creator>
  <dc:description/>
  <dc:language>en-US</dc:language>
  <cp:lastModifiedBy>jsjara</cp:lastModifiedBy>
  <dcterms:modified xsi:type="dcterms:W3CDTF">2005-01-20T19:10:38Z</dcterms:modified>
  <cp:revision>47</cp:revision>
  <dc:subject/>
  <dc:title>Ley N°19.886. Compras Públicas en Chile:</dc:title>
</cp:coreProperties>
</file>