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ACDC9-C106-454F-AC48-64A84B0E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BF16-F32E-46FC-896D-EE240A61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C4F91-F65B-4E47-8207-2A7B3799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3C5F2-8A7C-4FB4-8088-4861B2B7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16B3-B1C3-43E9-9F65-313844C9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A7F2-4C7B-4FA8-8A70-C6135C8B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B23C-EE24-4728-A5AB-22E12D44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B62C-C39D-4FAA-A28E-8BC5985F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5288-E3B8-499D-BB5E-0695B824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C77E-CA69-4C29-B549-0C245583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752C-A9F4-494B-96F6-3E1E5E78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FDAE-932C-4F1A-9B90-422BCFF2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0F30-765E-4335-BF21-8780DE88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9A12-ADD0-4482-8D3D-AD977F4B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CC30-341D-4EFB-9AFD-5CAED55D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E685-6FE4-41CD-A05B-E090FA84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86A0-0659-4488-999B-A9907B9F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7352-B6DE-43B4-B754-CB6EDAD7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840F-762E-4EDC-A880-597D2B86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68609-E0E8-4FEF-80F2-CBEF3BA3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FA6FE-D4DB-44F8-BFBA-0A247F7D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42F6-C094-4F9F-B65B-9A4A30B9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E5E42-C991-48C5-9F56-3DE39449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A37D4-D385-4AF5-AB40-1FB55C2B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58AC-0F11-4D03-B2AA-BB40798B25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4948-F915-403E-ADA1-B5EE068852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ffff00"/>
                </a:solidFill>
                <a:uFillTx/>
                <a:latin typeface="Times New Roman"/>
              </a:rPr>
              <a:t>Ley N°19.886. Compras Públicas en Chile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JULIO PALLAVICINI 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ivisión Juríd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loría General de la Repúbl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viembre 5, 200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irección de Compras y Contratación Públ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probación de la ley N°19.886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incipios del Proyect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l formalism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publicidad y transparenc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a iguald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a idoneidad del contrata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a preeminencia de la Administr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l cont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Ámbito de aplicación de la le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ntratos a título oneroso para el suministro de bienes muebles y de servicios que se requieran para el desarrollo de sus fun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Administración del Estado. Excluye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empresas públicas creadas por ley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os demás casos que señale la ley (pero están obligados a suministrar la “información básica”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cepto de “contratos de suministro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tratos excluidos de la l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fini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oveed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oveedor inscri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Ofer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Adjudicat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ntratis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finic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B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ases administrativ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ases técnic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Mecanismos previstos en la l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venios marc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 o propuesta públic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 o propuesta privad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rato o contratación direct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Mecanismos previstos en la l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Convenios mar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No hay una “adjudicación” propiamente 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on obligatori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alvo “condiciones más ventajosas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bjetiv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Demostrabl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ustanciales para la entid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ben informarse a la Direc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Mecanismos “individuale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250920" y="1484280"/>
            <a:ext cx="2089080" cy="2952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941720"/>
            <a:ext cx="5616720" cy="1368720"/>
          </a:xfrm>
          <a:prstGeom prst="wedgeRoundRectCallout">
            <a:avLst>
              <a:gd name="adj1" fmla="val -55680"/>
              <a:gd name="adj2" fmla="val -174939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rocedimiento administrativo de carácter concur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6659640" y="170028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306864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1628640"/>
            <a:ext cx="5616720" cy="4824720"/>
          </a:xfrm>
          <a:prstGeom prst="wedgeRoundRectCallout">
            <a:avLst>
              <a:gd name="adj1" fmla="val -61759"/>
              <a:gd name="adj2" fmla="val -11106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a) No hay interes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b) Resolución o terminación anticip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c) Emergencia, urgencia o imprevis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d) Un solo provee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e) Convenios con personas jurídicas extranjer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f) Servicios de naturaleza confidenc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g) Naturaleza de la negociación + “criterios y casos” del regl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h) Monto inferior al fijado por el regl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Resu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Objetivos de un sistema de adquisic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volución de la normativa sobre adquisic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incipales aspectos de la Ley N° 19.886 y de su reglamento (decreto N° 250/04, Min. Hacienda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Se cumplen los objetivos de un sistema de adquisicion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areas pendie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6659640" y="2781360"/>
            <a:ext cx="2232000" cy="2952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2340000" y="436572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1341360"/>
            <a:ext cx="5616360" cy="2664000"/>
          </a:xfrm>
          <a:prstGeom prst="wedgeRoundRectCallout">
            <a:avLst>
              <a:gd name="adj1" fmla="val -33805"/>
              <a:gd name="adj2" fmla="val 65555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a) No hay interes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b) Resolución o terminación anticip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e) Convenios con personas jurídicas extranjer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h) Monto inferior al fijado por el regl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340000" y="522936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1844640"/>
            <a:ext cx="5148360" cy="2016000"/>
          </a:xfrm>
          <a:prstGeom prst="wedgeRoundRectCallout">
            <a:avLst>
              <a:gd name="adj1" fmla="val -40782"/>
              <a:gd name="adj2" fmla="val 127717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c) Emergencia, urgencia o imprevi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d) Un solo provee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f) Servicios de naturaleza confiden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g) Naturaleza de la negociación + criterios y casos” del regla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Obligación d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tiz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licit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ntrat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adjudic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desarrollar todos los procesos de adquisición y contratación de bi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Utilizando solamente los sistemas electrónicos o digitales” que establezca la Direcció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tific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24 horas después de publicad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¿Compatibilidad con la ley N°19.880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Garantías: “deben ser fijadas en un monto tal que sin desmedrar su finalidad, no desincentiven la participación de los oferente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De seriedad de la ofer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De fiel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or el anticip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55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Situación de normativas especia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Prestación de servicios personales por personas juríd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Acciones de apoy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s bases no pueden establecer diferencias arbitrarias entre los proponentes (art. 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las licitaciones públicas “cualquier persona podrá presentar ofertas (art. 7 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cción ante el Tribunal por todo el que “tenga un interés actualmente comprometido” (art. 24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ibre acceso al registro de contratistas (art. 17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gridad (probidad y transparenci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ohibición de fragmentar las contrataciones (art. 7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Obligación de utilizar los sistemas: bases, consultas, aclaraciones, modificaciones, adjudicaciones, etc. (art. 18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ublicidad del Sistema (art. 19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gistro público de contratistas (art. 1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sibilidad de recurrir al Tribunal por la inscripción (art. 16, inc. 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conomía y efici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bases deben propender a alcanzar “la combinación más ventajosa” (art. 6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seleccionará la oferta “más conveniente” (art. 7 a) y b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bases no pueden atender sólo al precio (art. 6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debe propender a la eficacia, eficiencia y ahorro (art. 6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 desierta cuando las ofertas “no resulten convenientes a sus intereses” (art. 9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l adjudicatario es el que haga “la propuesta más ventajosa” (art. 10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garantías no deben desincentivar la participación (art. 11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Tareas pendien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Tareas pendien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Reglamento para las Fuerzas Armadas (ley N°18.928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Constitución del Tribunal de Contratación Públ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gridad (probidad y transparenci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conomía y efici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rata a todos los proveedores de la misma manera” (equidad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djudica los contratos de acuerdo con el mérito de la propuesta” (integridad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djudica los contratos de a la oferta más conveniente” (economía y eficiencia 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El propósito de las leyes que disponen la adjudicación de los contratos a la oferta más baja es asegurar a todas las personas la igualdad de derechos para competir por los contratos gubernamentales, prevenir los favoritismos injustos, la colusión y el fraude en la adjudicación de los contratos y garantizar a la Administración los beneficios de una competencia libre y no restringida” (US Supreme Court, 1940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Las compras públicas “constituyen …un auténtico tema de política de Estado, en que se juegan valores tan importantes como la transparencia, la eficiencia y la probidad” (Mensaje Presidencial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asta fines de 1999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Mito I: Obligatoriedad de la propuesta públic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Mito II: Obligatoriedad de adjudicar al más bara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incipios: estricta sujeción a las bases, igualdad de los oferentes y cautela del patrimonio públ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La Contraloría como solucionador de conflic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probación de la ley N°19.65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Establece la propuesta pública como regla general para celebrar contratos administrativ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La licitación privada procede previa resolución fundad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El trato directo procede sólo por la naturaleza de la negoci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3:28:02Z</dcterms:created>
  <dc:creator>jpallavi</dc:creator>
  <dc:description/>
  <dc:language>en-US</dc:language>
  <cp:lastModifiedBy>jsjara</cp:lastModifiedBy>
  <dcterms:modified xsi:type="dcterms:W3CDTF">2005-01-20T19:10:38Z</dcterms:modified>
  <cp:revision>47</cp:revision>
  <dc:subject/>
  <dc:title>Ley N°19.886. Compras Públicas en Chile:</dc:title>
</cp:coreProperties>
</file>