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6878-CB0A-4465-BF95-B141CA5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406B-23BF-4322-BF0F-E3A97A12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DEC2-E68B-4196-A8D7-1D0548B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5482-0347-48E4-B204-22EDEBED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CE3-2335-496E-81DB-F543142A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BFA9-BAC2-4698-A158-5200ECB4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E89A-E519-47C1-A646-051CA80C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2CB-70CB-4CB7-9E62-A3E0911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F73B-DFBC-40DC-93E0-64C2B055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FA03-673C-4A32-99DE-7F7607C4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FD7D-4737-47CD-97EE-7AB0F02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A0C2-C876-4A16-B5B0-0134612D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0B5-8B51-4462-9BDD-5A3352C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61A-AED0-4D4F-916B-84205DA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B43-7E31-4921-B0F1-D78F031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CD2-282E-4A5B-9F4E-447F1A1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6AE4-D8C4-46C7-AB29-72562D5E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3E91-6BD7-4C0B-8D33-2F2191CB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E6E7-B45B-4CE0-A63E-BEFA5689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0B42-88B6-4E81-A2AA-1C42A0F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8035-8A44-44E7-AE7F-C021FB95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B9C0-1E6E-47FD-890E-EED3B65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B923-2888-4809-B41F-A0B4565F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5363-C504-4C28-9484-312CEAF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E448-29D8-4F20-AE7A-51296FB845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40F2-6FD6-464B-B2F1-B694859AF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ff00"/>
                </a:solidFill>
                <a:uFillTx/>
                <a:latin typeface="Times New Roman"/>
              </a:rPr>
              <a:t>Ley N°19.886. Compras Públicas en Chil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JULIO PALLAVICINI 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ivisión Juríd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loría General de la Repúbl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viembre 5,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irección de Compras y Contratación Públ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88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 del Proyect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formalism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publicidad y transpare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guald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idoneidad del contrata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 la preeminencia de la Administ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rincipio del contr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Ámbito de aplicación de la le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os a título oneroso para el suministro de bienes muebles y de servicios que se requieran para el desarrollo de sus fun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ministración del Estado. Excluye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empresas públicas creadas por le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os demás casos que señale la ley (pero están obligados a suministrar la “información básica”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cepto de “contratos de suministro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tratos excluidos de la l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oveedor inscr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Ofer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t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i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fin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B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administrativ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ases técnic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previstos en la l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venios marc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úblic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o propuesta priv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to o contratación direc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Mecanismos previstos en la le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Convenios marc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No hay una “adjudicación” propiamente 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on obligatori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alvo “condiciones más ventajosas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bje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emostrabl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ustanciales para la entid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ben informarse a la Direc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Mecanismos “individual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50920" y="1484280"/>
            <a:ext cx="208908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941720"/>
            <a:ext cx="5616720" cy="1368720"/>
          </a:xfrm>
          <a:prstGeom prst="wedgeRoundRectCallout">
            <a:avLst>
              <a:gd name="adj1" fmla="val -55680"/>
              <a:gd name="adj2" fmla="val -174939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rocedimiento administrativo de carácter concu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659640" y="170028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306864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1628640"/>
            <a:ext cx="5616720" cy="4824720"/>
          </a:xfrm>
          <a:prstGeom prst="wedgeRoundRectCallout">
            <a:avLst>
              <a:gd name="adj1" fmla="val -61759"/>
              <a:gd name="adj2" fmla="val -11106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g) Naturaleza de la negociación + “criterios y casos” d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s de un sistema d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volución de la normativa sobre adquisicio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incipales aspectos de la Ley N° 19.886 y de su reglamento (decreto N° 250/04, Min. Hacienda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Se cumplen los objetivos de un sistema de adquisicion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areas pendie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659640" y="2781360"/>
            <a:ext cx="2232000" cy="2952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340000" y="436572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1341360"/>
            <a:ext cx="5616360" cy="2664000"/>
          </a:xfrm>
          <a:prstGeom prst="wedgeRoundRectCallout">
            <a:avLst>
              <a:gd name="adj1" fmla="val -33805"/>
              <a:gd name="adj2" fmla="val 65555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a) No hay interes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b) Resolución o terminación anticip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e) Convenios con personas jurídicas extranjer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h) Monto inferior al fijado por el regl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1773360"/>
          <a:ext cx="8785080" cy="4751280"/>
        </p:xfrm>
        <a:graphic>
          <a:graphicData uri="http://schemas.openxmlformats.org/drawingml/2006/table">
            <a:tbl>
              <a:tblPr/>
              <a:tblGrid>
                <a:gridCol w="2224080"/>
                <a:gridCol w="2224080"/>
                <a:gridCol w="2220840"/>
                <a:gridCol w="2116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úbl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lamado públ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sim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icit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vitaciones (al menos 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to o contratación direc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 al menos 3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cotiza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in requisit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términos de referenci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ción fun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340000" y="5229360"/>
            <a:ext cx="2232000" cy="1224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1844640"/>
            <a:ext cx="5148360" cy="2016000"/>
          </a:xfrm>
          <a:prstGeom prst="wedgeRoundRectCallout">
            <a:avLst>
              <a:gd name="adj1" fmla="val -40782"/>
              <a:gd name="adj2" fmla="val 127717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c) Emergencia, urgencia o im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d) Un solo provee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) Servicios de naturaleza confide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g) Naturaleza de la negociación + criterios y casos” del reglam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ligación d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tiz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ici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contrat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adjudic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sarrollar todos los procesos de adquisición y contratación de bi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Utilizando solamente los sistemas electrónicos o digitales” que establezca la Direcció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24 horas después de public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¿Compatibilidad con la ley N°19.880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Garantías: “deben ser fijadas en un monto tal que sin desmedrar su finalidad, no desincentiven la participación de los oferente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seriedad de la ofer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De fiel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or el antici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Principales aspectos de la Ley N° 19.886 y de su regla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Situación de normativas especia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Prestación de servicios personales por personas juríd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- Acciones de apoy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bases no pueden establecer diferencias arbitrarias entre los proponentes (art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las licitaciones públicas “cualquier persona podrá presentar ofertas (art. 7 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cción ante el Tribunal por todo el que “tenga un interés actualmente comprometido” (art. 24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ibre acceso al registro de contratistas (art. 1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ohibición de fragmentar las contrataciones (art. 7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Obligación de utilizar los sistemas: bases, consultas, aclaraciones, modificaciones, adjudicaciones, etc. (art. 18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ublicidad del Sistema (art. 19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istro público de contratistas (art. 1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sibilidad de recurrir al Tribunal por la inscripción (art. 16, inc. 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¿Se cumplen los objetivos de un sistema de adquisicion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deben propender a alcanzar “la combinación más ventajosa”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seleccionará la oferta “más conveniente” (art. 7 a) y 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bases no pueden atender sólo al preci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propender a la eficacia, eficiencia y ahorro (art. 6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 desierta cuando las ofertas “no resulten convenientes a sus intereses” (art. 9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l adjudicatario es el que haga “la propuesta más ventajosa” (art. 10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2232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as garantías no deben desincentivar la participación (art. 11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Tareas pendie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Reglamento para las Fuerzas Armadas (ley N°18.928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imes New Roman"/>
              </a:rPr>
              <a:t>Constitución del Tribunal de Contratación Públ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gridad (probidad y transparenci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conomía y efic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rata a todos los proveedores de la misma manera” (equ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cuerdo con el mérito de la propuesta” (integrida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djudica los contratos de a la oferta más conveniente” (economía y eficiencia 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Objetivos de un sistema d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El propósito de las leyes que disponen la adjudicación de los contratos a la oferta más baja es asegurar a todas las personas la igualdad de derechos para competir por los contratos gubernamentales, prevenir los favoritismos injustos, la colusión y el fraude en la adjudicación de los contratos y garantizar a la Administración los beneficios de una competencia libre y no restringida” (US Supreme Court, 1940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Times New Roman"/>
              </a:rPr>
              <a:t>Las compras públicas “constituyen …un auténtico tema de política de Estado, en que se juegan valores tan importantes como la transparencia, la eficiencia y la probidad” (Mensaje Presidencial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asta fines de 1999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: Obligatoriedad de la propuesta públic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Mito II: Obligatoriedad de adjudicar al más bara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Principios: estricta sujeción a las bases, igualdad de los oferentes y cautela del patrimonio públ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Contraloría como solucionador de conflic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Evolución de </a:t>
            </a:r>
            <a:br>
              <a:rPr sz="4400"/>
            </a:b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la normativa sobre adquisi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probación de la ley N°19.6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stablece la propuesta pública como regla general para celebrar contratos administra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La licitación privada procede previa resolución fund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- El trato directo procede sólo por la naturaleza de la negoci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3:28:02Z</dcterms:created>
  <dc:creator>jpallavi</dc:creator>
  <dc:description/>
  <dc:language>en-US</dc:language>
  <cp:lastModifiedBy>jsjara</cp:lastModifiedBy>
  <dcterms:modified xsi:type="dcterms:W3CDTF">2005-01-20T19:10:38Z</dcterms:modified>
  <cp:revision>47</cp:revision>
  <dc:subject/>
  <dc:title>Ley N°19.886. Compras Públicas en Chile:</dc:title>
</cp:coreProperties>
</file>