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B68-B625-4D95-B2AD-3D003F34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2DB-58BA-4BD6-8CC0-0572BF4C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AA5-17C2-4FC7-9C26-E68A0BB6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1EC-DCA3-42C6-B082-9F3A9EE8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B75-A696-4A98-A45B-294A7C52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EB9-83B9-44D7-B5E4-605E0D7B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EAE-B308-4BAF-8A4E-B2D99789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79A-ACF7-45BD-8C00-900F7208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3E2-1663-42F4-8110-A2D71273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F1B-CF00-4820-A00A-A0C13716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D93-7C87-44F1-9296-4175E9E3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434-E37F-4716-9492-9209B402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AEB04C-FC70-4E5E-8A6A-7F3E6F8834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ABILIDADES PARA CONTRATAR CON 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61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causales de inhabilidad para contratar con el Estado se encuentran en el artículo 4 de la Ley 19.886 , tienen un alcance general, y son las sigui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ner la calidad de funcionario directivo del órgano licitante (inciso sex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ner la calidad de cónyuge de un funcionario directiv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 órgano licitant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 estar unido a él en calidad de hijo, adoptado o pariente hasta el tercer grado de consaguinidad y segundo de afinidad inclusive (inciso sex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tándose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de personas: Tener entre sus socios, gerentes, directores, representantes o administradores a funcionarios directivos del órgano licitante o las personas relacionadas a ellos por los vínculos descritos (inciso sex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nónimas cerradas o encomanditas por acciones: Tener entre sus accionistas, gerentes, directores, representantes o administradores a funcionarios directiv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órgano licitant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o las personas relacionadas a ellos por los vínculos descritos (inciso sex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nónimas abiertas: Tener entre sus accionistas, cuando estos sean dueños de más del 10% de las acciones, a funcionarios directiv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órgano licitant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o las personas relacionadas a ellos por los vínculos descritos (inciso sex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ner la calidad de gerente, director, representante o administrador de una sociedad que se encuentre en las situaciones contempladas en el número anterior (inciso sex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ber sido condenado, dentro de los dos años anteriores a la presentación de su oferta, por prácticas antisindicales o infracción a los derechos fundamentales del trabajador (inciso primer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has causales son las únicas situaciones que impiden presentar ofertas o contratar según correspo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ABILIDADES PARA CONTRATAR CON 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anterior se entiende sin perjuicio de la excepción contenida en el  inciso final del artículo 4 de la Ley 19.88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rcunstancias excep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olución fundada y comunicad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ior jerárquico del suscrip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aloría General de la Re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ámara de Dipu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sión de Ética del Senado o Comisión de Conducta de la Cámara de Diputados según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sión de ética del Poder Jud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HABILIDADES PARA CONTRATAR CON EL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ulneración del inciso sexto del artículo 4 (causales de inhabilidad 1 a 4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tituye infracción al principio de probidad administrativa establecido en el artículo 62 de la LOCBG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sanciona con la nulidad del con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 perjuicio de la responsabilidad civil uy penal, si proced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9:11:33Z</dcterms:created>
  <dc:creator>Familia</dc:creator>
  <dc:description/>
  <dc:language>en-US</dc:language>
  <cp:lastModifiedBy>Familia</cp:lastModifiedBy>
  <dcterms:modified xsi:type="dcterms:W3CDTF">2009-07-31T08:20:12Z</dcterms:modified>
  <cp:revision>4</cp:revision>
  <dc:subject/>
  <dc:title>INHABILIDADES PARA CONTRATAR CON EL ESTADO</dc:title>
</cp:coreProperties>
</file>