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AD7-193D-4D47-B34E-B9FF24CE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54D-B933-4D08-928B-318195B2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BA8-5102-48DB-8EF5-AB3838D2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F7B-F984-4A17-A3E0-EE165839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337-37FD-4EBE-BBBB-753CE6A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3C4-94A1-4481-ADAE-C3E6AF93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EB3-C205-4484-B1C0-DE7F99F0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40F-7D18-4086-8C82-B8234F7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A29-B8BE-439E-9CE3-9BB8C565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F53-135B-4EDF-972A-40CBA8C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85E-69C7-4D42-A374-6AB51FA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B28-74F5-4802-A4F8-0D29079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B9658D-FFDF-4FF2-BDAC-19F392069E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61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causales de inhabilidad para contratar con el Estado se encuentran en el artículo 4 de la Ley 19.886 , tienen un alcance general, y son las sigu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funcionario directivo del órgano licitante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cónyuge de un funcionario directiv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 órgano licita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 estar unido a él en calidad de hijo, adoptado o pariente hasta el tercer grado de consaguinidad y segundo de afinidad inclusive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tándose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de personas: Tener entre sus socios, gerentes, directores, representantes o administradores a funcionarios directivos del órgano licitante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nónimas cerradas o encomanditas por acciones: Tener entre sus accionistas, gerentes, directores, representantes o administradores a funcionarios directiv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órgano licita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nónimas abiertas: Tener entre sus accionistas, cuando estos sean dueños de más del 10% de las acciones, a funcionarios directiv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órgano licita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gerente, director, representante o administrador de una sociedad que se encuentre en las situaciones contempladas en el número anterior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ber sido condenado, dentro de los dos años anteriores a la presentación de su oferta, por prácticas antisindicales o infracción a los derechos fundamentales del trabajador (inciso prim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has causales son las únicas situaciones que impiden presentar ofertas o contratar según corresp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anterior se entiende sin perjuicio de la excepción contenida en el  inciso final del artículo 4 de la Ley 19.88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rcunstancias excep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olución fundada y comunicad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ior jerárquico del suscri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loría General de la Re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ámara de Dipu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sión de Ética del Senado o Comisión de Conducta de la Cámara de Diputados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sión de ética del Poder Jud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ulneración del inciso sexto del artículo 4 (causales de inhabilidad 1 a 4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tituye infracción al principio de probidad administrativa establecido en el artículo 62 de la LOCBG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sanciona con la nulidad del con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perjuicio de la responsabilidad civil uy penal, si proced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11:33Z</dcterms:created>
  <dc:creator>Familia</dc:creator>
  <dc:description/>
  <dc:language>en-US</dc:language>
  <cp:lastModifiedBy>Familia</cp:lastModifiedBy>
  <dcterms:modified xsi:type="dcterms:W3CDTF">2009-07-31T08:20:12Z</dcterms:modified>
  <cp:revision>4</cp:revision>
  <dc:subject/>
  <dc:title>INHABILIDADES PARA CONTRATAR CON EL ESTADO</dc:title>
</cp:coreProperties>
</file>