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B81-6614-4573-89D3-573EB161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52A-1D92-4FC0-B5F5-F4433AD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710-2213-47BF-B2D4-B2C7472B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2ED-0136-4AEC-9427-438BC667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1DC-977F-4622-A2F5-867A0A5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AEB9-1601-43E1-9C16-17857EAF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49C-E932-4D20-92E7-9FC9579F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285-7A83-44A2-94DE-DC4337E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60B-E752-4F43-A8A5-4327DBB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358-0E94-4A3D-A653-68B55590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1F3-955F-495C-A890-5EC8E9F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239-2D26-4B2C-B163-945E039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1DCBF7-73E4-40CA-B586-51D5D63811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61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causales de inhabilidad para contratar con el Estado se encuentran en el artículo 4 de la Ley 19.886 , tienen un alcance general, y son las sigui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funcionario directivo del órgano licitant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cónyuge de un funcionario directiv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del órgano licita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 estar unido a él en calidad de hijo, adoptado o pariente hasta el tercer grado de consaguinidad y segundo de afinidad inclusive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tándose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de personas: Tener entre sus socios, gerentes, directores, representantes o administradores a funcionarios directivos del órgano licitante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cerradas o encomanditas por acciones: Tener entre sus accionistas, gerentes, directores, representantes o administradores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ociedades anónimas abiertas: Tener entre sus accionistas, cuando estos sean dueños de más del 10% de las acciones, a funcionarios directiv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l órgano licita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las personas relacionadas a ellos por los vínculos descritos (inciso sext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er la calidad de gerente, director, representante o administrador de una sociedad que se encuentre en las situaciones contempladas en el número anterior (inciso sex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ber sido condenado, dentro de los dos años anteriores a la presentación de su oferta, por prácticas antisindicales o infracción a los derechos fundamentales del trabajador (inciso primer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has causales son las únicas situaciones que impiden presentar ofertas o contratar según correspo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anterior se entiende sin perjuicio de la excepción contenida en el  inciso final del artículo 4 de la Ley 19.88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rcunstancias excep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diciones de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olución fundada y comunica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erior jerárquico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loría General de la Re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ámara de Dipu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Senado o Comisión de Conducta de la Cámara de Diputados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sión de ética del Poder Judi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HABILIDADES PARA CONTRATAR CON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ulneración del inciso sexto del artículo 4 (causales de inhabilidad 1 a 4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tituye infracción al principio de probidad administrativa establecido en el artículo 62 de la LOCBGA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sanciona con la nulidad del contr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 perjuicio de la responsabilidad civil uy penal, si proced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9:11:33Z</dcterms:created>
  <dc:creator>Familia</dc:creator>
  <dc:description/>
  <dc:language>en-US</dc:language>
  <cp:lastModifiedBy>Familia</cp:lastModifiedBy>
  <dcterms:modified xsi:type="dcterms:W3CDTF">2009-07-31T08:20:12Z</dcterms:modified>
  <cp:revision>4</cp:revision>
  <dc:subject/>
  <dc:title>INHABILIDADES PARA CONTRATAR CON EL ESTADO</dc:title>
</cp:coreProperties>
</file>