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884760" y="0"/>
            <a:ext cx="2970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PlaceHolder 1"/>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
          <p:cNvSpPr/>
          <p:nvPr/>
        </p:nvSpPr>
        <p:spPr>
          <a:xfrm>
            <a:off x="0" y="868032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3"/>
          <p:cNvSpPr>
            <a:spLocks noGrp="1"/>
          </p:cNvSpPr>
          <p:nvPr>
            <p:ph type="sldNum" idx="3"/>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097AA-65D2-49EA-9B1D-48EB8C61C0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E2550E-E8A0-4984-B5E8-9195E22E226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3CD981-B836-423F-B7CF-695A2873E63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4D1B00-4726-4919-9D94-E685DBE1CBB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63D2D5-7507-4542-BF5B-5EBF125CF9A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C97E68-B7A6-4BFA-81F4-C2F0EE3BFB6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0C04ED-2929-4D36-BDEE-47410BB05B4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F4A7D4-ECF6-4180-A183-1BE067C2D53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C4B76F-9B5A-44E3-AAC5-A458BF3ACEF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80D4D7-6258-418D-9C88-4C1FFE34CE2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377AAF-F915-4ABD-9A37-482CB9637E2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9A2200-1B72-4956-9B76-E8A16F2A0E5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89409E-F7F9-4862-A508-18DFC491C64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3EF489-29AE-4F44-8BD3-FC69CDD7E9F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F3E10F-8166-41A5-86E1-6D21EC62FB5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82D250-4EAE-4757-BDBA-59A7777964C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325732-31D9-4702-A961-5A91A035888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38083A-E3AA-496D-9E8B-AEF0E7E53F9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015B32-C584-4BE5-B771-15EFD404DCB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15B614-6804-48A1-B1FB-82AA42D6D03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C88448-8B52-4279-AD71-A469637085B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2874C0-E53C-4FDA-9E59-2E17B43839C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F712B3-5D70-4D2A-A915-0455C0DC554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a:ea typeface="Arial Unicode MS"/>
              </a:rPr>
              <a:t>ARÓSTICA MALDONADO, Iván. </a:t>
            </a:r>
            <a:r>
              <a:rPr b="0" lang="es-ES" sz="1200" spc="-1" strike="noStrike" u="sng">
                <a:solidFill>
                  <a:srgbClr val="000000"/>
                </a:solidFill>
                <a:uFillTx/>
                <a:latin typeface="Arial"/>
                <a:ea typeface="Arial Unicode MS"/>
              </a:rPr>
              <a:t>En:</a:t>
            </a:r>
            <a:r>
              <a:rPr b="0" lang="es-ES" sz="1200" spc="-1" strike="noStrike">
                <a:solidFill>
                  <a:srgbClr val="000000"/>
                </a:solidFill>
                <a:latin typeface="Arial"/>
                <a:ea typeface="Arial Unicode MS"/>
              </a:rPr>
              <a:t> La Contraloría General de la República y el Estado de Derecho (conmemoración para su 75° aniversario de vida institucional). Santiago, 2002. Página 10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7CA491-60DC-41B7-AE55-E9A650CD08C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C266FE-6C9E-45EC-A49E-02A372FA4FD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EE4124-DF8D-40E6-91B2-78F568B8393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284070-AE9D-4E28-9899-765E747FDBC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812C4D-DE76-44CB-ABB4-2E544132297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542F1C-2639-4E97-8173-AFE57E5A9D5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069EC0-4B4F-484D-B372-E6422E3588B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0B6FD7-5B7B-4A9C-B79F-1D6F9D67AAD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D2EBF9-1AD3-4FA9-A081-AEA90EA213C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924EFD-796E-48C5-A456-F184165B887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53C5BF-EB37-4E93-994F-174668EB5DC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5645B8-9178-4C89-AADE-E5925710B3D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6E73A8-93E6-4C38-8EFD-E23C5198528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037356-18EA-426D-A2A0-DF47CA3934B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E18AA5-4DF3-48F4-BE3B-234F99B5BBE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AEA21D-82CE-4A40-8D88-B3F47644164D}"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F7CC4E-D390-490E-BAB6-E1EA86087D7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F2C63A-316E-4305-8370-8029D9B6C46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3E964C-33EA-46D4-913E-CA3D514328F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E41A42-412A-4718-822F-687B9E312A3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6C4376-9253-42EF-922B-B7304EF2568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E5414C-D614-4B7C-AF51-85F98C54B3F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E78359-228B-415D-BF22-BF75510A89D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8E4DD6-29A2-465D-9E15-0556990A8F7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A18863-4F76-4BB1-B8AA-C407DED59A7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D7DBD7-BADC-4688-A02A-909866BC141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52EA5C-0207-4F58-914C-18DFE5A2CBA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215ED7-A97B-400E-9DD2-82C2A4BA23F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2A37F6-FDE6-40D9-A9EA-0D644379916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E6E611-63BF-4C08-96DD-CED63377144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8BE77C-E58C-4763-8903-F5DC3875B2D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39F90E-A0B0-4574-AEC6-12C6106C1B8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B3E9B3-F9DD-453D-BEF5-526C3DDF15D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AC3750-9C3D-4990-B506-199256C3409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9A0D9C-60C6-451E-B8AF-AA9841BA611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2D696-946A-455C-A1C9-0361DEBDF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2"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E4B1678F-A589-4247-99F9-0EB9F7B7C0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5"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6EE8D4EB-96DD-4957-AB53-CA88CE3BE0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70"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4DEC5A88-3694-4650-B512-D7BF41C38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A57E61-F13E-4492-894D-D1D3E4B492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9DAFF8A8-AE79-4F4F-A812-104B2FCD0E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9"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E60DEDC5-0812-4560-8C5B-727BB1BE9A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1"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870146F0-DF59-4536-8409-69F5CECA5D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2"/>
          </p:nvPr>
        </p:nvSpPr>
        <p:spPr/>
        <p:txBody>
          <a:bodyPr/>
          <a:p>
            <a:fld id="{E8374F2E-7364-4BF1-8A21-F7F8BEB162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29AA8A3E-F6F7-4A68-9FEA-CE129C832B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6"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0AF14FE0-7726-45CF-92B8-23E864DB9D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B57991FC-81BE-424C-86E4-51520A32CA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0"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ABD731A5-1B00-43BB-B40B-460CFD5711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4"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11BAB57A-7096-4DB2-9EF0-7B9502B9FD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8"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99826ADF-E55D-4E67-9BE2-C22106B3CD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1"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C2BB1D19-F7C9-4333-94E6-B157A0EB7B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6"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1"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C2F033A7-622E-419B-9A3B-E8D5567DA6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3"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0621CD7D-F095-496A-A079-C06072348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5"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17289F03-3F27-4CF2-9B82-CEB686C8D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1"/>
          </p:nvPr>
        </p:nvSpPr>
        <p:spPr/>
        <p:txBody>
          <a:bodyPr/>
          <a:p>
            <a:fld id="{79840807-F45B-46B9-BF09-DAE9FAC333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CC32D18E-6403-44DF-A430-E750E9B1AD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0"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DB147A81-7B99-4F47-9C0A-EC0C2C167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4"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63E6DB52-C274-4909-8167-E1715BB8C8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8"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E129686B-7773-4630-A52E-3E179184F1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61480" cy="5052960"/>
            <a:chOff x="3800520" y="1789200"/>
            <a:chExt cx="5361480" cy="5052960"/>
          </a:xfrm>
        </p:grpSpPr>
        <p:sp>
          <p:nvSpPr>
            <p:cNvPr id="1"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PlaceHolder 3"/>
          <p:cNvSpPr>
            <a:spLocks noGrp="1"/>
          </p:cNvSpPr>
          <p:nvPr>
            <p:ph type="sldNum" idx="1"/>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ffffff"/>
                </a:solidFill>
                <a:latin typeface="Tahom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813748-C751-4E2F-829E-9BD719270DD5}"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61480" cy="5052960"/>
            <a:chOff x="3800520" y="1789200"/>
            <a:chExt cx="5361480" cy="5052960"/>
          </a:xfrm>
        </p:grpSpPr>
        <p:sp>
          <p:nvSpPr>
            <p:cNvPr id="77"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1"/>
          <p:cNvSpPr>
            <a:spLocks noGrp="1"/>
          </p:cNvSpPr>
          <p:nvPr>
            <p:ph type="title"/>
          </p:nvPr>
        </p:nvSpPr>
        <p:spPr>
          <a:xfrm>
            <a:off x="685440" y="176652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2"/>
          <p:cNvSpPr>
            <a:spLocks noGrp="1"/>
          </p:cNvSpPr>
          <p:nvPr>
            <p:ph type="sldNum" idx="2"/>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ffffff"/>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38505E7-E571-4316-84DA-3EE2826EC9C9}"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3"/>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hyperlink" Target="http://www.mercadopublico.cl/"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hileproveedores.cl/"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file:///INHABILIDADES%20PARA%20CONTRATAR%20CON%20EL%20ESTADO.ppt"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
          <p:cNvSpPr/>
          <p:nvPr/>
        </p:nvSpPr>
        <p:spPr>
          <a:xfrm>
            <a:off x="685800" y="1765440"/>
            <a:ext cx="7772400" cy="17398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dbbd71"/>
                </a:solidFill>
                <a:latin typeface="Arial"/>
              </a:rPr>
              <a:t>CONTRATACIÓN ADMINISTRATIVA</a:t>
            </a:r>
            <a:endParaRPr b="0" lang="en-US" sz="5400" spc="-1" strike="noStrike">
              <a:solidFill>
                <a:srgbClr val="ffffff"/>
              </a:solidFill>
              <a:latin typeface="Arial"/>
            </a:endParaRPr>
          </a:p>
        </p:txBody>
      </p:sp>
      <p:sp>
        <p:nvSpPr>
          <p:cNvPr id="162"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Profesor: Jaime Jara Schnettler </a:t>
            </a:r>
            <a:endParaRPr b="0" lang="en-US" sz="2000" spc="-1" strike="noStrike">
              <a:solidFill>
                <a:srgbClr val="ffffff"/>
              </a:solidFill>
              <a:latin typeface="Arial"/>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Ayudante: Ángel Jara tobar.</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tuación en Chile: concepción ampl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istoria fidedigna del actual artículo 9 de la LOCBGAE. Comisión de Constitución, Legislación y Justicia de la Cámara de Diputados, 26° sesión de 10 de diciembre de 1998. La expresión “contrato administrativo” debe “ser entendida en sentido amplio, de manera de considerar todos los contratos suscritos por la Administración del Est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Jurisprudencia Administrativa. Dictámenes 29.401 de 1984, 12.251 de 1993, y 46.532, de 2000.</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
          <p:cNvSpPr/>
          <p:nvPr/>
        </p:nvSpPr>
        <p:spPr>
          <a:xfrm>
            <a:off x="324000" y="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0" name=""/>
          <p:cNvSpPr/>
          <p:nvPr/>
        </p:nvSpPr>
        <p:spPr>
          <a:xfrm>
            <a:off x="457200" y="1052640"/>
            <a:ext cx="8435880" cy="561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Son aplicables en Chile las características del contrato administrativo en su concepción clásica?</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Régimen jurídico aplicable: Existen normas especiales dependiendo del contrato de que se trate (Ej: suministro, ejecución de obra pública, concesión, etc.), las que son suplidas por la legislación comú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xisten algunos autores que sostiene que no se pueden aplicar normas de derecho privado según el artículo 4 del Código Civil, pues se trata de un régimen jurídico de derecho público.</a:t>
            </a:r>
            <a:endParaRPr b="0" lang="en-US" sz="18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Facultades exorbitantes de la Administración: Concurren en la medida en que estén contempladas en la ley o en el contrato en particular.</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Sobre la existencia </a:t>
            </a:r>
            <a:r>
              <a:rPr b="0" i="1" lang="es-ES" sz="2000" spc="-1" strike="noStrike">
                <a:solidFill>
                  <a:srgbClr val="ffffff"/>
                </a:solidFill>
                <a:latin typeface="Tahoma"/>
              </a:rPr>
              <a:t>per se </a:t>
            </a:r>
            <a:r>
              <a:rPr b="0" lang="es-ES" sz="2000" spc="-1" strike="noStrike">
                <a:solidFill>
                  <a:srgbClr val="ffffff"/>
                </a:solidFill>
                <a:latin typeface="Tahoma"/>
              </a:rPr>
              <a:t>de estas facultades, hay jurisprudencia en ambos sentidos:</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Favorable: Causa “Synapsys con Subsecretario de Salud”, ROL </a:t>
            </a:r>
            <a:r>
              <a:rPr b="0" lang="es-CL" sz="2000" spc="-1" strike="noStrike">
                <a:solidFill>
                  <a:srgbClr val="ffffff"/>
                </a:solidFill>
                <a:latin typeface="Tahoma"/>
              </a:rPr>
              <a:t>4272-1996, Corte de Apelaciones de Santiago</a:t>
            </a:r>
            <a:r>
              <a:rPr b="0" lang="es-ES" sz="2000" spc="-1" strike="noStrike">
                <a:solidFill>
                  <a:srgbClr val="ffffff"/>
                </a:solidFill>
                <a:latin typeface="Tahoma"/>
              </a:rPr>
              <a:t>.</a:t>
            </a:r>
            <a:endParaRPr b="0" lang="en-US" sz="2000" spc="-1" strike="noStrike">
              <a:solidFill>
                <a:srgbClr val="ffffff"/>
              </a:solidFill>
              <a:latin typeface="Arial"/>
            </a:endParaRPr>
          </a:p>
          <a:p>
            <a:pPr marL="339840" indent="-339840">
              <a:lnSpc>
                <a:spcPct val="80000"/>
              </a:lnSpc>
              <a:spcBef>
                <a:spcPts val="3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Contraria: Cuerpo Militar del Trabajo, Revista de Derecho y Jurisprudencia, 1996, segunda parte, sección quinta, páginas 146 y 147; Ferrocarriles del Estado, Gaceta Jurídica (124), 1990, páginas 120-121 .</a:t>
            </a:r>
            <a:r>
              <a:rPr b="0" lang="es-ES" sz="1200" spc="-1" strike="noStrike">
                <a:solidFill>
                  <a:srgbClr val="ffffff"/>
                </a:solidFill>
                <a:latin typeface="Tahoma"/>
              </a:rPr>
              <a:t> </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on aplicables en Chile las características del contrato administrativo en su concepción clásica? (continu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 Procede en el marco de la Ley 19.880.</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 No existen tribunales especiales para conocer el fondo del contrato.</a:t>
            </a:r>
            <a:endParaRPr b="0" lang="en-US" sz="2800" spc="-1" strike="noStrike">
              <a:solidFill>
                <a:srgbClr val="ffffff"/>
              </a:solidFill>
              <a:latin typeface="Arial"/>
            </a:endParaRPr>
          </a:p>
          <a:p>
            <a:pPr marL="339840" indent="-33984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
          <p:cNvSpPr/>
          <p:nvPr/>
        </p:nvSpPr>
        <p:spPr>
          <a:xfrm>
            <a:off x="685800" y="1600200"/>
            <a:ext cx="7772400" cy="253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ffffff"/>
                </a:solidFill>
                <a:latin typeface="Arial"/>
              </a:rPr>
              <a:t>LEY Nº19.886 SOBRE BASES DE CONTRATOS DE SUMINISTRO Y PRESTACIÓN DE SERVICIOS.</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5" name=""/>
          <p:cNvSpPr/>
          <p:nvPr/>
        </p:nvSpPr>
        <p:spPr>
          <a:xfrm>
            <a:off x="428760" y="1357200"/>
            <a:ext cx="8229600" cy="5488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u reglamentación detallada se encuentra en el Decreto Supremo del Ministerio de Hacienda Nº 250 de 2004.</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rea los siguientes órganos y sistemas:</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Dirección de Compras y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 de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istema de Información de Compras y Contrataciones de la Administración (hoy </a:t>
            </a:r>
            <a:r>
              <a:rPr b="0" lang="es-ES" sz="2800" spc="-1" strike="noStrike" u="sng">
                <a:solidFill>
                  <a:srgbClr val="ccccff"/>
                </a:solidFill>
                <a:uFillTx/>
                <a:latin typeface="Tahoma"/>
                <a:ea typeface="Arial Unicode MS"/>
                <a:hlinkClick r:id="rId1"/>
              </a:rPr>
              <a:t>www.chilecompra.cl</a:t>
            </a:r>
            <a:r>
              <a:rPr b="0" lang="es-ES" sz="2800" spc="-1" strike="noStrike">
                <a:solidFill>
                  <a:srgbClr val="ffffff"/>
                </a:solidFill>
                <a:latin typeface="Tahoma"/>
                <a:ea typeface="Arial Unicode MS"/>
              </a:rPr>
              <a:t> o </a:t>
            </a:r>
            <a:r>
              <a:rPr b="0" lang="es-ES" sz="2800" spc="-1" strike="noStrike" u="sng">
                <a:solidFill>
                  <a:srgbClr val="ccccff"/>
                </a:solidFill>
                <a:uFillTx/>
                <a:latin typeface="Tahoma"/>
                <a:ea typeface="Arial Unicode MS"/>
                <a:hlinkClick r:id="rId2"/>
              </a:rPr>
              <a:t>www.mercadopublico.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egistro de Proveedores del Estado.</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Dirección de Compras y Contratación Pública.</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emplazo a la antigua Dirección de Aprovisionamiento del estado (DAE).</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us funciones se encuentran en el artículo 30 de la Ley, siendo las princip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Sistema de Información y establecer sus condiciones de us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Registro de Proveedores del Estad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apacitar y promover el uso del Sistema de Información.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Licitar los convenios marco.</a:t>
            </a:r>
            <a:endParaRPr b="0" lang="en-US" sz="20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tiene facultades sancionadoras.</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9" name=""/>
          <p:cNvSpPr/>
          <p:nvPr/>
        </p:nvSpPr>
        <p:spPr>
          <a:xfrm>
            <a:off x="428760" y="1214280"/>
            <a:ext cx="8229600" cy="4984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Tribunal de Contratación Pública.</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un tribunal especial y permanente.</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colegiado, con tres miembros.</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su asiento en Santiago.</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Conoce la acción de impugnación en contra de actos ilegales o arbitrarios cometidos entre la aprobación de las bases y la adjudicación de una licitación.</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facultades para declarar ilegal o arbitrario un acto, y ordenas las medidas necesarias para el restablecimiento del derecho.</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stema de Información de Compras y Contrataciones de la Administración.</a:t>
            </a:r>
            <a:endParaRPr b="0" lang="en-US" sz="28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ímbolo de la modernización del Estado y del gobierno electrónic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 través de él se realizan los procesos de contratación del Estad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a reducido las actuaciones presenciales y físicas y simplificado los procedimientos.</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gún el artículo 18, su aplicación es obligatoria para todas las fases de un proceso de contratación que impliquen contacto con proveedores, desde la publicación de las bases hasta la emisión de la orden de compra.</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Registro de Proveedores del Estado.</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iene por objeto acreditar la idoneidad técnica y financiera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No acredita habilidad para contratar con el Estado (contrariamente a lo que aparece en </a:t>
            </a:r>
            <a:r>
              <a:rPr b="0" lang="es-ES" sz="2800" spc="-1" strike="noStrike" u="sng">
                <a:solidFill>
                  <a:srgbClr val="ccccff"/>
                </a:solidFill>
                <a:uFillTx/>
                <a:latin typeface="Tahoma"/>
                <a:ea typeface="Arial Unicode MS"/>
                <a:hlinkClick r:id="rId1"/>
              </a:rPr>
              <a:t>www.chileproveedores.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u operación es licitada por la Dirección de Compras y Contratación Pública.</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5"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La ley 19.886 regula dos tipos de contratos:</a:t>
            </a:r>
            <a:endParaRPr b="0" lang="en-US" sz="32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suministro.</a:t>
            </a:r>
            <a:endParaRPr b="0" lang="en-US" sz="28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prestación de servicios.</a:t>
            </a:r>
            <a:endParaRPr b="0" lang="en-US" sz="28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
          <p:cNvSpPr/>
          <p:nvPr/>
        </p:nvSpPr>
        <p:spPr>
          <a:xfrm>
            <a:off x="642960" y="711360"/>
            <a:ext cx="7770960" cy="46670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L" sz="2000" spc="-1" strike="noStrike">
                <a:solidFill>
                  <a:srgbClr val="dbbd71"/>
                </a:solidFill>
                <a:latin typeface="Arial"/>
              </a:rPr>
              <a:t>LEY ORGÁNICA CONSTITUCIONAL DE BASES GENERALES DE ADMINISTRACIÓN DEL ESTADO</a:t>
            </a:r>
            <a:br>
              <a:rPr sz="2000"/>
            </a:br>
            <a:r>
              <a:rPr b="0" lang="es-CL" sz="2000" spc="-1" strike="noStrike">
                <a:solidFill>
                  <a:srgbClr val="dbbd71"/>
                </a:solidFill>
                <a:latin typeface="Arial"/>
              </a:rPr>
              <a:t>ARTÍCULO  9º</a:t>
            </a:r>
            <a:br>
              <a:rPr sz="2000"/>
            </a:br>
            <a:r>
              <a:rPr b="0" lang="es-CL" sz="2000" spc="-1" strike="noStrike">
                <a:solidFill>
                  <a:srgbClr val="dbbd71"/>
                </a:solidFill>
                <a:latin typeface="Arial"/>
              </a:rPr>
              <a:t> </a:t>
            </a:r>
            <a:br>
              <a:rPr sz="2000"/>
            </a:br>
            <a:r>
              <a:rPr b="0" lang="es-CL" sz="2000" spc="-1" strike="noStrike">
                <a:solidFill>
                  <a:srgbClr val="ffffff"/>
                </a:solidFill>
                <a:latin typeface="Arial"/>
              </a:rPr>
              <a:t>Los contratos administrativos se celebrarán previa propuesta pública, en conformidad a la ley.</a:t>
            </a:r>
            <a:br>
              <a:rPr sz="2000"/>
            </a:br>
            <a:br>
              <a:rPr sz="2000"/>
            </a:br>
            <a:r>
              <a:rPr b="0" lang="es-CL" sz="2000" spc="-1" strike="noStrike">
                <a:solidFill>
                  <a:srgbClr val="ffffff"/>
                </a:solidFill>
                <a:latin typeface="Arial"/>
              </a:rPr>
              <a:t>El procedimiento concursal se regirá por los principios de libre concurrencia de los oferentes al llamado administrativo y de igualdad ante las bases que rigen el contrato.</a:t>
            </a:r>
            <a:br>
              <a:rPr sz="2000"/>
            </a:br>
            <a:br>
              <a:rPr sz="2000"/>
            </a:br>
            <a:r>
              <a:rPr b="0" lang="es-CL" sz="2000" spc="-1" strike="noStrike">
                <a:solidFill>
                  <a:srgbClr val="ffffff"/>
                </a:solidFill>
                <a:latin typeface="Arial"/>
              </a:rPr>
              <a:t>La licitación privada procederá, en su caso, previa resolución fundada que así lo disponga, salvo que por la naturaleza de la negociación corresponda acudir al trato directo.</a:t>
            </a:r>
            <a:br>
              <a:rPr sz="2000"/>
            </a:b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7"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3200" spc="-1" strike="noStrike">
                <a:solidFill>
                  <a:srgbClr val="ffffff"/>
                </a:solidFill>
                <a:latin typeface="Tahoma"/>
              </a:rPr>
              <a:t>Aplicación de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800" spc="-1" strike="noStrike">
                <a:solidFill>
                  <a:srgbClr val="ffffff"/>
                </a:solidFill>
                <a:latin typeface="Tahoma"/>
                <a:ea typeface="Arial Unicode MS"/>
              </a:rPr>
              <a:t>Se aplica a los contratos de:</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Suministro de bienes mueble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Se excluyen los inmuebles.</a:t>
            </a:r>
            <a:endParaRPr b="0" lang="en-US" sz="20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Prestación de servicio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jurídica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naturales, salvo aquellos sobre la base de honorarios.</a:t>
            </a:r>
            <a:endParaRPr b="0" lang="en-US" sz="20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9" name=""/>
          <p:cNvSpPr/>
          <p:nvPr/>
        </p:nvSpPr>
        <p:spPr>
          <a:xfrm>
            <a:off x="457200" y="1600200"/>
            <a:ext cx="8229600" cy="5087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99"/>
              </a:spcBef>
              <a:buClr>
                <a:srgbClr val="ffcc66"/>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2000" spc="-1" strike="noStrike">
                <a:solidFill>
                  <a:srgbClr val="ffffff"/>
                </a:solidFill>
                <a:latin typeface="Tahoma"/>
              </a:rPr>
              <a:t>El Contrato de Suministro.</a:t>
            </a:r>
            <a:endParaRPr b="0" lang="en-US" sz="20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Concepto: Es el contrato “que tiene por objeto la compra o el arrendamiento, incluso con opción de compra, de productos o bienes muebles” (artículo 2º de la Ley 19.886).</a:t>
            </a:r>
            <a:endParaRPr b="0" lang="en-US" sz="18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Que se entiende por contrato de suministro según la Ley 19.886:</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a adquisición y arrendamiento de equipos y sistemas para el tratamiento de la información, sus dispositivos y programas y la cesión de derechos de uso de estos últimos, con la salvedad que la adquisición de programas de computación a medida, se considerará contrato de servicios;</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mantenimiento de equipos y sistemas para el tratamiento de la información, sus dispositivos y programas cuando se contrate conjuntamente con la adquisición o arrendamiento, y</a:t>
            </a:r>
            <a:endParaRPr b="0" lang="en-US" sz="1600" spc="-1" strike="noStrike">
              <a:solidFill>
                <a:srgbClr val="ffffff"/>
              </a:solidFill>
              <a:latin typeface="Arial"/>
            </a:endParaRPr>
          </a:p>
          <a:p>
            <a:pPr lvl="2" marL="1254240" indent="-339840">
              <a:lnSpc>
                <a:spcPct val="80000"/>
              </a:lnSpc>
              <a:spcBef>
                <a:spcPts val="349"/>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fabricación, por lo que las cosas que hayan de ser entregadas por el contratista deben ser elaboradas con arreglo a las características fijadas previamente por la Administración, aun cuando ésta se obligue a aportar, total o parcialmente, los materiales</a:t>
            </a:r>
            <a:r>
              <a:rPr b="0" lang="es-ES" sz="1400" spc="-1" strike="noStrike">
                <a:solidFill>
                  <a:srgbClr val="ffffff"/>
                </a:solidFill>
                <a:latin typeface="Tahoma"/>
                <a:ea typeface="Arial Unicode MS"/>
              </a:rPr>
              <a:t>.</a:t>
            </a:r>
            <a:endParaRPr b="0" lang="en-US" sz="14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Importancia de poder calificar un contrato como contrato de suministro:</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Aplicabilidad de la Ley 19.886.</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Normas de exención de toma de razón distintas.</a:t>
            </a: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1" name=""/>
          <p:cNvSpPr/>
          <p:nvPr/>
        </p:nvSpPr>
        <p:spPr>
          <a:xfrm>
            <a:off x="457200" y="1600200"/>
            <a:ext cx="8229600" cy="4578480"/>
          </a:xfrm>
          <a:prstGeom prst="rect">
            <a:avLst/>
          </a:prstGeom>
          <a:noFill/>
          <a:ln w="0">
            <a:noFill/>
          </a:ln>
        </p:spPr>
        <p:style>
          <a:lnRef idx="0"/>
          <a:fillRef idx="0"/>
          <a:effectRef idx="0"/>
          <a:fontRef idx="minor"/>
        </p:style>
        <p:txBody>
          <a:bodyPr lIns="90000" rIns="90000" tIns="46800" bIns="46800" anchor="t">
            <a:noAutofit/>
          </a:bodyPr>
          <a:p>
            <a:pPr lvl="1" marL="738360" indent="-281160">
              <a:lnSpc>
                <a:spcPct val="90000"/>
              </a:lnSpc>
              <a:spcBef>
                <a:spcPts val="60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400" spc="-1" strike="noStrike">
                <a:solidFill>
                  <a:srgbClr val="ffffff"/>
                </a:solidFill>
                <a:latin typeface="Tahoma"/>
                <a:ea typeface="Arial Unicode MS"/>
              </a:rPr>
              <a:t>Clasificación de los contratos de suministro:</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Suministro único y puntual.</a:t>
            </a:r>
            <a:endParaRPr b="0" lang="en-US" sz="20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Abastecimiento continuo: </a:t>
            </a:r>
            <a:endParaRPr b="0" lang="en-US" sz="20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l suministro se efectúa a costa y riesgo del contratista.</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n caso de que surjan circunstancias imprevistas que hagan excesivamente oneroso el contrato, la parte afectada puede solicitar su modificación o terminación (Teoría de la imprevisión).</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Se debe regular con cuid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Duración y forma de renovación.</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Garantías.</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láusulas de salida.</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ausales de término anticip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xclusividad.</a:t>
            </a:r>
            <a:endParaRPr b="0" lang="en-US" sz="1800" spc="-1" strike="noStrike">
              <a:solidFill>
                <a:srgbClr val="ffffff"/>
              </a:solidFill>
              <a:latin typeface="Arial"/>
            </a:endParaRPr>
          </a:p>
          <a:p>
            <a:pPr>
              <a:lnSpc>
                <a:spcPct val="90000"/>
              </a:lnSpc>
              <a:spcBef>
                <a:spcPts val="451"/>
              </a:spcBef>
              <a:tabLst>
                <a:tab algn="l" pos="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3" name=""/>
          <p:cNvSpPr/>
          <p:nvPr/>
        </p:nvSpPr>
        <p:spPr>
          <a:xfrm>
            <a:off x="457200" y="1600200"/>
            <a:ext cx="8229600" cy="4932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rPr>
              <a:t>El contrato de prestación de servicios.</a:t>
            </a:r>
            <a:endParaRPr b="0" lang="en-US" sz="2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regulación de la prestación de servicios es confusa y dispersa en el derecho administrativo chilen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9.886.</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8.803 sobre contratación de acciones de apoy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Decreto Supremo del Ministerio de Hacienda Nº 98 de 1990.</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tatuto administrativo.</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Ley Nº 19.886 regula servicios tales com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se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eguridad.</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Consultorías (salvo que tengan una regulación especial ej: Decreto Supremo del Ministerio de Obras Públicas Nº 48 de 1994).</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Transporte de personal.</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c.</a:t>
            </a:r>
            <a:endParaRPr b="0" lang="en-US" sz="20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5" name=""/>
          <p:cNvSpPr/>
          <p:nvPr/>
        </p:nvSpPr>
        <p:spPr>
          <a:xfrm>
            <a:off x="457200" y="1600200"/>
            <a:ext cx="8229600" cy="454356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100000"/>
              </a:lnSpc>
              <a:spcBef>
                <a:spcPts val="700"/>
              </a:spcBef>
              <a:buClr>
                <a:srgbClr val="ffcc66"/>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CL" sz="2800" spc="-1" strike="noStrike">
                <a:solidFill>
                  <a:srgbClr val="ffffff"/>
                </a:solidFill>
                <a:latin typeface="Tahoma"/>
              </a:rPr>
              <a:t>Contratos excluidos de la Ley 19.886 de acuerdo a su artículo 3:</a:t>
            </a:r>
            <a:endParaRPr b="0" lang="en-US" sz="2800" spc="-1" strike="noStrike">
              <a:solidFill>
                <a:srgbClr val="ffffff"/>
              </a:solidFill>
              <a:latin typeface="Arial"/>
            </a:endParaRPr>
          </a:p>
          <a:p>
            <a:pPr marL="604800" indent="-604800">
              <a:lnSpc>
                <a:spcPct val="100000"/>
              </a:lnSpc>
              <a:spcBef>
                <a:spcPts val="601"/>
              </a:spcBef>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a contratación de personal de acuerdo a los estatutos respectivos, y de personas a honorarios; </a:t>
            </a: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os convenios celebrados entre sí por los organismos públicos señalados en el artículo 2° inciso primero del D..L. 1.263 sobre Administración Financiera del Estado.</a:t>
            </a:r>
            <a:endParaRPr b="0" lang="en-US" sz="2400" spc="-1" strike="noStrike">
              <a:solidFill>
                <a:srgbClr val="ffffff"/>
              </a:solidFill>
              <a:latin typeface="Arial"/>
            </a:endParaRPr>
          </a:p>
          <a:p>
            <a:pPr marL="604800" indent="-604800">
              <a:lnSpc>
                <a:spcPct val="100000"/>
              </a:lnSpc>
              <a:spcBef>
                <a:spcPts val="601"/>
              </a:spcBef>
              <a:buClr>
                <a:srgbClr val="ffffff"/>
              </a:buClr>
              <a:buSzPct val="65000"/>
              <a:buFont typeface="Tahoma"/>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br>
              <a:rPr sz="2400"/>
            </a:br>
            <a:r>
              <a:rPr b="0" lang="es-ES" sz="2400" spc="-1" strike="noStrike">
                <a:solidFill>
                  <a:srgbClr val="ffffff"/>
                </a:solidFill>
                <a:latin typeface="Tahoma"/>
              </a:rPr>
              <a:t> </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7" name=""/>
          <p:cNvSpPr/>
          <p:nvPr/>
        </p:nvSpPr>
        <p:spPr>
          <a:xfrm>
            <a:off x="457200" y="1571760"/>
            <a:ext cx="8229600" cy="52862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os contratos relacionados con la ejecución y concesión de obras públicas, los de obra que celebren los Servicios de Vivienda y Urbanización para el cumplimiento de sus fines, y los destinados a la ejecución, operación y mantención de obras urbanas, con participación de terceros, que suscriban de conformidad a la ley Nº 19.865 que aprueba el Sistema de Financiamiento Urbano Compartido.</a:t>
            </a:r>
            <a:endParaRPr b="0" lang="en-US" sz="1600" spc="-1" strike="noStrike">
              <a:solidFill>
                <a:srgbClr val="ffffff"/>
              </a:solidFill>
              <a:latin typeface="Arial"/>
            </a:endParaRPr>
          </a:p>
          <a:p>
            <a:pPr lvl="2" marL="1143000" indent="-228600">
              <a:lnSpc>
                <a:spcPct val="8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principal regulación especial se encuentra e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FL MOP N° 164 de 1991 (Contratos de Concesión de Obra Públic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75 de 2004, sobre Contrato de Ejecución de Obra Pública (sólo para contratos MINVU o MOP).</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Nº 48 de 1994, Reglamento de Consultorías (Sólo para contratos MOP o de sus organismos relacionados). </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ey Nº 19.865 sobre Financiamiento Urbano Compartid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siempre, el Capitulo V de la Ley 19.886 (Tribunal de Contratación Públic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el resto de la Ley Nº 19.886 en forma supletori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empre se debe utilizar el sistema “</a:t>
            </a:r>
            <a:r>
              <a:rPr b="0" lang="es-ES" sz="1600" spc="-1" strike="noStrike" u="sng">
                <a:solidFill>
                  <a:srgbClr val="ccccff"/>
                </a:solidFill>
                <a:uFillTx/>
                <a:latin typeface="Tahoma"/>
                <a:ea typeface="Arial Unicode MS"/>
                <a:hlinkClick r:id="rId1"/>
              </a:rPr>
              <a:t>www.chilecompra.cl</a:t>
            </a:r>
            <a:r>
              <a:rPr b="0" lang="es-ES" sz="1600" spc="-1" strike="noStrike">
                <a:solidFill>
                  <a:srgbClr val="ffffff"/>
                </a:solidFill>
                <a:latin typeface="Tahoma"/>
                <a:ea typeface="Arial Unicode MS"/>
              </a:rPr>
              <a:t>” (art. 18 de la Ley 19.886).</a:t>
            </a:r>
            <a:endParaRPr b="0" lang="en-US" sz="1600" spc="-1" strike="noStrike">
              <a:solidFill>
                <a:srgbClr val="ffffff"/>
              </a:solidFill>
              <a:latin typeface="Arial"/>
            </a:endParaRPr>
          </a:p>
          <a:p>
            <a:pPr marL="338040" indent="-338040">
              <a:lnSpc>
                <a:spcPct val="8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209" name=""/>
          <p:cNvSpPr/>
          <p:nvPr/>
        </p:nvSpPr>
        <p:spPr>
          <a:xfrm>
            <a:off x="457200" y="1600200"/>
            <a:ext cx="8229600" cy="51562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os contratos que versen sobre:</a:t>
            </a:r>
            <a:endParaRPr b="0" lang="en-US" sz="28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Material de guerr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eyes números 7.144, 13.196 y sus modificaciones.</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propios de las fuerzas armadas y de orden y seguridad públic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y servicios necesarios para prevenir riesgos excepcionales a la seguridad nacional o a la seguridad pública calificados por Decreto Supremo.</a:t>
            </a:r>
            <a:endParaRPr b="0" lang="en-US" sz="2400" spc="-1" strike="noStrike">
              <a:solidFill>
                <a:srgbClr val="ffffff"/>
              </a:solidFill>
              <a:latin typeface="Arial"/>
            </a:endParaRPr>
          </a:p>
          <a:p>
            <a:pPr lvl="3" marL="1600200" indent="-228600">
              <a:lnSpc>
                <a:spcPct val="8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estos contratos no rige siquiera la obligación de publicar en el Sistema de información de Compras y Contratación Pública, sino que se aplican normas especiales sobre el manejo de la información.</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1" name=""/>
          <p:cNvSpPr/>
          <p:nvPr/>
        </p:nvSpPr>
        <p:spPr>
          <a:xfrm>
            <a:off x="457200" y="1600200"/>
            <a:ext cx="8228160" cy="5324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La resciliación o mutuo acuerdo entre los contratantes.</a:t>
            </a:r>
            <a:endParaRPr b="0" lang="en-US" sz="20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loría general de la República ha sostenido que no procede la modificación de contratos licitados si las bases no contemplan la posibilidad (Dictámenes 5.473, 12.473 y 29.179 de 2009); se vulneraría principio de igualdad de los oferentes y estricta sujeción a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incumplimiento grave de las obligaciones contraídas por el contratante.</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estado de notoria insolvencia del contratante, a menos que se mejoren las cauciones entregadas o las existentes sean suficientes para garantizar el cumplimiento del contrato.</a:t>
            </a:r>
            <a:endParaRPr b="0" lang="en-US" sz="2000" spc="-1" strike="noStrike">
              <a:solidFill>
                <a:srgbClr val="ffffff"/>
              </a:solidFill>
              <a:latin typeface="Arial"/>
            </a:endParaRPr>
          </a:p>
          <a:p>
            <a:pPr lvl="2" marL="1143000" indent="-228600">
              <a:lnSpc>
                <a:spcPct val="100000"/>
              </a:lnSpc>
              <a:spcBef>
                <a:spcPts val="60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3" name=""/>
          <p:cNvSpPr/>
          <p:nvPr/>
        </p:nvSpPr>
        <p:spPr>
          <a:xfrm>
            <a:off x="500040" y="1428840"/>
            <a:ext cx="8228160" cy="5564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 - continu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Por exigirlo el interés público o la seguridad nacional.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Positivización del principio de preeminencia de la Administración, cuya aplicación </a:t>
            </a:r>
            <a:r>
              <a:rPr b="0" i="1" lang="es-ES" sz="1800" spc="-1" strike="noStrike">
                <a:solidFill>
                  <a:srgbClr val="ffffff"/>
                </a:solidFill>
                <a:latin typeface="Tahoma"/>
                <a:ea typeface="Arial Unicode MS"/>
              </a:rPr>
              <a:t>per se </a:t>
            </a:r>
            <a:r>
              <a:rPr b="0" lang="es-ES" sz="1800" spc="-1" strike="noStrike">
                <a:solidFill>
                  <a:srgbClr val="ffffff"/>
                </a:solidFill>
                <a:latin typeface="Tahoma"/>
                <a:ea typeface="Arial Unicode MS"/>
              </a:rPr>
              <a:t>ha sido rechazada en diversas sentencias salvo el caso Synapsys, pues en este caso las facultades de la Administración ya se encontraban en el contrato y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Las demás que se establezcan en las respectivas bases de la licitación o en el contrato.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1800" spc="-1" strike="noStrike">
                <a:solidFill>
                  <a:srgbClr val="ffffff"/>
                </a:solidFill>
                <a:latin typeface="Tahoma"/>
                <a:ea typeface="Arial Unicode MS"/>
              </a:rPr>
              <a:t>Dichas bases podrán establecer mecanismos de compensación y de indemnización a los contratantes.</a:t>
            </a:r>
            <a:endParaRPr b="0" lang="en-US" sz="1800" spc="-1" strike="noStrike">
              <a:solidFill>
                <a:srgbClr val="ffffff"/>
              </a:solidFill>
              <a:latin typeface="Arial"/>
            </a:endParaRPr>
          </a:p>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rPr>
              <a:t>Las resoluciones o decretos que dispongan tales medidas deberán ser fundadas.</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684360" y="1733400"/>
            <a:ext cx="77724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ffffff"/>
                </a:solidFill>
                <a:latin typeface="Arial"/>
              </a:rPr>
              <a:t>PROCEDIMIENTOS DE CONTRATACIÓN DE LA LEY 19.886</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457200" y="277920"/>
            <a:ext cx="7859880" cy="77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CONTRATACIÓN ADMINISTRATIVA</a:t>
            </a:r>
            <a:endParaRPr b="0" lang="en-US" sz="3600" spc="-1" strike="noStrike">
              <a:solidFill>
                <a:srgbClr val="ffffff"/>
              </a:solidFill>
              <a:latin typeface="Arial"/>
            </a:endParaRPr>
          </a:p>
        </p:txBody>
      </p:sp>
      <p:sp>
        <p:nvSpPr>
          <p:cNvPr id="16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DEL CONTRATO ADMINISTRATIVO EN GENERAL.</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CONTRATO DE SUMINISTRO Y DE PRESTACIÓN DE SERVICIOS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PROCEDIMIENTOS DE CONTRATACIÓN DE LA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EL TRIBUNAL DE CONTRATACIÓN PÚBLICA.</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PROCEDIMIENTOS DE CONTRATACIÓN DE LA LEY 19.886</a:t>
            </a:r>
            <a:endParaRPr b="0" lang="en-US" sz="2400" spc="-1" strike="noStrike">
              <a:solidFill>
                <a:srgbClr val="ffffff"/>
              </a:solidFill>
              <a:latin typeface="Arial"/>
            </a:endParaRPr>
          </a:p>
        </p:txBody>
      </p:sp>
      <p:sp>
        <p:nvSpPr>
          <p:cNvPr id="216" name=""/>
          <p:cNvSpPr/>
          <p:nvPr/>
        </p:nvSpPr>
        <p:spPr>
          <a:xfrm>
            <a:off x="457200" y="1600200"/>
            <a:ext cx="8229600" cy="5175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stemas de contratación en el derecho administrativo comparado:</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libre elección: Consiste en que los organismos públicos pueden escoger, en forma directa y discrecional a la persona con la cual ha de celebrarse un determinado contrato, sin que tengan que sujetarse para ello procedimiento especial algun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Es la regla general en Derecho Comparado.</a:t>
            </a:r>
            <a:endParaRPr b="0" lang="en-US" sz="1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restricción: Aquel que limita la libertad de la Administración para seleccionar a su contraparte en un contrato, fijándole ciertos procedimientos que debe observar para ello. Entre tales procedimientos, los más destacados son los siguientes:</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rivad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tación directa o trato directo.</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remate o subasta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concurso.</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18" name=""/>
          <p:cNvSpPr/>
          <p:nvPr/>
        </p:nvSpPr>
        <p:spPr>
          <a:xfrm>
            <a:off x="457200" y="1600200"/>
            <a:ext cx="8231040" cy="42768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tuación en Chile:</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 partir de la Ley 19.653, que introdujo el artículo 8 bis a la LOCBGAE (actual artículo 9), se adoptó el sistema de restric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iscrepancia del profesor Rolando Pantoja Bauzá.</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La frase “en conformidad a la ley” significa cuando la ley lo dispone y adaptándose a los requisitos de ést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Fuera de los casos establecidos en la ley, procede el sistema de libre elecció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Argumento históric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Posición del profesor Iván Aróstica Maldonado:</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a:t>
            </a:r>
            <a:r>
              <a:rPr b="0" lang="es-ES" sz="1600" spc="-1" strike="noStrike">
                <a:solidFill>
                  <a:srgbClr val="ffffff"/>
                </a:solidFill>
                <a:latin typeface="Tahoma"/>
                <a:ea typeface="Arial Unicode MS"/>
              </a:rPr>
              <a:t>Si la ley especial no consulta los procedimientos de licitación privada y/o trato directo como alternativas de selección, estos mecanismos ya no pueden recibir aplicación.... ello porque la norma general contenida en el artículo 9 analizado, no tuvo por objeto modificar (ampliar) aquellas leyes especiales que, con anterioridad, hacían exigible un único y determinado procedimiento de adjudicación respecto de determinados contratos administrativo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20"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Procedimientos de contratación que contempla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úblic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rivada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Trato directo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Convenio Marco (regla general cuando el bien o servicio se encuentra en convenio marco).</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PROCEDIMIENTOS DE CONTRATACIÓN DE LA LEY 19.886</a:t>
            </a:r>
            <a:endParaRPr b="0" lang="en-US" sz="3200" spc="-1" strike="noStrike">
              <a:solidFill>
                <a:srgbClr val="ffffff"/>
              </a:solidFill>
              <a:latin typeface="Arial"/>
            </a:endParaRPr>
          </a:p>
        </p:txBody>
      </p:sp>
      <p:sp>
        <p:nvSpPr>
          <p:cNvPr id="222" name=""/>
          <p:cNvSpPr/>
          <p:nvPr/>
        </p:nvSpPr>
        <p:spPr>
          <a:xfrm>
            <a:off x="457200" y="1600200"/>
            <a:ext cx="8229600" cy="4878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Principios que informan los procedimientos de contrat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ibre concurrencia de los oferentes.</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opone al principio de libre concurrencia establecer requisitos especiales como experiencia mínima, residencia, etc.</a:t>
            </a:r>
            <a:endParaRPr b="0" lang="en-US" sz="24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Igualdad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stricta sujeción a las bas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ublicidad.</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4" name=""/>
          <p:cNvSpPr/>
          <p:nvPr/>
        </p:nvSpPr>
        <p:spPr>
          <a:xfrm>
            <a:off x="457200" y="1600200"/>
            <a:ext cx="8231040" cy="4618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876"/>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500" spc="-1" strike="noStrike">
                <a:solidFill>
                  <a:srgbClr val="ffffff"/>
                </a:solidFill>
                <a:latin typeface="Tahoma"/>
              </a:rPr>
              <a:t>“</a:t>
            </a:r>
            <a:r>
              <a:rPr b="0" lang="es-ES" sz="3500" spc="-1" strike="noStrike">
                <a:solidFill>
                  <a:srgbClr val="ffffff"/>
                </a:solidFill>
                <a:latin typeface="Tahoma"/>
              </a:rPr>
              <a:t>La licitación o propuesta pública es el procedimiento administrativo de carácter concursal, mediante el cual la Administración realiza un llamado público, convocando a los interesados para que, sujetándose a las bases fijadas, formulen propuestas, de entre las cuales seleccionar y aceptar la más conveniente”</a:t>
            </a:r>
            <a:endParaRPr b="0" lang="en-US" sz="3500" spc="-1" strike="noStrike">
              <a:solidFill>
                <a:srgbClr val="ffffff"/>
              </a:solidFill>
              <a:latin typeface="Arial"/>
            </a:endParaRPr>
          </a:p>
          <a:p>
            <a:pPr marL="338040" indent="-338040" algn="r">
              <a:lnSpc>
                <a:spcPct val="80000"/>
              </a:lnSpc>
              <a:spcBef>
                <a:spcPts val="40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rPr>
              <a:t>Julia Poblete Vinaixa. </a:t>
            </a:r>
            <a:r>
              <a:rPr b="0" i="1" lang="es-ES" sz="1600" spc="-1" strike="noStrike">
                <a:solidFill>
                  <a:srgbClr val="ffffff"/>
                </a:solidFill>
                <a:latin typeface="Tahoma"/>
              </a:rPr>
              <a:t>Actos y Contratos Administrativos,</a:t>
            </a:r>
            <a:r>
              <a:rPr b="0" lang="es-ES" sz="1600" spc="-1" strike="noStrike">
                <a:solidFill>
                  <a:srgbClr val="ffffff"/>
                </a:solidFill>
                <a:latin typeface="Tahoma"/>
              </a:rPr>
              <a:t> Santiago, Editorial LexisNexis, 2007. </a:t>
            </a:r>
            <a:endParaRPr b="0" lang="en-US" sz="1600" spc="-1" strike="noStrike">
              <a:solidFill>
                <a:srgbClr val="ffffff"/>
              </a:solidFill>
              <a:latin typeface="Arial"/>
            </a:endParaRPr>
          </a:p>
          <a:p>
            <a:pPr marL="338040" indent="-338040">
              <a:lnSpc>
                <a:spcPct val="8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6" name=""/>
          <p:cNvSpPr/>
          <p:nvPr/>
        </p:nvSpPr>
        <p:spPr>
          <a:xfrm>
            <a:off x="457200" y="1600200"/>
            <a:ext cx="8229600" cy="5402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9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600" spc="-1" strike="noStrike">
                <a:solidFill>
                  <a:srgbClr val="ffffff"/>
                </a:solidFill>
                <a:latin typeface="Tahoma"/>
              </a:rPr>
              <a:t>Características:</a:t>
            </a:r>
            <a:endParaRPr b="0" lang="en-US" sz="36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un procedimient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 carácter concursal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be existir sujeción a las bases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Se selecciona la oferta más conveniente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l llamado es públic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la regla general (art. 9 LOCBGAE en relación al artículo 8 de la Ley 19.886).</a:t>
            </a:r>
            <a:endParaRPr b="0" lang="en-US" sz="3000" spc="-1" strike="noStrike">
              <a:solidFill>
                <a:srgbClr val="ffffff"/>
              </a:solidFill>
              <a:latin typeface="Arial"/>
            </a:endParaRPr>
          </a:p>
          <a:p>
            <a:pPr marL="338040" indent="-338040">
              <a:lnSpc>
                <a:spcPct val="90000"/>
              </a:lnSpc>
              <a:spcBef>
                <a:spcPts val="7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8"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Etapas:</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robación de bases y publ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Recepción de ofertas y cierre.</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ertura de ofertas y evalu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djudicación y suscripción del contrato definitivo.</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0"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Aprobación de bases y publicación:</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ser aprobadas mediante acto administrativo. Lo mismo ocurre con su modif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trata de las bases administrativas y técnicas del proces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publicarse en el Sistema de Información (Chilecompra.cl).</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2" name=""/>
          <p:cNvSpPr/>
          <p:nvPr/>
        </p:nvSpPr>
        <p:spPr>
          <a:xfrm>
            <a:off x="41112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ea typeface="Arial Unicode MS"/>
              </a:rPr>
              <a:t>Las bases administrativas deben contener a lo menos (artículo 22 del Reglamento):</a:t>
            </a:r>
            <a:endParaRPr b="0" lang="en-US" sz="22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requisitos y condiciones mínimas de admisibilidad.</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pecificaciones técnicas.</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tuación de las marcas.</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apas y plazos de la licitación.</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sultas y respuestas.</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Visita a terreno.</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ierre.</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Apertura.</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condición, el plazo y modo para el pago.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plazo de entrega.</a:t>
            </a:r>
            <a:endParaRPr b="0" lang="en-US" sz="2000" spc="-1" strike="noStrike">
              <a:solidFill>
                <a:srgbClr val="ffffff"/>
              </a:solidFill>
              <a:latin typeface="Arial"/>
            </a:endParaRPr>
          </a:p>
          <a:p>
            <a:pPr marL="338040" indent="-338040">
              <a:lnSpc>
                <a:spcPct val="10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4" name=""/>
          <p:cNvSpPr/>
          <p:nvPr/>
        </p:nvSpPr>
        <p:spPr>
          <a:xfrm>
            <a:off x="457200" y="1600200"/>
            <a:ext cx="8229600" cy="5267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Aprobación de bases y publicación:</a:t>
            </a:r>
            <a:endParaRPr b="0" lang="en-US" sz="24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bases administrativas deben contener a lo menos (continuación):</a:t>
            </a:r>
            <a:endParaRPr b="0" lang="en-US" sz="1600" spc="-1" strike="noStrike">
              <a:solidFill>
                <a:srgbClr val="ffffff"/>
              </a:solidFill>
              <a:latin typeface="Arial"/>
            </a:endParaRPr>
          </a:p>
          <a:p>
            <a:pPr lvl="2" marL="1143000" indent="-228600">
              <a:lnSpc>
                <a:spcPct val="9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 naturaleza y el monto de las garantí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seriedad de la oferta (obligatoria sobre 1.000 UTM).</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por anticipos (obligatoria siempre que hay anticipo.</a:t>
            </a:r>
            <a:endParaRPr b="0" lang="en-US" sz="1600" spc="-1" strike="noStrike">
              <a:solidFill>
                <a:srgbClr val="ffffff"/>
              </a:solidFill>
              <a:latin typeface="Arial"/>
            </a:endParaRPr>
          </a:p>
          <a:p>
            <a:pPr lvl="3" marL="1600200" indent="-228600">
              <a:lnSpc>
                <a:spcPct val="90000"/>
              </a:lnSpc>
              <a:spcBef>
                <a:spcPts val="60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fiel y oportuno cumplimiento. (obligatoria sobre 1.000 UTM).</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Entre un 5 y un 30% del valor del contra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exigir al adjudicado un aumento en caso de una oferta excesivamente menor (art. 42 del reglamen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vigencia debe exceder en a lo menos 60 días la vigencia del contrato.</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 se trata de prestación de servicio, la garantía de fiel cumplimiento debe garantizar además </a:t>
            </a:r>
            <a:r>
              <a:rPr b="0" lang="es-ES" sz="1600" spc="-1" strike="noStrike">
                <a:solidFill>
                  <a:srgbClr val="ffffff"/>
                </a:solidFill>
                <a:latin typeface="Tahoma"/>
                <a:ea typeface="Arial Unicode MS"/>
              </a:rPr>
              <a:t>el pago de las obligaciones laborales y sociales de los trabajadores de los contratantes (artículo 11 de la Ley).</a:t>
            </a:r>
            <a:r>
              <a:rPr b="0" lang="es-ES" sz="1600" spc="-1" strike="noStrike">
                <a:solidFill>
                  <a:srgbClr val="ffffff"/>
                </a:solidFill>
                <a:latin typeface="Tahoma"/>
                <a:ea typeface="Arial Unicode MS"/>
              </a:rPr>
              <a:t> </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garantías han de consistir siempre en instrumentos de cobro rápido y efectivo (no se pueden aceptar cheques, pagarés o letr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contemplar también la exigencia de garantías de correcta ejecución. </a:t>
            </a:r>
            <a:endParaRPr b="0" lang="en-US" sz="1600" spc="-1" strike="noStrike">
              <a:solidFill>
                <a:srgbClr val="ffffff"/>
              </a:solidFill>
              <a:latin typeface="Arial"/>
            </a:endParaRPr>
          </a:p>
          <a:p>
            <a:pPr marL="338040" indent="-338040">
              <a:lnSpc>
                <a:spcPct val="9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685800" y="1216080"/>
            <a:ext cx="7772400" cy="22874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dbbd71"/>
                </a:solidFill>
                <a:latin typeface="Arial"/>
              </a:rPr>
              <a:t>DEL CONTRATO ADMINISTRATIVO EN GENERAL</a:t>
            </a:r>
            <a:endParaRPr b="0" lang="en-US" sz="4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6" name=""/>
          <p:cNvSpPr/>
          <p:nvPr/>
        </p:nvSpPr>
        <p:spPr>
          <a:xfrm>
            <a:off x="395280" y="1268280"/>
            <a:ext cx="8231040" cy="5421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s bases administrativas deben contener a lo menos (continuación):</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criterios objetivos que serán considerados para decidir la adjudicación.</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Han de ser objetivo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n atender únicamente al precio.</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n el caso de la prestación de servicios habituales, que deban proveerse a través de licitaciones o contrataciones periódicas, se otorgará mayor puntaje o calificación a aquellos postulantes que exhibieren mejores condiciones de empleo y remuneraciones (ejemplo: licitación de servicios de ase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nombre completo del funcionario de la entidad licitante encargado del proceso y el medio de contacto, si fuese procedente.</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8" name=""/>
          <p:cNvSpPr/>
          <p:nvPr/>
        </p:nvSpPr>
        <p:spPr>
          <a:xfrm>
            <a:off x="457200" y="1600200"/>
            <a:ext cx="8229600" cy="46864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Recepción de ofertas y cierre.</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xisten plazos mínimos para la recepción de ofertas según el monto de la licitación (artículo 25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urante el periodo en que la licitación se encuentra abierta, se contempla un plazo para la formulación de consultas y aclaraciones a través del Sistema (Artículo 27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pueden establecer visitas a terreno.</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0" name=""/>
          <p:cNvSpPr/>
          <p:nvPr/>
        </p:nvSpPr>
        <p:spPr>
          <a:xfrm>
            <a:off x="457200" y="1600200"/>
            <a:ext cx="8229600" cy="5135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ertura de ofertas y evaluación:</a:t>
            </a:r>
            <a:endParaRPr b="0" lang="en-US" sz="22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apertura se efectúa a través del Sistema de Información (artículo 33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evaluación se debe efectuar ajustándose estrictamente a las bases administrativas.</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deben ser evaluadas aquellas ofertas que no cumplan los requisitos de admisibilidad establecidos en las bases (Artículo 9 de la Ley en relación al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miembros de la comisión de evaluación no deben tener conflictos de interés con los oferentes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 existir contacto entre los miembros de la comisión de evaluación y los oferentes, salvo que se trate de una solicitud de aclaraciones o rectificaciones a través del sistema (Artículos 39 y 40 del Reglamento).</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2" name=""/>
          <p:cNvSpPr/>
          <p:nvPr/>
        </p:nvSpPr>
        <p:spPr>
          <a:xfrm>
            <a:off x="324000" y="1268280"/>
            <a:ext cx="8229600" cy="52452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rPr>
              <a:t>Adjudicación y suscripción del contrato definitivo:</a:t>
            </a:r>
            <a:endParaRPr b="0" lang="en-US" sz="20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debe efectuarse mediante resolución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hacer referencia a los criterios de evaluación fijados en las bases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publicarse en el Sistema de Información junto al cuadro comparativo de las ofertas (Artículo 57 letra b)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proceder a la adjudicación, debe existir certificación de disponibilidad presupuestaria (Artículo 3º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 el adjudicatario no suscribe el contrato respectivo, se debe hacer efectiva la garantía de seriedad de la oferta.</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No se podrá adjudicar un contrato administrativo a un oferente inhabilitado para contratar con la el órgano licitante.</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 </a:t>
            </a:r>
            <a:r>
              <a:rPr b="0" lang="es-ES" sz="1800" spc="-1" strike="noStrike" u="sng">
                <a:solidFill>
                  <a:srgbClr val="ccccff"/>
                </a:solidFill>
                <a:uFillTx/>
                <a:latin typeface="Tahoma"/>
                <a:ea typeface="Arial Unicode MS"/>
                <a:hlinkClick r:id="rId1"/>
              </a:rPr>
              <a:t>Artículo 4 de la Ley</a:t>
            </a:r>
            <a:r>
              <a:rPr b="0" lang="es-ES" sz="1800" spc="-1" strike="noStrike">
                <a:solidFill>
                  <a:srgbClr val="ffffff"/>
                </a:solidFill>
                <a:latin typeface="Tahoma"/>
                <a:ea typeface="Arial Unicode MS"/>
              </a:rPr>
              <a:t>.</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fusión con la inscripción en el Registro de Proveedores del Estado y sus requisitos establecidos en el artículo 92 del Reglamento (Chileproveedores.cl).</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 – Licitación Privada.</a:t>
            </a:r>
            <a:endParaRPr b="0" lang="en-US" sz="3600" spc="-1" strike="noStrike">
              <a:solidFill>
                <a:srgbClr val="ffffff"/>
              </a:solidFill>
              <a:latin typeface="Arial"/>
            </a:endParaRPr>
          </a:p>
        </p:txBody>
      </p:sp>
      <p:sp>
        <p:nvSpPr>
          <p:cNvPr id="24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La licitación privada se rige supletoriamente por las normas de la licitación pública, con las siguientes diferencias:</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i bien el llamado es publicado en el sistema de Información, sólo pueden presentar ofertas las empresas invitada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invitar a lo menos a tres oferente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rocede en forma excepcional en la medida que concurra alguna de las circunstancias del artículo 8 de la ley.</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requiere resolución fundada.</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5" name=""/>
          <p:cNvSpPr/>
          <p:nvPr/>
        </p:nvSpPr>
        <p:spPr>
          <a:xfrm>
            <a:off x="41112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6" name=""/>
          <p:cNvSpPr/>
          <p:nvPr/>
        </p:nvSpPr>
        <p:spPr>
          <a:xfrm>
            <a:off x="539640" y="1092240"/>
            <a:ext cx="8229600" cy="4894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s un mecanismo excepcional y procede solo en la medida en que sea necesario por la naturaleza de la negociación según el artículo 9 inciso tercero de la LOCBGAE.</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Requiere resolución fundad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Por definición, consiste en contratar directamente a un particular sin licitación previ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n la ley 19.886, procede de acuerdo al artículo 8º.</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La resolución que lo autoriza debe publicarse en el Sistema  dentro de las 24 horas siguientes a su dictación.</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ludir la propuesta pública indebidamente implica implica una infracción al principio de `probidad de acuerdo al artículo 62 Nº 7 de la LOCBGAE, y puede acarrear la destitución (dictámenes 178 de 2007, 49.465 de 2006).</a:t>
            </a:r>
            <a:endParaRPr b="0" lang="en-US" sz="2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8" name=""/>
          <p:cNvSpPr/>
          <p:nvPr/>
        </p:nvSpPr>
        <p:spPr>
          <a:xfrm>
            <a:off x="457200" y="1600200"/>
            <a:ext cx="8229600" cy="484344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800" spc="-1" strike="noStrike">
                <a:solidFill>
                  <a:srgbClr val="ffffff"/>
                </a:solidFill>
                <a:latin typeface="Tahoma"/>
              </a:rPr>
              <a:t>Causales de contratación directa:</a:t>
            </a:r>
            <a:endParaRPr b="0" lang="en-US" sz="28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Falta de interesados.</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Realización o terminación de un contrato resuelto o terminado anticipadamente.</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Emergencia, urgencia o imprevis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oveedor únic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estación de servicios por personas jurídicas extranjeras fuera del territorio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Servicios confidenciales o cuya difusión puede afectar la seguridad o el interés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Naturaleza de la negociación en los casos fijados por el Reglamen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Monto de la adquisición inferior al límite que fije el Reglamento (actualmente 100 UTM).</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9" name=""/>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0" name=""/>
          <p:cNvSpPr/>
          <p:nvPr/>
        </p:nvSpPr>
        <p:spPr>
          <a:xfrm>
            <a:off x="500040" y="1046160"/>
            <a:ext cx="8362800" cy="60562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601"/>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rPr>
              <a:t>Las causales de contratación directa se pueden dividir en:</a:t>
            </a:r>
            <a:endParaRPr b="0" lang="en-US" sz="24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Emergencia, urgencia o imprevist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oveedor únic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Servicios confidenciales o cuya difusión puede afectar la seguridad o el interés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Naturaleza de la negociación</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im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Falta de interesados.</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Realización o terminación de un contrato resuelto o terminado anticipadamente. </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estación de servicios por personas jurídicas extranjeras fuera del territorio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Monto de la adquisición inferior al límite que fije el Reglamento.</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Dicha clasificación obedece a la necesidad de contar con tres cotizaciones previas a través del Sistema en el caso del trato directo impropio (artículo 8º inciso final en relación al artículo 18 de la Ley). Esta obligación ha convertido al trato directo, en estos casos, en una licitación simplificada.</a:t>
            </a: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2" name=""/>
          <p:cNvSpPr/>
          <p:nvPr/>
        </p:nvSpPr>
        <p:spPr>
          <a:xfrm>
            <a:off x="457200" y="1600200"/>
            <a:ext cx="8229600" cy="5289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1: Licitación pública sin interesados.</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recurrir a la licitación privada, y luego al trato direct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s bases en la licitación privada, y las cláusulas del contrato directo, han de ser iguales a las condiciones de la licitación pública. Sin son modificadas, ha de procederse a una nueva licitación.</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2: </a:t>
            </a:r>
            <a:r>
              <a:rPr b="0" lang="es-ES" sz="3200" spc="-1" strike="noStrike">
                <a:solidFill>
                  <a:srgbClr val="ffffff"/>
                </a:solidFill>
                <a:latin typeface="Tahoma"/>
              </a:rPr>
              <a:t>Realización o terminación de un contrato resuelto o terminado anticipadamente.</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l remanente no debe superar las 1.000 UTM.</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6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3200" spc="-1" strike="noStrike">
                <a:solidFill>
                  <a:srgbClr val="ffffff"/>
                </a:solidFill>
                <a:latin typeface="Tahoma"/>
              </a:rPr>
              <a:t>“</a:t>
            </a:r>
            <a:r>
              <a:rPr b="0" lang="es-ES" sz="3200" spc="-1" strike="noStrike">
                <a:solidFill>
                  <a:srgbClr val="ffffff"/>
                </a:solidFill>
                <a:latin typeface="Tahoma"/>
              </a:rPr>
              <a:t>Acto de declaración de voluntad común productor de efectos jurídicos entre un órgano estatal en ejercicio de la función administrativa y un particular u otro ente estatal”</a:t>
            </a:r>
            <a:endParaRPr b="0" lang="en-US" sz="3200" spc="-1" strike="noStrike">
              <a:solidFill>
                <a:srgbClr val="ffffff"/>
              </a:solidFill>
              <a:latin typeface="Arial"/>
            </a:endParaRPr>
          </a:p>
          <a:p>
            <a:pPr algn="r">
              <a:lnSpc>
                <a:spcPct val="100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rPr>
              <a:t>José Roberto Dromi  </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3: Urgencia, emergencia o imprevisto.</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situación debe ser calificada por el jefe superior de servicio mediante resolución fundada.</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ómo puede ser previa la resolución? Error en el reglamento.</a:t>
            </a:r>
            <a:endParaRPr b="0" lang="en-US" sz="20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Una situación mal calificada puede aparejar una multa a dicha autoridad de 10 a 50 UTM, compatible con las otras sanciones administrativas que procedan.</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xisten casos en que si bien existe la urgencia, también hay responsabilidad administrativa por falta de previsión.</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tamen N°52.018 de 2007.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4: Un solo proveedor de los bienes y servicios.</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n estos casos, no tiene sentido efectuar una licitación.</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a exclusividad puede ser absoluta o relativa:</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bsoluta: único en el país o zona, y no tiene competencia en el rubr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lativo: Si bien tiene competencia en el rubro, las características especiales de sus bienes y servicios excluyen la posibilidad de comparación con su competencia.</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5: Convenios de prestación de servicios a celebrar con personas jurídicas extranjeras que deban ejecutarse fuera del territorio nacional.</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estación de servicio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ersona jurídica extranjer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erritorio extranjero.</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6: </a:t>
            </a:r>
            <a:r>
              <a:rPr b="0" lang="es-CL" sz="2800" spc="-1" strike="noStrike">
                <a:solidFill>
                  <a:srgbClr val="ffffff"/>
                </a:solidFill>
                <a:latin typeface="Tahoma"/>
              </a:rPr>
              <a:t>Servicios confidenciales o cuya difusión puede afectar la seguridad o el interés nacional.</a:t>
            </a:r>
            <a:endParaRPr b="0" lang="en-US" sz="28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ebe existir calificación previa de confidencialidad mediante Decreto Supremo. (no confundir con la autorización del trato directo).</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situaciones que se oponen a la regla general de publicidad de los actos de la Administración.</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se aplica la obligación de informar en forma posterior en el Sistema.</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4"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7: Naturaleza de la negociación.</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un trato directo propio.</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os casos de naturaleza de la negociación se encuentran definidos en el artículo 10 del Reglamento, y son los siguientes:</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Prórroga de un contrato o servicios conexos, siempre que:</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No sea superior a 1.000 UTM.</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Se proceda a un nuevo proceso de licitación.</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Gastos de representación en conformidad a las instrucciones presupuestarias correspondientes.</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No requiere publicación posterior a través del Sistema.</a:t>
            </a:r>
            <a:endParaRPr b="0" lang="en-US" sz="2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6" name=""/>
          <p:cNvSpPr/>
          <p:nvPr/>
        </p:nvSpPr>
        <p:spPr>
          <a:xfrm>
            <a:off x="457200" y="1600200"/>
            <a:ext cx="8229600" cy="543708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a:p>
            <a:pPr>
              <a:lnSpc>
                <a:spcPct val="100000"/>
              </a:lnSpc>
              <a:spcBef>
                <a:spcPts val="799"/>
              </a:spcBef>
              <a:tabLst>
                <a:tab algn="l" pos="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8" name=""/>
          <p:cNvSpPr/>
          <p:nvPr/>
        </p:nvSpPr>
        <p:spPr>
          <a:xfrm>
            <a:off x="457200" y="1600200"/>
            <a:ext cx="8229600" cy="484812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0"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Reposición o complementación de equipamiento o servicios accesorios, que deben necesariamente ser compatibles con los modelos, sistemas o infraestructura previamente adquirida por la respectiva Entidad.</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Cuando el conocimiento público que generaría el proceso licitatorio previo a la contratación pudiera poner en serio riesgo el objeto y la eficacia de la contratación de que se trata.</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Adquisiciones de bienes muebles a oferentes extranjeros, para ser utilizados o consumidos fuera de Chile.</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800" spc="-1" strike="noStrike">
                <a:solidFill>
                  <a:srgbClr val="ffffff"/>
                </a:solidFill>
                <a:latin typeface="Tahoma"/>
              </a:rPr>
              <a:t>Cuando el monto de la adquisición sea inferior al límite que fije el reglamento.</a:t>
            </a:r>
            <a:endParaRPr b="0" lang="en-US" sz="28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l limite señalado por el artículo 10 Nº 8 del Reglamento es de 100 UTM.</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Administración no debe fragmentar sus contrataciones a fin de variar el sistema de contratación (artículo 7º inciso final de la Ley).</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práctica, se trata de una verdadera licitación simplificada, pues se establece un procedimiento concursal regulado en el artículo 51 del Reglamento.</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s el mecanismo más usado por la Administración por sus montos.</a:t>
            </a:r>
            <a:endParaRPr b="0" lang="en-US" sz="2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4" name=""/>
          <p:cNvSpPr/>
          <p:nvPr/>
        </p:nvSpPr>
        <p:spPr>
          <a:xfrm>
            <a:off x="457200" y="1600200"/>
            <a:ext cx="8228160" cy="4754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e trata de la emisión de ordenes de compra al amparo de un contrato de suministro de bienes y servicios previamente licitado por la Dirección de Compra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En el Sistema de Información existe un Catálogo Electrónico de Bienes y servicio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Antes de proceder a un proceso de contratación, los organismos deben consultar el catalogo referido.</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u gran ventaja es que no requiere resolución, lo que se traduce en menores costos administrativos y mayor rapidez.</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EXISTENC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doctrina tradicional, su existencia está dada por la existencia de un régimen jurídico de derecho público que lo diferencia del contrato de derecho priv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iferencia entre “contratos de la administración” y “contratos administrativos” propiamente t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s-ES" sz="2000" spc="-1" strike="noStrike">
                <a:solidFill>
                  <a:srgbClr val="ffffff"/>
                </a:solidFill>
                <a:latin typeface="Tahoma"/>
                <a:ea typeface="Arial Unicode MS"/>
              </a:rPr>
              <a:t>arrêt Blanco</a:t>
            </a:r>
            <a:r>
              <a:rPr b="0" lang="es-ES" sz="2000" spc="-1" strike="noStrike">
                <a:solidFill>
                  <a:srgbClr val="ffffff"/>
                </a:solidFill>
                <a:latin typeface="Tahoma"/>
                <a:ea typeface="Arial Unicode MS"/>
              </a:rPr>
              <a:t>, de 1873.</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El “servicio” como criterio diferenciador.</a:t>
            </a:r>
            <a:endParaRPr b="0" lang="en-US" sz="2000" spc="-1" strike="noStrike">
              <a:solidFill>
                <a:srgbClr val="ffffff"/>
              </a:solidFill>
              <a:latin typeface="Arial"/>
            </a:endParaRPr>
          </a:p>
          <a:p>
            <a:pPr marL="339840" indent="-339840">
              <a:lnSpc>
                <a:spcPct val="10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6" name=""/>
          <p:cNvSpPr/>
          <p:nvPr/>
        </p:nvSpPr>
        <p:spPr>
          <a:xfrm>
            <a:off x="457200" y="1600200"/>
            <a:ext cx="8228160" cy="541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Si un bien o servicio se encuentra en Convenio Marco, los organismos públicos solo pueden contratar fuera de él en la medida en que encuentren condiciones más ventajosa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dar aviso a a la Dirección de Compra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contratar según reglas generales (licitación pública, privada, o trato direct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s bases por las cuales se licitó el Convenio Marco, pueden establecer entre otras cosas facultades que permiten a la Dirección de Compras poner término o sancionar mediante el cobro de garantías a los contratistas que no cumplan las condiciones del Convenio.</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78" name=""/>
          <p:cNvSpPr/>
          <p:nvPr/>
        </p:nvSpPr>
        <p:spPr>
          <a:xfrm>
            <a:off x="428760" y="1214280"/>
            <a:ext cx="8229600" cy="5092920"/>
          </a:xfrm>
          <a:prstGeom prst="rect">
            <a:avLst/>
          </a:prstGeom>
          <a:noFill/>
          <a:ln w="0">
            <a:noFill/>
          </a:ln>
        </p:spPr>
        <p:style>
          <a:lnRef idx="0"/>
          <a:fillRef idx="0"/>
          <a:effectRef idx="0"/>
          <a:fontRef idx="minor"/>
        </p:style>
        <p:txBody>
          <a:bodyPr lIns="90000" rIns="90000" tIns="46800" bIns="46800" anchor="t">
            <a:noAutofit/>
          </a:bodyPr>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un tribunal especial y permanente.</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colegiado, con tres miembros.</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su asiento en Santiag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onoce la acción de impugnación en contra de actos ilegales o arbitrarios cometidos entre la aprobación de las bases y la adjudicación de una licitación.</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facultades para declarar ilegal o arbitrario un acto, y ordenas las medidas necesarias para el restablecimiento del derech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l funcionamiento interno del Tribunal se regula mediante auto acordado de la Corte Suprema.</a:t>
            </a:r>
            <a:endParaRPr b="0" lang="en-US" sz="2400" spc="-1" strike="noStrike">
              <a:solidFill>
                <a:srgbClr val="ffffff"/>
              </a:solidFill>
              <a:latin typeface="Arial"/>
            </a:endParaRPr>
          </a:p>
          <a:p>
            <a:pPr marL="339840" indent="-28440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0" name=""/>
          <p:cNvSpPr/>
          <p:nvPr/>
        </p:nvSpPr>
        <p:spPr>
          <a:xfrm>
            <a:off x="428760" y="1357200"/>
            <a:ext cx="8227800" cy="5110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 acción de impugn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El procedimiento está regulado en el Capitulo V de la Ley 19.886, y supletoriamente, por los libros I y II del Código de Procedimiento Civil.</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rocede sólo contra actos arbitrarios e ilegales cometidos entre la aprobación de las bases y la adjudicación, ambos inclusive.</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Legitimación activa: debe existir un interés actualmente comprometido.</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lazo: 10 días hábiles desde que se tomó conocimiento del acto agravante.</a:t>
            </a:r>
            <a:endParaRPr b="0" lang="en-US" sz="22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900" spc="-1" strike="noStrike">
                <a:solidFill>
                  <a:srgbClr val="ffffff"/>
                </a:solidFill>
                <a:latin typeface="Tahoma"/>
                <a:ea typeface="Arial Unicode MS"/>
              </a:rPr>
              <a:t>Según el artículo 6 del Reglamento, las notificaciones de los actos de una licitación se entienden efectuadas a través del Sistema una vez transcurridas 24 horas de su publicación en él.</a:t>
            </a:r>
            <a:endParaRPr b="0" lang="en-US" sz="19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1"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2" name=""/>
          <p:cNvSpPr/>
          <p:nvPr/>
        </p:nvSpPr>
        <p:spPr>
          <a:xfrm>
            <a:off x="457200" y="1600200"/>
            <a:ext cx="8228160" cy="4529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Una vez notificada la demanda, el organismo demandado tiene el plazo de 10 días hábiles para informar.</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Durante la tramitación del juicio, el Tribunal puede decretar la suspensión del procedimiento de contratación en el que recae la acción de impugnación.</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vacuado el Informe, o en su ausencia, el Tribunal recibe la causa a prueba si procede. A  partir de esta resolución, se pueden dictar las medidas del artículo 159 del CPC u otras encaminadas a probar los hechos controvertidos, las que deberán cumplirse dentro de 10 días hábi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l término probatorio durará 10 días hábiles. La lista de testigos se presenta dentro de los dos primeros días.</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4" name=""/>
          <p:cNvSpPr/>
          <p:nvPr/>
        </p:nvSpPr>
        <p:spPr>
          <a:xfrm>
            <a:off x="457200" y="1600200"/>
            <a:ext cx="8228160" cy="479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rPr>
              <a:t>En la sentencia definitiva, el Tribunal se pronunciará sobre la legalidad o arbitrariedad del acto u omisión impugnado y ordenará, en su caso, las medidas que sean necesarias para restablecer el imperio del derech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sentencia definitiva procede el Recurso de Reclamación del cual conoce solamente La Corte de Apelaciones de Santiago, el cual se verá en cuenta, salvo que alguna de las partes solicite alegato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600" spc="-1" strike="noStrike">
                <a:solidFill>
                  <a:srgbClr val="ffffff"/>
                </a:solidFill>
                <a:latin typeface="Tahoma"/>
                <a:ea typeface="Arial Unicode MS"/>
              </a:rPr>
              <a:t>Se rige supletoriamente por las disposiciones del  Recurso de Apelación.</a:t>
            </a:r>
            <a:endParaRPr b="0" lang="en-US" sz="1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La Corte puede dictar orden de no innovar hasta por 30 días “renovab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Resolución que falla el recurso de reclamación, no procede recurso alguno.</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
          <p:cNvSpPr/>
          <p:nvPr/>
        </p:nvSpPr>
        <p:spPr>
          <a:xfrm>
            <a:off x="457200" y="274680"/>
            <a:ext cx="843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RACTERÍSTICAS CLÁSICAS DEL CONTRATO ADMINISTRATIVO:</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égimen jurídico aplicable.</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Facultades exorbitantes.</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Modific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Interpret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oner término al contrato.</a:t>
            </a:r>
            <a:endParaRPr b="0" lang="en-US" sz="24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ituación en el derecho comparado:</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aceptan la noción de contrato administrativo: Francia, Bélgica y España, Argentina y Brasil.</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rechazan la noción de contrato administrativo: Alemania, Italia e Inglaterra.</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DEL CONTRATO ADMINISTRATIVO EN GENERAL</a:t>
            </a:r>
            <a:endParaRPr b="0" lang="en-US" sz="2800" spc="-1" strike="noStrike">
              <a:solidFill>
                <a:srgbClr val="ffffff"/>
              </a:solidFill>
              <a:latin typeface="Arial"/>
            </a:endParaRPr>
          </a:p>
        </p:txBody>
      </p:sp>
      <p:sp>
        <p:nvSpPr>
          <p:cNvPr id="176" name=""/>
          <p:cNvSpPr/>
          <p:nvPr/>
        </p:nvSpPr>
        <p:spPr>
          <a:xfrm>
            <a:off x="301680" y="1197000"/>
            <a:ext cx="8540640" cy="4902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uál es la consecuencia práctica de aceptar la noción de contrato administrativo?</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Que se rige por </a:t>
            </a:r>
            <a:r>
              <a:rPr b="0" lang="es-ES" sz="2000" spc="-1" strike="noStrike" u="sng">
                <a:solidFill>
                  <a:srgbClr val="ffffff"/>
                </a:solidFill>
                <a:uFillTx/>
                <a:latin typeface="Tahoma"/>
                <a:ea typeface="Arial Unicode MS"/>
              </a:rPr>
              <a:t>principios y normas</a:t>
            </a:r>
            <a:r>
              <a:rPr b="0" lang="es-ES" sz="2000" spc="-1" strike="noStrike">
                <a:solidFill>
                  <a:srgbClr val="ffffff"/>
                </a:solidFill>
                <a:latin typeface="Tahoma"/>
                <a:ea typeface="Arial Unicode MS"/>
              </a:rPr>
              <a:t> distintos a los de un contrato de derecho privado.</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Se rompe el principio de igualdad entre las partes: Principio de preeminencia de la Administración.</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ho interés se justifica en que en el contrato administrativo, el Estado contrata en ejercicio de sus facultades administrativas: “servicio público”, a diferencia de los “contratos de la Administra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En Chile esto podría verse reflejado en la diferencia entre la Ley 18.803 y la Ley 19.886:</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8.803: “apoyo a sus funciones”</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9.886: “bienes muebles y servicios “para el desarrollo de sus funciones” (estos sólo serían contratos de la administración).</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n Chile todos los contratos del Estado son Administrativos, pero la jurisprudencia no está conteste en las facultades exhorbitantes </a:t>
            </a:r>
            <a:r>
              <a:rPr b="0" i="1" lang="es-ES" sz="1800" spc="-1" strike="noStrike">
                <a:solidFill>
                  <a:srgbClr val="ffffff"/>
                </a:solidFill>
                <a:latin typeface="Tahoma"/>
                <a:ea typeface="Arial Unicode MS"/>
              </a:rPr>
              <a:t>per se.</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15:43Z</dcterms:created>
  <dc:creator>Familia</dc:creator>
  <dc:description/>
  <dc:language>en-US</dc:language>
  <cp:lastModifiedBy>Angel Jara</cp:lastModifiedBy>
  <dcterms:modified xsi:type="dcterms:W3CDTF">2009-07-31T19:03:08Z</dcterms:modified>
  <cp:revision>40</cp:revision>
  <dc:subject/>
  <dc:title>CONTRATACIÓN ADMINISTRATIVA</dc:title>
</cp:coreProperties>
</file>