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3BD-EFE0-47F0-A70F-13418F25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A25-AFC2-4F1B-99A4-8624F424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099-BE94-4A3C-96AA-B5CCFEE2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492-1FD4-4E6A-B95A-E3ABE3EA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7EB3-6382-4D0E-B683-23240956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11EB-9AE9-4F28-9DC5-196EF62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86E9-7934-4C75-86F6-F219E1A0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67EF-C154-4563-A25E-6EE427A6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661A-5A78-44C3-A01A-AAF893DD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400D-E0C3-4A55-94DA-886399FB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7F7D-BAD0-41BE-98D7-A9D75F2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29C-1CF6-47B0-B40C-E6AE48F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77D4-AEE8-4BC7-9816-4DEDB105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5920-7530-4B7D-A431-66DDC40B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8148-9CB6-4E1F-B870-C0C8B24F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F3FD-A5CE-4CD9-B06E-C60F5F70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C98F-53C8-443D-87E8-04AC6436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AFF2-D8C7-48E9-BCCE-DACCAD61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F7C8-9234-4FBE-899B-1FF49BCD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15DD-ECA8-47D4-859F-DB10D823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88DD-A322-49C1-A23C-CFF049BD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C7EF5-85E2-4CCB-9240-5688D9D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E6A-B04B-4348-BDD5-E1EF6412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83CD-40DA-42C7-917E-299CF66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C844-3968-48F9-9E9B-1015FCD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A839-413E-4957-908E-9425D7D2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F1D1-7856-4ABD-8448-639EF051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B203-425B-4083-A6F1-CC2AB421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6BAB-A245-4D5B-8118-844E2D06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1966-25EE-4573-AF65-6799CC56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4466D-CA75-4C56-9C52-7B689B95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5986B-755E-40BF-B658-C34266F4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DB4A-C2BF-4826-ADF8-CC5ADAD8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E81-AF14-4559-8E2B-6FB198C5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36C11-1F25-4F4C-809D-91805EEF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BFFD7-68B9-4AEA-A909-0D13B209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61ED-7A6C-4E37-821B-B1366B68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3071-5D79-4625-832A-BFCE6B64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16B9-0207-479F-8E75-CA1B1FEC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D6C9F-C25F-46FE-AB27-32C52EF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3A87-FACD-4855-8B71-57BE226E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8CEB-FF4E-4AF1-B227-ECA18F26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72442-1607-46C2-827A-5CC53640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C8D-3823-4920-A828-8E7A8B59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2A3-7BC8-4E96-8664-A2BBD078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718-FD8E-4197-A3C3-4487009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287-4720-4E46-9C1D-E047020E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18C-31EE-4C55-B94A-04C4E4DA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0F56-8ABD-4C7F-8F51-2646ED6CB20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3F08-0550-4783-B58F-CD463A977DD9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E42F-384C-42B7-934B-A8D21E99435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C8D0-DAFD-4447-BF60-721302C85E8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10</a:t>
            </a:r>
            <a:br>
              <a:rPr sz="4000"/>
            </a:br>
            <a:br>
              <a:rPr sz="1800"/>
            </a:br>
            <a:r>
              <a:rPr b="0" lang="es-ES" sz="18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derecho a la educación.</a:t>
            </a: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2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stitución Política de 1925 (Art. 10 Nº 7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acto de Garantías Constitucionales 197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claración Universal de Derechos Human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acto de Derechos Económicos, sociales y cultura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sobre los Derechos del Niñ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Naturaleza Jurídica del derech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 derecho individu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Libertad de enseñanza y derecho de los padres de escoger el establecimiento de enseñanza para sus hi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Límites de la libertad de enseña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Una Ley Orgánica Constitucional debe regular la libert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enseña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141300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ibertad de Enseñanz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Libertad de abrir, organizar y mantener establecimientos educacionales.”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(inciso 1º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TC definido lo que se debe entenderse por “abrir”, “organizar” 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ntener”  (Rol Nº 410,4.06.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lcances de esta libertad: amplia, cabe dentro del principio de “autonomía”, sólo hay 4 restricciones específicas (TC roles 413 y 423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Derecho de los padres a elegir el establecimiento educacional de sus hijos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se reafirma el rol de la famil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Límites del derech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) La moral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) Las buenas costumbres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) El orden público y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) La seguridad nacional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demás, existe una limitación especial para la enseñanza oficialmente reconocida: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“no podrá orientarse a propagar tendencia político partidista alguna” (inciso 3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92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ey Orgánica Constitucional de Enseñanz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a Ley Orgánica Constitucional (LOC) deberá regula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quisitos mínimos de aprobación para cada nivel de la enseñanz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básica y med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Normas objetivas (no discriminatorias) para velar por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umplimiento de estos program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quisitos de reconocimiento oficial de  establecimiento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ducacionales todo ni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a LOC Nº 18.962 de 199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cumplió este mandato constitucional (LOC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oy está pendiente de aprobación (en control preventivo por el T.C.) un proyecto de nueva LOC de educación, bajo la denominación: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ey General de Educación (LG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892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lgunas discusiones  respecto de este derech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agración constitucional de una educación pública de cali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Término de la selección de alumnos en la enseñanza básica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(Artículo 11 LG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s requisitos para el reconocimiento oficial de establecimientos educacionales de todos los niveles y en especial, el fin de lucro en las instituciones de educación, definido por el objeto social único que debe poseer la persona jurídica sostenedora de un establecimiento educacional.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(Artículo 44 a) LG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8000" y="1197000"/>
            <a:ext cx="8928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6240" indent="-261720">
              <a:spcBef>
                <a:spcPts val="7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Constitución de 1925 originalmente consagró este derecho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(Artículo 10 Nº 7: “La educación pública es una atención preferente del Estado. La educación primaria es obligatoria. Habrá una superintendencia de educación pública, a cuyo cargo estará la inspección de la enseñanaza nacional y su dirección, bajo la autoridad del Gobierno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forma Constitucional de 1971 amplió y extendió este derecho bajo la denominación “libertad de enseñanza” (influencia del derecho comparado, Italia, Españ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ctos internacional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Universal de Derechos Humanos” 1948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23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de la O.E.A. 1948.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. XI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de los Derechos del Niño.1959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(Principio 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cto internacional de derechos económicos, sociales y culturales “1966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13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45080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este derec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- Derecho a la educación y su con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ducación y enseñanza son conceptos difere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- Deberes d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- Derechos y deberes de la persona y de la com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- Recurso de protección y fal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34136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recho a la Educ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Concepto  de Edu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itulares del derecho: a) toda persona natur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la familia (padres “dº preferen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Derecho de carácter social. Razon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u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bjetiv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s el desarrollo de la persona en todas las etapas de su vida en pos de la convivencia en com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12536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Deberes d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) Proteger el derecho preferente de los pad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) Promover la educación parvular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) Financiar un sistema gratuito de educación básica y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media de carácter  obligatorio: es una manifestación del principio de igualdad  y expresión de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rincipio de subsidiariedad. (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cordancia con el numeral 11 de este mismo artícul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) Fomentar el desarrollo de la educación en todos sus niveles (Ejs. Creación de Fondecyt y Fondar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267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rechos y deberes de la persona y la comunidad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rech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preferente y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b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e los padres de educar a los hij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amilia núcleo fundamental de l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ed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) Derecho a la educación básica y medi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atuitas, proporcionadas por el Estado. (El Estado debe garantizar el acceso a ellas de toda la població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)  Deber de la comunidad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ribuir al desarrollo y perfeccionamiento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 la educación, sin perjuicio de los deberes del Estado. (Manifestación del principio de subsidiariedad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es procedente la acción de protección. Sin embargo, en virtud de la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convertibilidad de los derecho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se acostumbra a recurrir argumentando en base a la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igualdad ante la le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y el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recho de propieda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obre el derecho subjetivo que emana del contrato educacion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Núñez y Molina contra Liceo A-1: Por la expulsión d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s alumn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Torres Méndez contra Universidad Regional El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bertador: Por aplicación de medida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ciplinari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de relevanci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ecurso de protección alumna universitaria por no habérsele asignado crédito universitario. (Corte de Apelaciones de Santiago, 200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ecurso de protección por cancelación de matrícula (Corte Suprema, 2004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11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libertad de enseñanza.</a:t>
            </a:r>
            <a:br>
              <a:rPr sz="4000"/>
            </a:br>
            <a:br>
              <a:rPr sz="32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  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  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324000" y="404640"/>
            <a:ext cx="2305080" cy="935280"/>
            <a:chOff x="324000" y="404640"/>
            <a:chExt cx="2305080" cy="935280"/>
          </a:xfrm>
        </p:grpSpPr>
        <p:pic>
          <p:nvPicPr>
            <p:cNvPr id="213" name="Picture 5" descr="Facultad"/>
            <p:cNvPicPr/>
            <p:nvPr/>
          </p:nvPicPr>
          <p:blipFill>
            <a:blip r:embed="rId2"/>
            <a:stretch/>
          </p:blipFill>
          <p:spPr>
            <a:xfrm>
              <a:off x="324000" y="404640"/>
              <a:ext cx="23050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6"/>
            <p:cNvSpPr/>
            <p:nvPr/>
          </p:nvSpPr>
          <p:spPr>
            <a:xfrm>
              <a:off x="324000" y="1106280"/>
              <a:ext cx="2305080" cy="23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 Narrow"/>
                </a:rPr>
                <a:t>DEPARTAMENTO DE DERECHO PÚBL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01:42:04Z</dcterms:created>
  <dc:creator>usuario</dc:creator>
  <dc:description/>
  <dc:language>en-US</dc:language>
  <cp:lastModifiedBy>Ana Maria</cp:lastModifiedBy>
  <dcterms:modified xsi:type="dcterms:W3CDTF">2009-06-30T23:07:29Z</dcterms:modified>
  <cp:revision>82</cp:revision>
  <dc:subject/>
  <dc:title>DERECHO A LA EDUCACION (Art. 19 No 10)</dc:title>
</cp:coreProperties>
</file>