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0557F-E5A6-4AC0-8F55-DAC55450C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BC29D-AFFA-4B71-AD93-C8FD96186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6EF9F-3F0A-4028-B3DF-9A2D98311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F4938-AC13-496D-A28D-6042F2D00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166B6-6E4A-4FE7-822D-D0B119054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D5656-EFEC-41E1-9126-6E8FC704D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901B9-3C77-414A-9C3E-CF3D38209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29587-80D7-4512-A608-18CF1741A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ECFA3-1077-45ED-8823-FD6154549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29C12-5376-49A7-A421-EDBC0F3AF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98534-05E6-451A-9F43-2F0747F99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83AFC-C717-4A41-ADF6-0F780AB45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D1801-B745-43FF-A1FF-CBF7D9E22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5C217-30D6-46FE-B457-85CA3485F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A9409-D0B4-461F-88E2-AEF3945DA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90178-31E5-472F-88C8-BCF086038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6C66D-4B26-4E32-A60D-4D4892079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027598-BC6B-424A-B85B-139012074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68C3FB-DC72-4FD0-8165-5143AE19E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764F20-3CB3-40EA-AE22-5D828160F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E56652-2154-4B15-9B97-BB5920A30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83AAF3-BDA5-4715-B3C3-A0A797EAD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74FA5-0804-4A5F-8B7A-4C3526318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16F79D-8B97-4A52-AE34-F0C0215F9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31F69B-62BB-4100-98FE-6F5EDE8D7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F3A24F-89ED-43AE-A8B6-3009D64AD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1A60AC-1D4F-4049-9ED4-D592FE082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2148B2-6D0B-4963-98D0-418EAAE17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EFD611-E856-47B1-A4A1-E05342A30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CF8083-E0DF-41D8-A493-DDDE972EB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7B7716-D8A9-4826-97BC-9522F68A2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F298D5-588B-426F-9FEB-4C6DD2A46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AE85D8-3955-4089-8228-407ACC854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6D49D-9C62-4390-92BE-36479F502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42D99E-490E-4CDF-8E99-D067AAA01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9535E4-6DC5-4368-84CB-5B46A6E1E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3A9F03-AE88-4462-9580-6D68E098F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A1536A-8479-4D8C-88FC-3A1CEC2C0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402FDE-850D-48F9-82B3-79F1A4CB3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22C92B-F86B-4FB7-842C-1F9BD0D66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EC0A07-0A32-4A7D-BD1A-5F4B6D87A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6DC322-23B3-4AFE-AA0C-063E12C36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063BD4-2EA0-433B-A3C6-024E5746F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65041-1108-4A51-8F1B-1C35EED3E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9F54D-364B-49B7-B7E6-CE5B99CE5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F3FA7-35EC-41D7-AD4C-852266473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5A13F-9D18-4B51-A55C-831A4FE19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31DE2-2558-41D7-9C03-DE36C49F5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FC365-6AAC-49F2-87CC-34562BDD16AE}" type="slidenum">
              <a:rPr b="0" lang="es-E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D9EAF-A3FD-48B1-8C94-22219D8F1405}" type="slidenum">
              <a:rPr b="0" lang="es-ES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0150F-DF18-48B2-8A7A-779C6D1178D6}" type="slidenum">
              <a:rPr b="0" lang="es-ES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13 Recortar y redondear rectángulo de esquina sencilla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14 Triángulo rectángulo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15 Forma libre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16 Forma libre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03856-5871-4390-B9F2-1820327194D9}" type="slidenum">
              <a:rPr b="0" lang="es-E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4866840"/>
            <a:ext cx="8229600" cy="18018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 u="sng">
                <a:solidFill>
                  <a:srgbClr val="04617b"/>
                </a:solidFill>
                <a:uFillTx/>
                <a:latin typeface="Calibri"/>
              </a:rPr>
              <a:t>19 Nº 4</a:t>
            </a:r>
            <a:br>
              <a:rPr sz="4000"/>
            </a:br>
            <a:br>
              <a:rPr sz="1800"/>
            </a:br>
            <a:r>
              <a:rPr b="0" lang="es-ES" sz="4000" spc="-1" strike="noStrike">
                <a:solidFill>
                  <a:srgbClr val="04617b"/>
                </a:solidFill>
                <a:latin typeface="Calibri"/>
              </a:rPr>
              <a:t>El respeto y protección a la vida privada y a la honra de la persona y su familia.</a:t>
            </a:r>
            <a:br>
              <a:rPr sz="4000"/>
            </a:br>
            <a:br>
              <a:rPr sz="4000"/>
            </a:br>
            <a:r>
              <a:rPr b="0" lang="es-ES" sz="2000" spc="-1" strike="noStrike">
                <a:solidFill>
                  <a:srgbClr val="04617b"/>
                </a:solidFill>
                <a:latin typeface="Calibri"/>
              </a:rPr>
              <a:t>Profesora: Ana María García B.</a:t>
            </a:r>
            <a:br>
              <a:rPr sz="2000"/>
            </a:br>
            <a:r>
              <a:rPr b="0" lang="es-ES" sz="2000" spc="-1" strike="noStrike">
                <a:solidFill>
                  <a:srgbClr val="04617b"/>
                </a:solidFill>
                <a:latin typeface="Calibri"/>
              </a:rPr>
              <a:t>Derecho Constitucional II</a:t>
            </a:r>
            <a:br>
              <a:rPr sz="2000"/>
            </a:br>
            <a:r>
              <a:rPr b="0" lang="es-ES" sz="2000" spc="-1" strike="noStrike">
                <a:solidFill>
                  <a:srgbClr val="04617b"/>
                </a:solidFill>
                <a:latin typeface="Calibri"/>
              </a:rPr>
              <a:t>Primer Semestre 2009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96" name="Picture 6" descr="logo_uchile"/>
          <p:cNvPicPr/>
          <p:nvPr/>
        </p:nvPicPr>
        <p:blipFill>
          <a:blip r:embed="rId1"/>
          <a:stretch/>
        </p:blipFill>
        <p:spPr>
          <a:xfrm>
            <a:off x="179280" y="260280"/>
            <a:ext cx="104472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s-ES" sz="4000" spc="-1" strike="noStrike" u="sng">
                <a:solidFill>
                  <a:srgbClr val="04617b"/>
                </a:solidFill>
                <a:uFillTx/>
                <a:latin typeface="Calibri"/>
              </a:rPr>
              <a:t>19 Nº 5</a:t>
            </a:r>
            <a:br>
              <a:rPr sz="4000"/>
            </a:br>
            <a:br>
              <a:rPr sz="1800"/>
            </a:br>
            <a:r>
              <a:rPr b="0" lang="es-ES" sz="4000" spc="-1" strike="noStrike">
                <a:solidFill>
                  <a:srgbClr val="04617b"/>
                </a:solidFill>
                <a:latin typeface="Calibri"/>
              </a:rPr>
              <a:t>La inviolabilidad del hogar y de toda forma de comunicación privada.</a:t>
            </a:r>
            <a:br>
              <a:rPr sz="4000"/>
            </a:br>
            <a:br>
              <a:rPr sz="4000"/>
            </a:br>
            <a:r>
              <a:rPr b="0" lang="es-ES" sz="2000" spc="-1" strike="noStrike">
                <a:solidFill>
                  <a:srgbClr val="04617b"/>
                </a:solidFill>
                <a:latin typeface="Calibri"/>
              </a:rPr>
              <a:t>Profesora: Ana María García B.</a:t>
            </a:r>
            <a:br>
              <a:rPr sz="2000"/>
            </a:br>
            <a:r>
              <a:rPr b="0" lang="es-ES" sz="2000" spc="-1" strike="noStrike">
                <a:solidFill>
                  <a:srgbClr val="04617b"/>
                </a:solidFill>
                <a:latin typeface="Calibri"/>
              </a:rPr>
              <a:t>Derecho Constitucional II</a:t>
            </a:r>
            <a:br>
              <a:rPr sz="2000"/>
            </a:br>
            <a:r>
              <a:rPr b="0" lang="es-ES" sz="2000" spc="-1" strike="noStrike">
                <a:solidFill>
                  <a:srgbClr val="04617b"/>
                </a:solidFill>
                <a:latin typeface="Calibri"/>
              </a:rPr>
              <a:t>Primer Semestre 2009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6" name="Picture 4" descr="logo_uchile"/>
          <p:cNvPicPr/>
          <p:nvPr/>
        </p:nvPicPr>
        <p:blipFill>
          <a:blip r:embed="rId1"/>
          <a:stretch/>
        </p:blipFill>
        <p:spPr>
          <a:xfrm>
            <a:off x="250920" y="333360"/>
            <a:ext cx="112860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90792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4617b"/>
                </a:solidFill>
                <a:latin typeface="Calibri"/>
              </a:rPr>
              <a:t>INVIOLABILIDAD DEL HOGAR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6840" y="1672920"/>
            <a:ext cx="814716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nstantia"/>
              </a:rPr>
              <a:t>A.- 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Constantia"/>
              </a:rPr>
              <a:t>Antecedent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 algn="just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Constitución francesa de 1791:</a:t>
            </a:r>
            <a:r>
              <a:rPr b="0" i="1" lang="es-ES" sz="2400" spc="-1" strike="noStrike">
                <a:solidFill>
                  <a:srgbClr val="000000"/>
                </a:solidFill>
                <a:latin typeface="Constantia"/>
              </a:rPr>
              <a:t>“La protección de la casa familiar”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 algn="just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CPR 1833 </a:t>
            </a:r>
            <a:r>
              <a:rPr b="0" i="1" lang="es-ES" sz="2400" spc="-1" strike="noStrike">
                <a:solidFill>
                  <a:srgbClr val="000000"/>
                </a:solidFill>
                <a:latin typeface="Constantia"/>
              </a:rPr>
              <a:t>“La correspondencia epistolar es inviolable. No podrá abrirse ni interceptarse, ni rejistrarse los papeles o efectos, sino en los casos espresamente señalados por la lei.” (Artículo 147. No era derecho fundamental)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 algn="just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CPR 1925: </a:t>
            </a:r>
            <a:r>
              <a:rPr b="0" i="1" lang="es-ES" sz="2400" spc="-1" strike="noStrike">
                <a:solidFill>
                  <a:srgbClr val="000000"/>
                </a:solidFill>
                <a:latin typeface="Constantia"/>
              </a:rPr>
              <a:t>Nº 12 La inviolabilidad del hogar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 algn="just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i="1" lang="es-ES" sz="2200" spc="-1" strike="noStrike">
                <a:solidFill>
                  <a:srgbClr val="000000"/>
                </a:solidFill>
                <a:latin typeface="Constantia"/>
              </a:rPr>
              <a:t>La casa de toda persona que habite el territorio chileno solo puede ser allanada por un motivo especial determinado por la ley, y en virtud de orden de autoridad competente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 algn="just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i="1" lang="es-ES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i="1" lang="es-ES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i="1" lang="es-ES" sz="2200" spc="-1" strike="noStrike">
                <a:solidFill>
                  <a:srgbClr val="000000"/>
                </a:solidFill>
                <a:latin typeface="Constantia"/>
              </a:rPr>
              <a:t>Nº 13 La inviolabilidad de la correspondencia  epistolar y telegráfica. No podrán abrirse, ni interceptarse, ni registrarse los papeles o efectos públicos, sino en los casos expresamente señalados por la ley;”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s-ES" sz="3600" spc="-1" strike="noStrike">
                <a:solidFill>
                  <a:srgbClr val="04617b"/>
                </a:solidFill>
                <a:latin typeface="Calibri"/>
              </a:rPr>
              <a:t>INVIOLABILIDAD DEL HOGAR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B .- </a:t>
            </a:r>
            <a:r>
              <a:rPr b="1" lang="es-ES" sz="2600" spc="-1" strike="noStrike" u="sng">
                <a:solidFill>
                  <a:srgbClr val="000000"/>
                </a:solidFill>
                <a:uFillTx/>
                <a:latin typeface="Constantia"/>
              </a:rPr>
              <a:t>Contenido del derech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1. Inviolabilidad del Hoga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2. Inviolabilidad de las comunicaciones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3. Allanamiento e interceptación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s-ES" sz="3600" spc="-1" strike="noStrike">
                <a:solidFill>
                  <a:srgbClr val="04617b"/>
                </a:solidFill>
                <a:latin typeface="Calibri"/>
              </a:rPr>
              <a:t>INVIOLABILIDAD DEL HOGAR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250920" y="1600200"/>
            <a:ext cx="8642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B .- </a:t>
            </a:r>
            <a:r>
              <a:rPr b="1" lang="es-ES" sz="2600" spc="-1" strike="noStrike" u="sng">
                <a:solidFill>
                  <a:srgbClr val="000000"/>
                </a:solidFill>
                <a:uFillTx/>
                <a:latin typeface="Constantia"/>
              </a:rPr>
              <a:t>Contenido del derecho (continuación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1.- </a:t>
            </a:r>
            <a:r>
              <a:rPr b="1" lang="es-ES" sz="2600" spc="-1" strike="noStrike" u="sng">
                <a:solidFill>
                  <a:srgbClr val="000000"/>
                </a:solidFill>
                <a:uFillTx/>
                <a:latin typeface="Constantia"/>
              </a:rPr>
              <a:t>Inviolabilidad del hoga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a) Concepto de “hogar”.  Amplio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              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Diferencias con “domicilio”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* El domicilio en el Código Civil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b) Fundamento: Protección de la “intimidad”. 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Relación con 19 nº 4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907920"/>
            <a:ext cx="822960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4617b"/>
                </a:solidFill>
                <a:latin typeface="Calibri"/>
              </a:rPr>
              <a:t>INVIOLABILIDAD DEL HOGAR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250920" y="1600200"/>
            <a:ext cx="8353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B .- </a:t>
            </a:r>
            <a:r>
              <a:rPr b="1" lang="es-ES" sz="2600" spc="-1" strike="noStrike" u="sng">
                <a:solidFill>
                  <a:srgbClr val="000000"/>
                </a:solidFill>
                <a:uFillTx/>
                <a:latin typeface="Constantia"/>
              </a:rPr>
              <a:t>Contenido del derecho (continuación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2.- </a:t>
            </a:r>
            <a:r>
              <a:rPr b="1" lang="es-ES" sz="2600" spc="-1" strike="noStrike" u="sng">
                <a:solidFill>
                  <a:srgbClr val="000000"/>
                </a:solidFill>
                <a:uFillTx/>
                <a:latin typeface="Constantia"/>
              </a:rPr>
              <a:t>Inviolabilidad de comunicaciones privada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Todo tipo de medio de comunicación privada. 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jemplo, conversación telefónica. No limitada 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como 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n 1833 y 1925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- Amplitud de la expresión “documento”: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- Este derecho frente a la tecnología hoy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- Ley  No 19.423  de 1995, Inviolabilidad de las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              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Comunicaciones (modificó  Código Penal) 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907560"/>
            <a:ext cx="8229600" cy="7225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4617b"/>
                </a:solidFill>
                <a:latin typeface="Calibri"/>
              </a:rPr>
              <a:t>INVIOLABILIDAD DEL HOGAR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B .- </a:t>
            </a:r>
            <a:r>
              <a:rPr b="1" lang="es-ES" sz="2600" spc="-1" strike="noStrike" u="sng">
                <a:solidFill>
                  <a:srgbClr val="000000"/>
                </a:solidFill>
                <a:uFillTx/>
                <a:latin typeface="Constantia"/>
              </a:rPr>
              <a:t>Contenido del derecho (continuación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3.- </a:t>
            </a:r>
            <a:r>
              <a:rPr b="1" lang="es-ES" sz="2600" spc="-1" strike="noStrike" u="sng">
                <a:solidFill>
                  <a:srgbClr val="000000"/>
                </a:solidFill>
                <a:uFillTx/>
                <a:latin typeface="Constantia"/>
              </a:rPr>
              <a:t>Allanamiento e interceptación de comunicacion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“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Casos y formas determinadas por la ley”. Legalidad 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de la persona que da la orden, quien la cumple y su 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oportunidad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Código Procesal Penal: Artículos 205 a 209; y 222 a 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224: Diligencias de investigación; Autorización 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previa del Juez de Garantía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76500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 u="sng">
                <a:solidFill>
                  <a:srgbClr val="04617b"/>
                </a:solidFill>
                <a:uFillTx/>
                <a:latin typeface="Calibri"/>
              </a:rPr>
              <a:t>Recurso de Protección y Fallos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394920" y="1600200"/>
            <a:ext cx="8209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n virtud del artículo 20 de la Carta Fundamental, procede el recurso de protección para garantizar el derecho a la inviolabilidad del hogar y toda forma de comunicación privada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 u="sng">
                <a:solidFill>
                  <a:srgbClr val="000000"/>
                </a:solidFill>
                <a:uFillTx/>
                <a:latin typeface="Constantia"/>
              </a:rPr>
              <a:t>Sentencias relevantes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- Funcionarios del Ministerio de Obras 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Públicas con Chevesic. Sobre la revisión de correos electrónicos como medida de investigación en el proceso MOP – GAT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98064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 u="sng">
                <a:solidFill>
                  <a:srgbClr val="04617b"/>
                </a:solidFill>
                <a:uFillTx/>
                <a:latin typeface="Calibri"/>
              </a:rPr>
              <a:t>19 Nº 6</a:t>
            </a:r>
            <a:br>
              <a:rPr sz="4400"/>
            </a:br>
            <a:br>
              <a:rPr sz="2000"/>
            </a:br>
            <a:r>
              <a:rPr b="0" lang="es-ES" sz="4400" spc="-1" strike="noStrike">
                <a:solidFill>
                  <a:srgbClr val="04617b"/>
                </a:solidFill>
                <a:latin typeface="Calibri"/>
              </a:rPr>
              <a:t>La libertad de conciencia, la manifestación de todas las creencias y el ejercicio libre de todos los cultos</a:t>
            </a:r>
            <a:br>
              <a:rPr sz="4400"/>
            </a:br>
            <a:br>
              <a:rPr sz="4400"/>
            </a:br>
            <a:r>
              <a:rPr b="0" lang="es-ES" sz="2400" spc="-1" strike="noStrike">
                <a:solidFill>
                  <a:srgbClr val="04617b"/>
                </a:solidFill>
                <a:latin typeface="Calibri"/>
              </a:rPr>
              <a:t>Profesora: Ana María García B.</a:t>
            </a:r>
            <a:br>
              <a:rPr sz="2400"/>
            </a:br>
            <a:r>
              <a:rPr b="0" lang="es-ES" sz="2400" spc="-1" strike="noStrike">
                <a:solidFill>
                  <a:srgbClr val="04617b"/>
                </a:solidFill>
                <a:latin typeface="Calibri"/>
              </a:rPr>
              <a:t>Derecho Constitucional II</a:t>
            </a:r>
            <a:br>
              <a:rPr sz="2400"/>
            </a:br>
            <a:r>
              <a:rPr b="0" lang="es-ES" sz="2400" spc="-1" strike="noStrike">
                <a:solidFill>
                  <a:srgbClr val="04617b"/>
                </a:solidFill>
                <a:latin typeface="Calibri"/>
              </a:rPr>
              <a:t>Primer Semestre 2009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30" name="Picture 4" descr="logo_uchile"/>
          <p:cNvPicPr/>
          <p:nvPr/>
        </p:nvPicPr>
        <p:blipFill>
          <a:blip r:embed="rId1"/>
          <a:stretch/>
        </p:blipFill>
        <p:spPr>
          <a:xfrm>
            <a:off x="179280" y="189000"/>
            <a:ext cx="96048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980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4617b"/>
                </a:solidFill>
                <a:latin typeface="Calibri"/>
              </a:rPr>
              <a:t>LIBERTAD DE CONCIENCIA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2760" indent="-5727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A.- </a:t>
            </a:r>
            <a:r>
              <a:rPr b="1" lang="es-ES" sz="2600" spc="-1" strike="noStrike" u="sng">
                <a:solidFill>
                  <a:srgbClr val="000000"/>
                </a:solidFill>
                <a:uFillTx/>
                <a:latin typeface="Constantia"/>
              </a:rPr>
              <a:t>Antecedentes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98400" indent="-268560" algn="just">
              <a:spcBef>
                <a:spcPts val="601"/>
              </a:spcBef>
              <a:buClr>
                <a:srgbClr val="000000"/>
              </a:buClr>
              <a:buSzPct val="85000"/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Constantia"/>
              </a:rPr>
              <a:t>Constitución de 1833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i="1" lang="es-ES" sz="2400" spc="-1" strike="noStrike">
                <a:solidFill>
                  <a:srgbClr val="000000"/>
                </a:solidFill>
                <a:latin typeface="Constantia"/>
              </a:rPr>
              <a:t>“La relijión de la República de Chile es la Católica, Apostólica, Romana; con exclusión del ejercicio público de cualquier otra.” 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(Artículo 5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72760" indent="-5727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* (Institución del “patronato”)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72760" indent="-5727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98400" indent="-268560" algn="just">
              <a:spcBef>
                <a:spcPts val="601"/>
              </a:spcBef>
              <a:buClr>
                <a:srgbClr val="000000"/>
              </a:buClr>
              <a:buSzPct val="85000"/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Ley interpretativa de 1865: Permitió el ejercicio privado de otros cultos, que no fueran el católico, apostólico y romano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72760" indent="-5727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72760" indent="-57276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98100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4617b"/>
                </a:solidFill>
                <a:latin typeface="Calibri"/>
              </a:rPr>
              <a:t>LIBERTAD DE CONCIENCIA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A.- </a:t>
            </a:r>
            <a:r>
              <a:rPr b="1" lang="es-ES" sz="2600" spc="-1" strike="noStrike" u="sng">
                <a:solidFill>
                  <a:srgbClr val="000000"/>
                </a:solidFill>
                <a:uFillTx/>
                <a:latin typeface="Constantia"/>
              </a:rPr>
              <a:t>Antecedentes (continuación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5000"/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Constantia"/>
              </a:rPr>
              <a:t>Constitución de 1925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. consagra el derecho en términos muy similares a los actual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SzPct val="85000"/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Constantia"/>
              </a:rPr>
              <a:t>Constitución de 1980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: solo modificaciones formales respecto a la redacción del año 1925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4617b"/>
                </a:solidFill>
                <a:latin typeface="Calibri"/>
              </a:rPr>
              <a:t>DERECHO A LA PRIVACIDAD Y A LA HONRA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nstantia"/>
              </a:rPr>
              <a:t>A.- </a:t>
            </a:r>
            <a:r>
              <a:rPr b="1" lang="es-ES" sz="2800" spc="-1" strike="noStrike" u="sng">
                <a:solidFill>
                  <a:srgbClr val="000000"/>
                </a:solidFill>
                <a:uFillTx/>
                <a:latin typeface="Constantia"/>
              </a:rPr>
              <a:t>Fundamento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 u="sng">
                <a:solidFill>
                  <a:srgbClr val="000000"/>
                </a:solidFill>
                <a:uFillTx/>
                <a:latin typeface="Constantia"/>
              </a:rPr>
              <a:t>En Estados Unidos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 algn="just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Warren y Brandeis: “El derecho a la 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privacidad” (1890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Juez Cooley: “The right to be let alone”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 u="sng">
                <a:solidFill>
                  <a:srgbClr val="000000"/>
                </a:solidFill>
                <a:uFillTx/>
                <a:latin typeface="Constantia"/>
              </a:rPr>
              <a:t>En Chile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 algn="just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Silva Bascuñan: </a:t>
            </a:r>
            <a:r>
              <a:rPr b="0" lang="es-MX" sz="2400" spc="-1" strike="noStrike">
                <a:solidFill>
                  <a:srgbClr val="000000"/>
                </a:solidFill>
                <a:latin typeface="Constantia"/>
              </a:rPr>
              <a:t>“… </a:t>
            </a:r>
            <a:r>
              <a:rPr b="0" i="1" lang="es-MX" sz="2400" spc="-1" strike="noStrike">
                <a:solidFill>
                  <a:srgbClr val="000000"/>
                </a:solidFill>
                <a:latin typeface="Constantia"/>
              </a:rPr>
              <a:t>Si no se le deja al individuo ninguna </a:t>
            </a:r>
            <a:r>
              <a:rPr b="0" i="1" lang="es-MX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i="1" lang="es-MX" sz="2400" spc="-1" strike="noStrike">
                <a:solidFill>
                  <a:srgbClr val="000000"/>
                </a:solidFill>
                <a:latin typeface="Constantia"/>
              </a:rPr>
              <a:t>intimidad, </a:t>
            </a:r>
            <a:r>
              <a:rPr b="0" i="1" lang="es-MX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i="1" lang="es-MX" sz="2400" spc="-1" strike="noStrike">
                <a:solidFill>
                  <a:srgbClr val="000000"/>
                </a:solidFill>
                <a:latin typeface="Constantia"/>
              </a:rPr>
              <a:t>entonces la sociedad se va a masificar en </a:t>
            </a:r>
            <a:r>
              <a:rPr b="0" i="1" lang="es-MX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i="1" lang="es-MX" sz="2400" spc="-1" strike="noStrike">
                <a:solidFill>
                  <a:srgbClr val="000000"/>
                </a:solidFill>
                <a:latin typeface="Constantia"/>
              </a:rPr>
              <a:t>una serie de individuos sin ninguna </a:t>
            </a:r>
            <a:r>
              <a:rPr b="0" i="1" lang="es-MX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i="1" lang="es-MX" sz="2400" spc="-1" strike="noStrike">
                <a:solidFill>
                  <a:srgbClr val="000000"/>
                </a:solidFill>
                <a:latin typeface="Constantia"/>
              </a:rPr>
              <a:t>posibilidad de </a:t>
            </a:r>
            <a:r>
              <a:rPr b="0" i="1" lang="es-MX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i="1" lang="es-MX" sz="2400" spc="-1" strike="noStrike">
                <a:solidFill>
                  <a:srgbClr val="000000"/>
                </a:solidFill>
                <a:latin typeface="Constantia"/>
              </a:rPr>
              <a:t>aportar algo de progreso, algo de </a:t>
            </a:r>
            <a:r>
              <a:rPr b="0" i="1" lang="es-MX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i="1" lang="es-MX" sz="2400" spc="-1" strike="noStrike">
                <a:solidFill>
                  <a:srgbClr val="000000"/>
                </a:solidFill>
                <a:latin typeface="Constantia"/>
              </a:rPr>
              <a:t>perfeccionamiento a </a:t>
            </a:r>
            <a:r>
              <a:rPr b="0" i="1" lang="es-MX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i="1" lang="es-MX" sz="2400" spc="-1" strike="noStrike">
                <a:solidFill>
                  <a:srgbClr val="000000"/>
                </a:solidFill>
                <a:latin typeface="Constantia"/>
              </a:rPr>
              <a:t>la sociedad entera …”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 (Sesión 129 de la Comisión de 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Estudios para la nueva Constitución.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981000"/>
            <a:ext cx="822960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4617b"/>
                </a:solidFill>
                <a:latin typeface="Calibri"/>
              </a:rPr>
              <a:t>LIBERTAD DE CONCIENCIA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B.- </a:t>
            </a:r>
            <a:r>
              <a:rPr b="1" lang="es-ES" sz="2600" spc="-1" strike="noStrike" u="sng">
                <a:solidFill>
                  <a:srgbClr val="000000"/>
                </a:solidFill>
                <a:uFillTx/>
                <a:latin typeface="Constantia"/>
              </a:rPr>
              <a:t>Contenid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1. Libertad de conciencia y cult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2.  Estatuto constitucional de las instituciones dedicadas al culto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4617b"/>
                </a:solidFill>
                <a:latin typeface="Calibri"/>
              </a:rPr>
              <a:t>LIBERTAD DE CONCIENCIA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250560" y="1600200"/>
            <a:ext cx="87138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B.- </a:t>
            </a:r>
            <a:r>
              <a:rPr b="1" lang="es-ES" sz="2600" spc="-1" strike="noStrike" u="sng">
                <a:solidFill>
                  <a:srgbClr val="000000"/>
                </a:solidFill>
                <a:uFillTx/>
                <a:latin typeface="Constantia"/>
              </a:rPr>
              <a:t>Contenido (continuación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1.- </a:t>
            </a:r>
            <a:r>
              <a:rPr b="1" lang="es-ES" sz="2600" spc="-1" strike="noStrike" u="sng">
                <a:solidFill>
                  <a:srgbClr val="000000"/>
                </a:solidFill>
                <a:uFillTx/>
                <a:latin typeface="Constantia"/>
              </a:rPr>
              <a:t>Libertad de conciencia y cult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735480" indent="-28296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Concepto: amplio y restringido. (toda creencia – religiosa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735480" indent="-28296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Manifestación de todas las creencias: consagra el pluralismo propio de la separación entre la iglesia y el Estado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         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-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Expresión de la libertad de opinió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735480" indent="-28296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Libre ejercicio de todos los cultos: derecho desarrollado y protegido por la Ley No 19.638 de 1999, sobre Constitución Jurídica de las Iglesias y Organizaciones Religiosa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Limitaciones a la libertad anterior: la moral,  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buenas costumbres, orden público. Ejemplo: 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Sectas que atentan contra la vida o la integridad 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física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907920"/>
            <a:ext cx="822960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4617b"/>
                </a:solidFill>
                <a:latin typeface="Calibri"/>
              </a:rPr>
              <a:t>LIBERTAD DE CONCIENCIA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250920" y="1557360"/>
            <a:ext cx="864216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B.- </a:t>
            </a:r>
            <a:r>
              <a:rPr b="1" lang="es-ES" sz="2600" spc="-1" strike="noStrike" u="sng">
                <a:solidFill>
                  <a:srgbClr val="000000"/>
                </a:solidFill>
                <a:uFillTx/>
                <a:latin typeface="Constantia"/>
              </a:rPr>
              <a:t>Contenido (continuación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Constantia"/>
              </a:rPr>
              <a:t>2.- </a:t>
            </a:r>
            <a:r>
              <a:rPr b="1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Constantia"/>
              </a:rPr>
              <a:t>Estatuto constitucional de las instituciones dedicadas al </a:t>
            </a:r>
            <a:r>
              <a:rPr b="1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Constantia"/>
              </a:rPr>
              <a:t>culto religioso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- Derecho a: 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- Edificar templos, conservarlos  bajo las normas 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legales de seguridad e higien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- Exención de contribuciones a dependencias 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“</a:t>
            </a:r>
            <a:r>
              <a:rPr b="0" i="1" lang="es-ES" sz="2400" spc="-1" strike="noStrike">
                <a:solidFill>
                  <a:srgbClr val="000000"/>
                </a:solidFill>
                <a:latin typeface="Constantia"/>
              </a:rPr>
              <a:t>exclusivamente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” destinadas al culto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- Personalidad Jurídica de las iglesias en general: De 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derecho públic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90792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4617b"/>
                </a:solidFill>
                <a:latin typeface="Calibri"/>
              </a:rPr>
              <a:t>Recurso de Protección y Fallos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00000"/>
              </a:buClr>
              <a:buSzPct val="95000"/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Ante acciones u omisiones arbitrarias o ilegales que atenten contra el derecho a la libertad de conciencia, rige el recurso de protección en virtud del artículo 20 de la Constitución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00000"/>
              </a:buClr>
              <a:buSzPct val="95000"/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Sentencias relevantes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- Transfusiones de sangre: En conflicto con el derecho a la vida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- Exhibición película “La ultima tentación de Cristo”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4617b"/>
                </a:solidFill>
                <a:latin typeface="Calibri"/>
              </a:rPr>
              <a:t>DERECHO A LA PRIVACIDAD Y A LA HONRA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2098440"/>
            <a:ext cx="8229600" cy="399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nstantia"/>
              </a:rPr>
              <a:t>B.- </a:t>
            </a:r>
            <a:r>
              <a:rPr b="1" lang="es-ES" sz="2800" spc="-1" strike="noStrike" u="sng">
                <a:solidFill>
                  <a:srgbClr val="000000"/>
                </a:solidFill>
                <a:uFillTx/>
                <a:latin typeface="Constantia"/>
              </a:rPr>
              <a:t>Antecedentes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85000"/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No estaba en la Constitución de 1925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85000"/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Convenciones Internacionale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85000"/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Comisión Estudio Nueva Constitución (CENC)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SzPct val="85000"/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Consejo de Estado: Son “derechos personalísimos” o del “patrimonio de la personalidad”, pero no es absoluto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4617b"/>
                </a:solidFill>
                <a:latin typeface="Calibri"/>
              </a:rPr>
              <a:t>DERECHO A LA PRIVACIDAD Y A LA HONRA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2204640"/>
            <a:ext cx="822960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nstantia"/>
              </a:rPr>
              <a:t>C.-  </a:t>
            </a:r>
            <a:r>
              <a:rPr b="1" lang="es-ES" sz="2800" spc="-1" strike="noStrike" u="sng">
                <a:solidFill>
                  <a:srgbClr val="000000"/>
                </a:solidFill>
                <a:uFillTx/>
                <a:latin typeface="Constantia"/>
              </a:rPr>
              <a:t>Contenido de la norma</a:t>
            </a:r>
            <a:r>
              <a:rPr b="1" lang="es-ES" sz="2800" spc="-1" strike="noStrike">
                <a:solidFill>
                  <a:srgbClr val="000000"/>
                </a:solidFill>
                <a:latin typeface="Constanti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1.- Respeto y protección de la vida privada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2.- Respeto y protección a la honra de la persona 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y de su familia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4617b"/>
                </a:solidFill>
                <a:latin typeface="Calibri"/>
              </a:rPr>
              <a:t>DERECHO A LA PRIVACIDAD Y A LA HONRA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3224160"/>
            <a:ext cx="8578800" cy="301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1.-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s-ES" sz="2600" spc="-1" strike="noStrike" u="sng">
                <a:solidFill>
                  <a:srgbClr val="000000"/>
                </a:solidFill>
                <a:uFillTx/>
                <a:latin typeface="Constantia"/>
              </a:rPr>
              <a:t>Respeto y protección de la vida privada de las personas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nstanti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Derecho de la personalidad, no puede ser vulnerado, salvo escasas excepcion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Conceptos de “respeto”, “protección”, “vida privada” o “intimidad”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Protección legal que el ordenamiento otorga a este derecho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5" name="Text Box 5"/>
          <p:cNvSpPr/>
          <p:nvPr/>
        </p:nvSpPr>
        <p:spPr>
          <a:xfrm>
            <a:off x="466560" y="2363760"/>
            <a:ext cx="7345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C.-  </a:t>
            </a:r>
            <a:r>
              <a:rPr b="1" lang="es-ES" sz="2600" spc="-1" strike="noStrike" u="sng">
                <a:solidFill>
                  <a:srgbClr val="000000"/>
                </a:solidFill>
                <a:uFillTx/>
                <a:latin typeface="Constantia"/>
              </a:rPr>
              <a:t>Contenido de la norma (continuación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4617b"/>
                </a:solidFill>
                <a:latin typeface="Calibri"/>
              </a:rPr>
              <a:t>DERECHO A LA PRIVACIDAD Y A LA HONRA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3158640"/>
            <a:ext cx="8229600" cy="336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2.-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s-ES" sz="2600" spc="-1" strike="noStrike" u="sng">
                <a:solidFill>
                  <a:srgbClr val="000000"/>
                </a:solidFill>
                <a:uFillTx/>
                <a:latin typeface="Constantia"/>
              </a:rPr>
              <a:t>Respeto y protección a la honra de la persona y de su familia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98400" indent="-268560">
              <a:spcBef>
                <a:spcPts val="649"/>
              </a:spcBef>
              <a:buClr>
                <a:srgbClr val="000000"/>
              </a:buClr>
              <a:buSzPct val="85000"/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Concepto de “honor”. Sentido objetivo y subjetivo. (apreciación general – personal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98400" indent="-268560">
              <a:spcBef>
                <a:spcPts val="649"/>
              </a:spcBef>
              <a:buClr>
                <a:srgbClr val="000000"/>
              </a:buClr>
              <a:buSzPct val="85000"/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Concepto de “honra” (Honor en sentido objetivo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98400" indent="-268560">
              <a:spcBef>
                <a:spcPts val="649"/>
              </a:spcBef>
              <a:buClr>
                <a:srgbClr val="000000"/>
              </a:buClr>
              <a:buSzPct val="85000"/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Honra de la “persona” (natural y jurídica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98400" indent="-268560">
              <a:spcBef>
                <a:spcPts val="649"/>
              </a:spcBef>
              <a:buClr>
                <a:srgbClr val="000000"/>
              </a:buClr>
              <a:buSzPct val="85000"/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Honra de la familia . Sentido de “familia”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8" name="Text Box 5"/>
          <p:cNvSpPr/>
          <p:nvPr/>
        </p:nvSpPr>
        <p:spPr>
          <a:xfrm>
            <a:off x="395280" y="2276640"/>
            <a:ext cx="64087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C.-  </a:t>
            </a:r>
            <a:r>
              <a:rPr b="1" lang="es-ES" sz="2600" spc="-1" strike="noStrike" u="sng">
                <a:solidFill>
                  <a:srgbClr val="000000"/>
                </a:solidFill>
                <a:uFillTx/>
                <a:latin typeface="Constantia"/>
              </a:rPr>
              <a:t>Contenido de la norma (continuación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4617b"/>
                </a:solidFill>
                <a:latin typeface="Calibri"/>
              </a:rPr>
              <a:t>DERECHO A LA PRIVACIDAD Y A LA HONRA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84464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37240" indent="-23724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D.-  </a:t>
            </a:r>
            <a:r>
              <a:rPr b="1" lang="es-ES" sz="2600" spc="-1" strike="noStrike" u="sng">
                <a:solidFill>
                  <a:srgbClr val="000000"/>
                </a:solidFill>
                <a:uFillTx/>
                <a:latin typeface="Constantia"/>
              </a:rPr>
              <a:t>Protección legal del derecho a la privacidad y honra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46200" indent="-248400">
              <a:lnSpc>
                <a:spcPct val="70000"/>
              </a:lnSpc>
              <a:spcBef>
                <a:spcPts val="649"/>
              </a:spcBef>
              <a:buClr>
                <a:srgbClr val="000000"/>
              </a:buClr>
              <a:buSzPct val="85000"/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Código Penal: artículo 412 a 420 que consagran los delitos de </a:t>
            </a:r>
            <a:r>
              <a:rPr b="1" i="1" lang="es-ES" sz="2600" spc="-1" strike="noStrike">
                <a:solidFill>
                  <a:srgbClr val="000000"/>
                </a:solidFill>
                <a:latin typeface="Constantia"/>
              </a:rPr>
              <a:t>injurias y de calumnias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. Código procesal penal (acción penal privada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46200" indent="-248400">
              <a:lnSpc>
                <a:spcPct val="70000"/>
              </a:lnSpc>
              <a:spcBef>
                <a:spcPts val="649"/>
              </a:spcBef>
              <a:buClr>
                <a:srgbClr val="000000"/>
              </a:buClr>
              <a:buSzPct val="85000"/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46200" indent="-248400">
              <a:lnSpc>
                <a:spcPct val="70000"/>
              </a:lnSpc>
              <a:spcBef>
                <a:spcPts val="649"/>
              </a:spcBef>
              <a:buClr>
                <a:srgbClr val="000000"/>
              </a:buClr>
              <a:buSzPct val="85000"/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Ley 19.628: Sobre protección de la vida privada o protección de datos de carácter personal. Artículo 12, crea la acción de </a:t>
            </a:r>
            <a:r>
              <a:rPr b="1" i="1" lang="es-ES" sz="2600" spc="-1" strike="noStrike">
                <a:solidFill>
                  <a:srgbClr val="000000"/>
                </a:solidFill>
                <a:latin typeface="Constantia"/>
              </a:rPr>
              <a:t>Habeas Data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46200" indent="-248400">
              <a:lnSpc>
                <a:spcPct val="70000"/>
              </a:lnSpc>
              <a:spcBef>
                <a:spcPts val="649"/>
              </a:spcBef>
              <a:buClr>
                <a:srgbClr val="000000"/>
              </a:buClr>
              <a:buSzPct val="85000"/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46200" indent="-248400">
              <a:lnSpc>
                <a:spcPct val="70000"/>
              </a:lnSpc>
              <a:spcBef>
                <a:spcPts val="649"/>
              </a:spcBef>
              <a:buClr>
                <a:srgbClr val="000000"/>
              </a:buClr>
              <a:buSzPct val="85000"/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Ley 19.733: Sobre libertades de opinión e información y ejercicio del periodismo. Artículo 16 y siguientes, consagran el </a:t>
            </a:r>
            <a:r>
              <a:rPr b="1" i="1" lang="es-ES" sz="2600" spc="-1" strike="noStrike">
                <a:solidFill>
                  <a:srgbClr val="000000"/>
                </a:solidFill>
                <a:latin typeface="Constantia"/>
              </a:rPr>
              <a:t>derecho de aclaración y rectificación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46200" indent="-248400">
              <a:lnSpc>
                <a:spcPct val="70000"/>
              </a:lnSpc>
              <a:spcBef>
                <a:spcPts val="649"/>
              </a:spcBef>
              <a:buClr>
                <a:srgbClr val="000000"/>
              </a:buClr>
              <a:buSzPct val="85000"/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Tratados Internacionale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4617b"/>
                </a:solidFill>
                <a:latin typeface="Calibri"/>
              </a:rPr>
              <a:t>DERECHO A LA PRIVACIDAD Y A LA HONRA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2207880"/>
            <a:ext cx="83628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 algn="just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E.- </a:t>
            </a:r>
            <a:r>
              <a:rPr b="1" lang="es-ES" sz="2600" spc="-1" strike="noStrike" u="sng">
                <a:solidFill>
                  <a:srgbClr val="000000"/>
                </a:solidFill>
                <a:uFillTx/>
                <a:latin typeface="Constantia"/>
              </a:rPr>
              <a:t>Regulación constitucional, previa a la reforma del   año 2005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720720" indent="-2772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85000"/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Se contemplaba el respeto y protección a la vida “pública”, basado en el interés general que existía en conocer antecedentes de ciertas personas. Ejemplo, autoridades pública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720720" indent="-2772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720720" indent="-2772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85000"/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Se regulaba la infracción a este precepto cometida a través de un medio de comunicación social. Se creaba el delito constitucional de </a:t>
            </a:r>
            <a:r>
              <a:rPr b="0" i="1" lang="es-ES" sz="2600" spc="-1" strike="noStrike">
                <a:solidFill>
                  <a:srgbClr val="000000"/>
                </a:solidFill>
                <a:latin typeface="Constantia"/>
              </a:rPr>
              <a:t>Difamación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 (criticado y hoy suprimido)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90400" y="907560"/>
            <a:ext cx="8229600" cy="5065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4617b"/>
                </a:solidFill>
                <a:latin typeface="Calibri"/>
              </a:rPr>
              <a:t>Recurso de Protección y Fallos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l derecho al respeto de la vida privada y honra de la persona y su familia, se encuentra tutelado por el recurso de protección en virtud del artículo 20 de nuestra Carta Fundamental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 u="sng">
                <a:solidFill>
                  <a:srgbClr val="000000"/>
                </a:solidFill>
                <a:uFillTx/>
                <a:latin typeface="Constantia"/>
              </a:rPr>
              <a:t>Sentencias relevantes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- Luksic con Martorell por la publicación del libro “Impunidad Diplomática”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- Koch Alvarado con Tesorería General de la República (DICOM)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9T01:16:36Z</dcterms:created>
  <dc:creator>usuario</dc:creator>
  <dc:description/>
  <dc:language>en-US</dc:language>
  <cp:lastModifiedBy>usuiario</cp:lastModifiedBy>
  <dcterms:modified xsi:type="dcterms:W3CDTF">2009-06-21T19:16:29Z</dcterms:modified>
  <cp:revision>63</cp:revision>
  <dc:subject/>
  <dc:title>DERECHO A LA PRIVACIDAD Y A LA   HONRA  (Art. 19 No 4)</dc:title>
</cp:coreProperties>
</file>