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B21-1A0C-42B4-977C-1D450EAD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9FD-0069-4067-845F-A4E0E233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3CB-A1E6-4C06-919A-89D34226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3D1-8D7A-43AB-BE73-07805982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02C7-F135-4A0F-848F-70DD6F30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F38D-1628-4DE7-8D4D-5CA498C2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3FD3-004C-4B14-B727-6FEB3AA3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1CC8-13A1-48CD-9706-0EBB9D55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4D49-4EA0-4750-AB0A-903622B2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5316-9169-4EB1-9B42-AD06E00A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E8D4-51BB-4FCA-BDF3-C5ADD76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6F4-B876-4861-B8F3-A16C6868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2A50-2861-4AE0-BAF4-078F7FA3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E08D-549C-4422-8BEF-840FC26A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E262-EE68-4648-A0E6-8D2351A1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E332-608A-40DC-A447-285DBF76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E793-D11B-4B22-90F2-1923BB79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DA66-FDFC-40C2-AA2B-82D7C5F1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CD6A-D649-43B7-8A26-D405C97B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6F38-D0EB-4040-897A-CFC27D66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E026-3672-4341-B2D2-6E3400FD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0E8F-F5B0-4D02-9E81-6B7C4F99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4C9-12FD-4C48-9B1B-E7113272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7409-FB8D-4828-9D06-7F120B7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91A5-6CA1-4AD7-BBFB-7CFB68E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5447-AAFF-447E-81CE-D0FAB4C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B0F1-C123-4638-9E12-4E79DA25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8D88-1DB2-4C86-9DDF-C88C453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4BD1-FC64-41B6-A172-F52AE447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849D-1DEC-4599-8C6E-B33E6423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B010-4415-4325-B527-DC8071B7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C9EE-75A1-4541-884C-3DDCBAA0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6A903-CE71-4CF0-94E2-EE883210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0CD-38A8-4EE8-BFF6-1A58F11A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F89FA-0675-4459-AA48-343D58B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6E9B-C51C-42AE-86F8-7EB98B81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FB5C-E777-423E-B194-EE873FB4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19931-5000-4EFB-8657-CC20E8D3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48FA-D936-45FF-B98F-0A4FB001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1595-11C0-40F1-92BA-521D04B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A4FC-652A-47D3-A72B-B8EADAE0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BEE4-8C4D-4DB2-9BE7-5C01EF46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ADAC-C4BA-4324-A066-9301B7C3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F4F-02A2-45B8-BA26-D6FB96C8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8BA-5964-4B30-8E4A-5941D1C3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968-ABC3-4E4B-B5B8-0DEDBD9A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F4D-8A9A-4280-8574-B23DA227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786-748C-4355-B5D5-6B11DDE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C193-B8FD-45BA-B73B-C33624D5768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1E19-1E6E-4083-BFFE-BAA55388814B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D074-6E07-4F05-AC8E-9E8A371455A7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208-DB5B-4C64-9322-9D651FBE135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86684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4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respeto y protección a la vida privada y a la honra de la persona y su famili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5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inviolabilidad del hogar y de toda forma de comunicación privad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4" descr="logo_uchile"/>
          <p:cNvPicPr/>
          <p:nvPr/>
        </p:nvPicPr>
        <p:blipFill>
          <a:blip r:embed="rId1"/>
          <a:stretch/>
        </p:blipFill>
        <p:spPr>
          <a:xfrm>
            <a:off x="250920" y="333360"/>
            <a:ext cx="112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672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ón francesa de 1791: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protección de la casa familiar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PR 1833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correspondencia epistolar es inviolable. No podrá abrirse ni interceptarse, ni rejistrarse los papeles o efectos, sino en los casos espresamente señalados por la lei.” (Artículo 147. No era derecho fundament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PR 1925: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º 12 La inviolabilidad del hog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La casa de toda persona que habite el territorio chileno solo puede ser allanada por un motivo especial determinado por la ley, y en virtud de orden de autoridad competente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Nº 13 La inviolabilidad de la correspondencia  epistolar y telegráfica. No podrán abrirse, ni interceptarse, ni registrarse los papeles o efectos públicos, sino en los casos expresamente señalados por la ley;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Inviolabilidad de las comunicacio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 Allanamiento e intercept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) Concepto de “hogar”.  Ampl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ferencias con “domicili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El domicilio en el Código Civ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) Fundamento: Protección de la “intimidad”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lación con 19 nº 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Inviolabilidad de comunicaciones priv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odo tipo de medio de comunicación privada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mplo, conversación telefónica. No limitad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1833 y 1925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mplitud de la expresión “documento”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ste derecho frente a la tecnología ho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Ley  No 19.423  de 1995, Inviolabilidad de las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unicaciones (modificó  Código Penal)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llanamiento e interceptación de comunic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sos y formas determinadas por la ley”. Legal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la persona que da la orden, quien la cumple y su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oport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rocesal Penal: Artículos 205 a 209; y 222 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24: Diligencias de investigación; Autorización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evia del Juez de Garant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virtud del artículo 20 de la Carta Fundamental, procede el recurso de protección para garantizar el derecho a la inviolabilidad del hogar y toda forma de comunicación privad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uncionarios del Ministerio de Obr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úblicas con Chevesic. Sobre la revisión de correos electrónicos como medida de investigación en el proceso MOP – G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19 Nº 6</a:t>
            </a:r>
            <a:br>
              <a:rPr sz="4400"/>
            </a:br>
            <a:br>
              <a:rPr sz="2000"/>
            </a:br>
            <a:r>
              <a:rPr b="0" lang="es-ES" sz="4400" spc="-1" strike="noStrike">
                <a:solidFill>
                  <a:srgbClr val="04617b"/>
                </a:solidFill>
                <a:latin typeface="Calibri"/>
              </a:rPr>
              <a:t>La libertad de conciencia, la manifestación de todas las creencias y el ejercicio libre de todos los cultos</a:t>
            </a:r>
            <a:br>
              <a:rPr sz="4400"/>
            </a:br>
            <a:br>
              <a:rPr sz="4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4" descr="logo_uchile"/>
          <p:cNvPicPr/>
          <p:nvPr/>
        </p:nvPicPr>
        <p:blipFill>
          <a:blip r:embed="rId1"/>
          <a:stretch/>
        </p:blipFill>
        <p:spPr>
          <a:xfrm>
            <a:off x="179280" y="189000"/>
            <a:ext cx="960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833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relijión de la República de Chile es la Católica, Apostólica, Romana; con exclusión del ejercicio público de cualquier otra.”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(Artículo 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(Institución del “patronato”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interpretativa de 1865: Permitió el ejercicio privado de otros cultos, que no fueran el católico, apostólico y roman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25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 consagra el derecho en términos muy similares a los ac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8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solo modificaciones formales respecto a la redacción del año 192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Fundamen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n Estados Unido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arren y Brandeis: “El derecho a l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ivacidad” (189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Juez Cooley: “The right to be let alon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ilva Bascuñan: </a:t>
            </a: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“…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Si no se le deja al individuo ningun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intimidad,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entonces la sociedad se va a masificar en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una serie de individuos sin ningun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posibilidad de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aportar algo de progreso, algo de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perfeccionamiento 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la sociedad entera …”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(Sesión 129 de la Comisión d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tudios para la nueva Constitución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 Estatuto constitucional de las instituciones dedicadas al cul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: amplio y restringido. (toda creencia – religios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nifestación de todas las creencias: consagra el pluralismo propio de la separación entre la iglesia y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resión de la libertad de opin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ibre ejercicio de todos los cultos: derecho desarrollado y protegido por la Ley No 19.638 de 1999, sobre Constitución Jurídica de las Iglesias y Organizaciones Religios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imitaciones a la libertad anterior: la moral,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enas costumbres, orden público. Ejemplo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ctas que atentan contra la vida o la integr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ís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statuto constitucional de las instituciones dedicadas al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ulto religio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Derecho a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dificar templos, conservarlos  bajo las norm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gales de seguridad e higi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xención de contribuciones a dependenci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xclusivament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 destinadas al cu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Personalidad Jurídica de las iglesias en general: D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rech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te acciones u omisiones arbitrarias o ilegales que atenten contra el derecho a la libertad de conciencia, rige el recurso de protección en virtud del artículo 20 de la Constitu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Transfusiones de sangre: En conflicto con el derecho a la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xhibición película “La ultima tentación de Cristo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0984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staba en la Constitución de 19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misión Estudio Nueva Constitución (CENC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ejo de Estado: Son “derechos personalísimos” o del “patrimonio de la personalidad”, pero no es absolut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20464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Respeto y protección de la vida priv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Respeto y protección a la honra de la person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y de su famil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3224160"/>
            <a:ext cx="857880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de la vida privada de las person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recho de la personalidad, no puede ser vulnerado, salvo escasas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s de “respeto”, “protección”, “vida privada” o “intimidad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otección legal que el ordenamiento otorga a este derech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66560" y="236376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 (continu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15864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2.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a la honra de la persona y de su famil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 de “honor”. Sentido objetivo y subjetivo. (apreciación general – person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 de “honra” (Honor en sentido objetiv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onra de la “persona” (natural y jurídic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onra de la familia . Sentido de “familia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95280" y="2276640"/>
            <a:ext cx="64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 (continu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Protección legal del derecho a la privacidad y hon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enal: artículo 412 a 420 que consagran los delitos de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injurias y de calumn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 Código procesal penal (acción penal priv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19.628: Sobre protección de la vida privada o protección de datos de carácter personal. Artículo 12, crea la acción de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Habeas Dat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19.733: Sobre libertades de opinión e información y ejercicio del periodismo. Artículo 16 y siguientes, consagran el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derecho de aclaración y rectific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atados Internacio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0788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gulación constitucional, previa a la reforma del   año 2005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contemplaba el respeto y protección a la vida “pública”, basado en el interés general que existía en conocer antecedentes de ciertas personas. Ejemplo, autoridades públ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gulaba la infracción a este precepto cometida a través de un medio de comunicación social. Se creaba el delito constitucional de </a:t>
            </a: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Difam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criticado y hoy suprimido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derecho al respeto de la vida privada y honra de la persona y su familia, se encuentra tutelado por el recurso de protección en virtud del artículo 20 de nuestra Carta Fundamen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Luksic con Martorell por la publicación del libro “Impunidad Diplomátic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Koch Alvarado con Tesorería General de la República (DICOM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usuiario</cp:lastModifiedBy>
  <dcterms:modified xsi:type="dcterms:W3CDTF">2009-06-21T19:16:29Z</dcterms:modified>
  <cp:revision>63</cp:revision>
  <dc:subject/>
  <dc:title>DERECHO A LA PRIVACIDAD Y A LA   HONRA  (Art. 19 No 4)</dc:title>
</cp:coreProperties>
</file>