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3737-EE23-45E7-9DFE-191CB090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6948-4FC3-4AEC-9D00-FFA56CCD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63A7-C8A8-4E03-B3D1-43384B420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D304-7792-4177-A5ED-B5340326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05F7-C77D-4A29-8995-5C63D56C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3727-2DB3-4E12-BCB7-29ED4C57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55EA-F4E1-4144-A8AD-604A9D41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09CB-8ACB-4FA0-AE0A-9623C264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B8D-6369-47E5-BFE8-E4532A83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DC75-7E63-4CE9-A60F-75DC53FE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B77F-AAE1-4F2A-B476-0D2522E4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D8DE-543A-414E-B530-86CC3CFA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2F3F-E6AD-4435-A28F-F998A3E57A8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BERTAD DE REUN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rt. 19 Nº 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cep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la libertad que tiene toda persona de congregarse momentánea o transitoriamente para exponer opiniones, plantear problemas comunes  de cualquier índ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upación transi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da, hay “intención” de reuni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s diversos (políticos, culturales, económic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 permiso previo (es de la esencia del derech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BERTAD REUN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ontinuació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teced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forma liberal de 1874 lo reconoce por primera v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. Pol. 1925 entregó regulación a la autoridad administ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forma 1971 entregó regulación a la l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cta Nº 3 y CENC siguió igual crite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. Pol. 1980 retornó a entregar la regulación a la autoridad administ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iscusión dogmática se ha centrado en si el derecho de reunión debe estar regido por la ley o por la autoridad administ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BERTAD REUNIÓ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ontinuació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tinción en cuánto al lug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 recintos privado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autoridad no tiene ingerencia. Sólo median dos restric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que se pacífica (resguardo derechos de tercer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que sea sin armas (bastiones, palos, fierros, barras metálicas) Ley de control de armas Nº 17.7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 recintos de uso públ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ujeto a reglamentación general de policía (Ejecutiv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to Supremo Nº 1.086: Se de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is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la autoridad administrativa (Intendente u otro) con 48 horas de anticipación (es aviso, no permiso) para tomar medidas de ordenamiento público, acces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autoridad puede cambiar el lugar solici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urso de Protecció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de cuando la autoridad contraviene la reglamentación juríd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ECHO DE PETIC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rt. 19 Nº 1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teceden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 introdujo la Reforma de 1874 y se ha mantenido desde entonces en los mismos términos. Es un derecho individual inherente a la democracia y, para algunos autores, una variante de la libertad de opinión sobre cualquier materia de interés público o priv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tu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lquier persona natural o jurídica, se ejerce en forma individual o colectiva (sindicatos, colegios profesionales, asociaciones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te quien se eje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alquier autoridad: ejecutiva, legislativa, judicial, Tribunal Constitucional, CGR., Banco Central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ECHO PETIC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ontinuació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mit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única limitación es “proceder en términos respetuosos y conveniente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tuoso”: está implícito  el sentido de dignidad que tiene la función pública y el titular del órgano del Es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ientes”: la petición ha de presentarse ante la autoridad competente, es decir, que le corresponda conocer de la ma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RECHO PETIC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ontinuació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recho de respues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¿Está la autoridad obligada a responder? No hay obligación co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 discusión doctrinaria. La CENC propuso que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autoridad dará respuesta a las peticiones que se formulen conforme a las normas que establezca la 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, lo que no prosperó porque ello podría llegar a entrabar el funcionamiento de la Administración Pública ante la multiplicación de peti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ar que existen normas legales y reglamentarias propias del Poder Judicial y del Congreso que consignan la obligación de dar respue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ambién resguardan el derecho los medios de comunicación social, las organizaciones vecinales, comunales y gremiales a cuyo través se puede llegar a la autor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20:31:45Z</dcterms:created>
  <dc:creator>Ana Maria</dc:creator>
  <dc:description/>
  <dc:language>en-US</dc:language>
  <cp:lastModifiedBy>Ana Maria</cp:lastModifiedBy>
  <dcterms:modified xsi:type="dcterms:W3CDTF">2009-07-28T00:26:48Z</dcterms:modified>
  <cp:revision>22</cp:revision>
  <dc:subject/>
  <dc:title>LIBERTAD DE REUNION (art. 19 Nº 13)</dc:title>
</cp:coreProperties>
</file>