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FE7B-32DE-4AEE-94D9-2E9DF3CB3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E5BF-43B9-4FEE-917B-89E32ED3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33DC-1480-4B87-A2BF-BA4E4605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3C35-2AC5-4E02-B883-12B9C7D75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9CA1-505C-46B4-BFD2-01709F91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4912-4F27-41ED-921D-DBFF41BC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7DCB-ED2F-4E4D-842D-1E0D16C4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6CB8-CCAE-4EF1-88F6-A26B8C49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B856-1F93-40B2-939F-CC14F9E7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C5E9-F777-423F-A41A-36363765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0589-78FC-48BC-9BED-B0B8365F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39C5-507A-4C63-9643-C2672325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23BB-D357-42D4-890D-9E5779B5573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BERTAD DE REUN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Art. 19 Nº 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cep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 la libertad que tiene toda persona de congregarse momentánea o transitoriamente para exponer opiniones, plantear problemas comunes  de cualquier índ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upación transi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da, hay “intención” de reuni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s diversos (políticos, culturales, económic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 permiso previo (es de la esencia del derech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BERTAD REUN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ontinuació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teced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forma liberal de 1874 lo reconoce por primera ve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. Pol. 1925 entregó regulación a la autoridad administr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forma 1971 entregó regulación a la l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cta Nº 3 y CENC siguió igual crite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. Pol. 1980 retornó a entregar la regulación a la autoridad administr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iscusión dogmática se ha centrado en si el derecho de reunión debe estar regido por la ley o por la autoridad administr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BERTAD REUNIÓ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ontinuació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stinción en cuánto al lug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 recintos privado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autoridad no tiene ingerencia. Sólo median dos restric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que se pacífica (resguardo derechos de tercer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que sea sin armas (bastiones, palos, fierros, barras metálicas) Ley de control de armas Nº 17.7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 recintos de uso públi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ujeto a reglamentación general de policía (Ejecutiv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to Supremo Nº 1.086: Se de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is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la autoridad administrativa (Intendente u otro) con 48 horas de anticipación (es aviso, no permiso) para tomar medidas de ordenamiento público, acceso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autoridad puede cambiar el lugar solici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curso de Protecció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de cuando la autoridad contraviene la reglamentación juríd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RECHO DE PETIC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Art. 19 Nº 1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teceden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 introdujo la Reforma de 1874 y se ha mantenido desde entonces en los mismos términos. Es un derecho individual inherente a la democracia y, para algunos autores, una variante de la libertad de opinión sobre cualquier materia de interés público o priv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tul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lquier persona natural o jurídica, se ejerce en forma individual o colectiva (sindicatos, colegios profesionales, asociaciones,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te quien se eje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lquier autoridad: ejecutiva, legislativa, judicial, Tribunal Constitucional, CGR., Banco Central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RECHO PETIC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ontinuació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imit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única limitación es “proceder en términos respetuosos y conveniente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tuoso”: está implícito  el sentido de dignidad que tiene la función pública y el titular del órgano del Es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ientes”: la petición ha de presentarse ante la autoridad competente, es decir, que le corresponda conocer de la ma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RECHO PETIC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ontinuació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recho de respues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¿Está la autoridad obligada a responder? No hay obligación constitu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 discusión doctrinaria. La CENC propuso que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 autoridad dará respuesta a las peticiones que se formulen conforme a las normas que establezca la l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, lo que no prosperó porque ello podría llegar a entrabar el funcionamiento de la Administración Pública ante la multiplicación de peti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ar que existen normas legales y reglamentarias propias del Poder Judicial y del Congreso que consignan la obligación de dar respue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ambién resguardan el derecho los medios de comunicación social, las organizaciones vecinales, comunales y gremiales a cuyo través se puede llegar a la autor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20:31:45Z</dcterms:created>
  <dc:creator>Ana Maria</dc:creator>
  <dc:description/>
  <dc:language>en-US</dc:language>
  <cp:lastModifiedBy>Ana Maria</cp:lastModifiedBy>
  <dcterms:modified xsi:type="dcterms:W3CDTF">2009-07-28T00:26:48Z</dcterms:modified>
  <cp:revision>22</cp:revision>
  <dc:subject/>
  <dc:title>LIBERTAD DE REUNION (art. 19 Nº 13)</dc:title>
</cp:coreProperties>
</file>