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ABC-52EE-4188-90B8-208BCA84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4CD-8CC5-425A-8372-5B723A2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018-81C6-4DE7-89E3-A167FC7F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DC4-C8A1-4809-ABBE-4BE554FA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D29-FD80-4F08-8D84-9DEB52D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B28-BF72-4697-ABA2-3FCF7F04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C40-237D-4158-A1B2-B6D0724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C45-581D-44F3-8A63-AC0C7D7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D02-C35F-4549-B1E2-ED4D0AB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972-F8F1-4612-96FE-048B58B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E4F-911E-4809-8826-16EAE52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381-5A41-4B25-8A75-1DB311AB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6647-F255-4FBD-9713-19564BAAB8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DE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libertad que tiene toda persona de congregarse momentánea o transitoriamente para exponer opiniones, plantear problemas comunes  de cualquier índ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ción transi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da, hay “intención” de reuni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s diversos (políticos, culturales, económ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permiso previo (es de la esencia del derech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liberal de 1874 lo reconoce por primer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25 entregó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1971 entregó regulación a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ta Nº 3 y CENC siguió igual cri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80 retornó a entregar la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cusión dogmática se ha centrado en si el derecho de reunión debe estar regido por la ley o por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inción en cuánto al lug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priva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autoridad no tiene ingerencia. Sólo median dos restri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 pacífica (resguardo derechos de terc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a sin armas (bastiones, palos, fierros, barras metálicas) Ley de control de armas Nº 17.7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de uso públ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jeto a reglamentación general de policía (Ejecuti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Supremo Nº 1.086: Se de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s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autoridad administrativa (Intendente u otro) con 48 horas de anticipación (es aviso, no permiso) para tomar medidas de ordenamiento público, acces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utoridad puede cambiar el lugar solic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urso de Protec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e cuando la autoridad contraviene la reglamentación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DE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introdujo la Reforma de 1874 y se ha mantenido desde entonces en los mismos términos. Es un derecho individual inherente a la democracia y, para algunos autores, una variante de la libertad de opinión sobre cualquier materia de interés público 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t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persona natural o jurídica, se ejerce en forma individual o colectiva (sindicatos, colegios profesionales, asociac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 quien se eje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autoridad: ejecutiva, legislativa, judicial, Tribunal Constitucional, CGR., Banco Central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única limitación es “proceder en términos respetuosos y convenient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uoso”: está implícito  el sentido de dignidad que tiene la función pública y el titular del órgano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es”: la petición ha de presentarse ante la autoridad competente, es decir, que le corresponda conocer de la ma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echo de respu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¿Está la autoridad obligada a responder? No hay obligación co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 discusión doctrinaria. La CENC propuso qu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autoridad dará respuesta a las peticiones que se formulen conforme a las normas que establezca la 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lo que no prosperó porque ello podría llegar a entrabar el funcionamiento de la Administración Pública ante la multiplicación de peti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existen normas legales y reglamentarias propias del Poder Judicial y del Congreso que consignan la obligación de dar resp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ambién resguardan el derecho los medios de comunicación social, las organizaciones vecinales, comunales y gremiales a cuyo través se puede llegar a la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0:31:45Z</dcterms:created>
  <dc:creator>Ana Maria</dc:creator>
  <dc:description/>
  <dc:language>en-US</dc:language>
  <cp:lastModifiedBy>Ana Maria</cp:lastModifiedBy>
  <dcterms:modified xsi:type="dcterms:W3CDTF">2009-07-28T00:26:48Z</dcterms:modified>
  <cp:revision>22</cp:revision>
  <dc:subject/>
  <dc:title>LIBERTAD DE REUNION (art. 19 Nº 13)</dc:title>
</cp:coreProperties>
</file>