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F059-6B76-4340-A73D-BF9D3F6DF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5EA0-70A4-4B27-BB23-5E3338F8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8730-6E92-4EFF-BDF6-085DC9BA5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E218-91D8-4B07-91A1-0FEA62841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2C14-7776-4380-89E1-89C7003E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B743-F910-4D32-8F6C-E92354F9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64D4-AF06-45EF-8895-490AFD39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BF92-54E8-431B-97DE-1865EA0E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C7F1-5450-479E-B8EA-72C1DC5A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6597-8AEB-4C0F-8F64-18B63512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F36A-0C2E-472E-9993-70A6EB81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498B-5508-45E8-AAB0-A1A9A299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0158-343B-4B08-BCEB-2E1047EFA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ERECHO DE ASOCIACION (continu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141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artidos Político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: (ver apunte en Wo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ncepto y evolu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ases constitucionales: (Nº15 inc. 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1.  No monopolizar la participación ciudadana; intervenir sólo en sus actividades prop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ncordancias: art.1° inc.final; art.18 inc.1; art.2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.-  Registrar en Serval. nómina de sus militantes (semi reservada: pueden conocerla los otros afiliados, no es públ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3.- Contabilidad púb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ERECHO DE ASOCIA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43000" y="167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4.- Prohibición de financiamiento de origen extranj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5.- Democracia interna: órganos mínimos del partido y normas de funcionamiento reguladas en la LOC: Directiva Central; Consejo General; Consejos regionales; y Tribunal supremo. (duración en los cargos, atribuciones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6.- LOC 19.603 de 1987 regula las 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demás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terias y establece sanciones por incumplimiento (desde amonestación hasta disolu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ERECHO DE ASOCI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16000" y="98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luralismo Político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er apunte en 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21:31:10Z</dcterms:created>
  <dc:creator>agarcia</dc:creator>
  <dc:description/>
  <dc:language>en-US</dc:language>
  <cp:lastModifiedBy>Ana Maria</cp:lastModifiedBy>
  <dcterms:modified xsi:type="dcterms:W3CDTF">2009-07-28T00:23:00Z</dcterms:modified>
  <cp:revision>28</cp:revision>
  <dc:subject/>
  <dc:title>DERECHO DE ASOCIACION</dc:title>
</cp:coreProperties>
</file>